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916-4C18-4453-94DA-BEAD13B4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D9D-EF01-4C75-A0D5-B9F9A876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A4A-5552-4046-8CE6-E2469A64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39E-B55F-4943-8E5C-BDAC3B62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5D9-708F-4A9B-A65D-6DFB67C0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212-1A9C-4933-96F9-A98052A4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8FF-03B4-4230-9F83-C9D4FD51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856-CC55-4C49-9BE4-55AE13DA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155-C77B-4CA8-8F7B-E674BEC9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DAC-A696-4022-9E92-38355A6C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1B2-0C92-4E58-8166-A5623C52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39F5-F88D-4E53-A786-A3819FB9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79AD-A782-478D-9E35-EF41FE4B3F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изация познавательной деятельности дошкольников средствами И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 Щербинина М. Ф., воспитатель, СП ГБОУ СОШ №1 им. И. М. Кузнец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кий сад «Светляч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авь посуду на ст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Картинки по запросу стол со скатертью"/>
          <p:cNvPicPr/>
          <p:nvPr/>
        </p:nvPicPr>
        <p:blipFill>
          <a:blip r:embed="rId1"/>
          <a:stretch/>
        </p:blipFill>
        <p:spPr>
          <a:xfrm>
            <a:off x="4800600" y="3290760"/>
            <a:ext cx="4343400" cy="356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Картинки по запросу посуда рисунок"/>
          <p:cNvPicPr/>
          <p:nvPr/>
        </p:nvPicPr>
        <p:blipFill>
          <a:blip r:embed="rId2"/>
          <a:srcRect l="66549" t="0" r="0" b="62430"/>
          <a:stretch/>
        </p:blipFill>
        <p:spPr>
          <a:xfrm>
            <a:off x="468360" y="1268280"/>
            <a:ext cx="1593720" cy="136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Картинки по запросу посуда рисунок"/>
          <p:cNvPicPr/>
          <p:nvPr/>
        </p:nvPicPr>
        <p:blipFill>
          <a:blip r:embed="rId3"/>
          <a:srcRect l="75620" t="59400" r="0" b="0"/>
          <a:stretch/>
        </p:blipFill>
        <p:spPr>
          <a:xfrm>
            <a:off x="2050920" y="2349360"/>
            <a:ext cx="1162080" cy="14781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Картинки по запросу посуда рисунок для детей"/>
          <p:cNvPicPr/>
          <p:nvPr/>
        </p:nvPicPr>
        <p:blipFill>
          <a:blip r:embed="rId4"/>
          <a:srcRect l="14856" t="9375" r="10518" b="27622"/>
          <a:stretch/>
        </p:blipFill>
        <p:spPr>
          <a:xfrm>
            <a:off x="2484360" y="1052640"/>
            <a:ext cx="1722600" cy="10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Похожее изображение"/>
          <p:cNvPicPr/>
          <p:nvPr/>
        </p:nvPicPr>
        <p:blipFill>
          <a:blip r:embed="rId5"/>
          <a:srcRect l="4031" t="43614" r="78735" b="44579"/>
          <a:stretch/>
        </p:blipFill>
        <p:spPr>
          <a:xfrm>
            <a:off x="0" y="3068640"/>
            <a:ext cx="2124000" cy="181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Похожее изображение"/>
          <p:cNvPicPr/>
          <p:nvPr/>
        </p:nvPicPr>
        <p:blipFill>
          <a:blip r:embed="rId6"/>
          <a:srcRect l="52672" t="15752" r="28145" b="73228"/>
          <a:stretch/>
        </p:blipFill>
        <p:spPr>
          <a:xfrm>
            <a:off x="3924360" y="1628640"/>
            <a:ext cx="273528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7.45665E-006 L 0.60643 0.29365 E">
                                      <p:cBhvr>
                                        <p:cTn id="5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08092E-006 L 0.48819 0.37757 E">
                                      <p:cBhvr>
                                        <p:cTn id="6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20231E-007 L 0.37812 0.15746 E">
                                      <p:cBhvr>
                                        <p:cTn id="6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Картинки по запросу обувь"/>
          <p:cNvPicPr/>
          <p:nvPr/>
        </p:nvPicPr>
        <p:blipFill>
          <a:blip r:embed="rId1"/>
          <a:stretch/>
        </p:blipFill>
        <p:spPr>
          <a:xfrm>
            <a:off x="5867280" y="4653000"/>
            <a:ext cx="1997280" cy="1320840"/>
          </a:xfrm>
          <a:prstGeom prst="rect">
            <a:avLst/>
          </a:prstGeom>
          <a:ln w="0">
            <a:noFill/>
          </a:ln>
        </p:spPr>
      </p:pic>
      <p:sp>
        <p:nvSpPr>
          <p:cNvPr id="80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ведите обув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Картинки по запросу одежда детская"/>
          <p:cNvPicPr/>
          <p:nvPr/>
        </p:nvPicPr>
        <p:blipFill>
          <a:blip r:embed="rId2"/>
          <a:srcRect l="10079" t="26568" r="15330" b="0"/>
          <a:stretch/>
        </p:blipFill>
        <p:spPr>
          <a:xfrm rot="20747400">
            <a:off x="826920" y="1413000"/>
            <a:ext cx="2076480" cy="201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по запросу одежда детская"/>
          <p:cNvPicPr/>
          <p:nvPr/>
        </p:nvPicPr>
        <p:blipFill>
          <a:blip r:embed="rId3"/>
          <a:stretch/>
        </p:blipFill>
        <p:spPr>
          <a:xfrm rot="1897200">
            <a:off x="5237280" y="1214280"/>
            <a:ext cx="2774880" cy="2775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Картинки по запросу шапка детская"/>
          <p:cNvPicPr/>
          <p:nvPr/>
        </p:nvPicPr>
        <p:blipFill>
          <a:blip r:embed="rId4"/>
          <a:stretch/>
        </p:blipFill>
        <p:spPr>
          <a:xfrm rot="20835600">
            <a:off x="1143000" y="4120920"/>
            <a:ext cx="2494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468360" y="15825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компьютера с целью приобщения детей к современным техническим средствам передачи и хранения информации, что осуществляется в различных игровых технологиях. Это различные компьютерные игры – «игрушки»: развлекательные, обучающие, развивающие, диагностические, сетевые игры. В работе с дошкольниками педагоги используют в основном развивающие, реже обучающие и диагностически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0" y="15573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уктуре базовых компетентностей личности современного дошкольника важную роль играет информационный компонент, что обусловлено реалиями жизни. Современная жизнедеятельность ребенка-дошкольника, мир электронных игрушек, социальная среда, наполненная информационными средствами и носителями, – все это актуализирует информационный опыт детей. Информационная компетентность дошкольника представляет собой основы, элементы знаний, умений и ценностного отношения к информации и информационным процессам, позволяющим ребенку включаться в доступные ему виды информационной деятельности: познавательной, игрово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явленные противоречия, профессиональная про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79280" y="234936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ИКТ в организованной образовательной деятельности (ООД) является повышение качества образования через активное внедрение в воспитательно-образовательный процесс информационных технолог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и решения проблемы средствами И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250920" y="191628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и апробировать технологию мультимедийного сопровождения воспитательно-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тематическую копилку мультимедийных презент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ь объем использования информационно-компьютерных технологий с субъектами образовательного пространства: администрация, педагоги, родители, воспитан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ознавательной мотивации воспитан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кругозора и словарного запа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оответствующих возрасту ребёнка ум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корение усвоения ребёнком подаваем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оложительного эмоционального настро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гнозируемый результат  -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формулируется конкретно в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395280" y="2274840"/>
            <a:ext cx="87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епосредственное применение в воспитательно-образовательном процесс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именение ИКТ в проведении досугов и развлечениях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рганизация работы с родителями воспитанников не только в группе, но и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042920" y="6308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т слайд использует макрос Drag and Drop, созданный 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пределите фрукты и овощи по групп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755640" y="4653000"/>
            <a:ext cx="2071800" cy="16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Похожее изображение"/>
          <p:cNvPicPr/>
          <p:nvPr/>
        </p:nvPicPr>
        <p:blipFill>
          <a:blip r:embed="rId2"/>
          <a:stretch/>
        </p:blipFill>
        <p:spPr>
          <a:xfrm>
            <a:off x="6516720" y="4653000"/>
            <a:ext cx="2292480" cy="155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Картинки по запросу фрукты по одному"/>
          <p:cNvPicPr/>
          <p:nvPr/>
        </p:nvPicPr>
        <p:blipFill>
          <a:blip r:embed="rId3"/>
          <a:stretch/>
        </p:blipFill>
        <p:spPr>
          <a:xfrm>
            <a:off x="5003640" y="4005360"/>
            <a:ext cx="1440000" cy="136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Картинки по запросу фрукты по одному"/>
          <p:cNvPicPr/>
          <p:nvPr/>
        </p:nvPicPr>
        <p:blipFill>
          <a:blip r:embed="rId4"/>
          <a:srcRect l="0" t="0" r="0" b="13971"/>
          <a:stretch/>
        </p:blipFill>
        <p:spPr>
          <a:xfrm>
            <a:off x="6703920" y="2924280"/>
            <a:ext cx="2440080" cy="141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Картинки по запросу фрукты по одному"/>
          <p:cNvPicPr/>
          <p:nvPr/>
        </p:nvPicPr>
        <p:blipFill>
          <a:blip r:embed="rId5"/>
          <a:srcRect l="16745" t="17579" r="10719" b="12096"/>
          <a:stretch/>
        </p:blipFill>
        <p:spPr>
          <a:xfrm>
            <a:off x="826920" y="3068640"/>
            <a:ext cx="2232360" cy="141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Похожее изображение"/>
          <p:cNvPicPr/>
          <p:nvPr/>
        </p:nvPicPr>
        <p:blipFill>
          <a:blip r:embed="rId6"/>
          <a:stretch/>
        </p:blipFill>
        <p:spPr>
          <a:xfrm>
            <a:off x="2987640" y="4292640"/>
            <a:ext cx="2124000" cy="20178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0" descr=""/>
          <p:cNvPicPr/>
          <p:nvPr/>
        </p:nvPicPr>
        <p:blipFill>
          <a:blip r:embed="rId7"/>
          <a:stretch/>
        </p:blipFill>
        <p:spPr>
          <a:xfrm>
            <a:off x="-115920" y="1073160"/>
            <a:ext cx="3303720" cy="1152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2" descr=""/>
          <p:cNvPicPr/>
          <p:nvPr/>
        </p:nvPicPr>
        <p:blipFill>
          <a:blip r:embed="rId8"/>
          <a:stretch/>
        </p:blipFill>
        <p:spPr>
          <a:xfrm>
            <a:off x="5619600" y="1139760"/>
            <a:ext cx="35848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4.44444E-006 L 0.55521 -0.1243 E">
                                      <p:cBhvr>
                                        <p:cTn id="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66512E-006 L -0.2658 -0.37766 E">
                                      <p:cBhvr>
                                        <p:cTn id="1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14524E-007 L -0.71302 0.1487 E">
                                      <p:cBhvr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3728E-006 L 0.18125 -0.07863 E">
                                      <p:cBhvr>
                                        <p:cTn id="21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1258E-006 L -0.66875 0.02312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2937 L 0.64219 -0.00995 E">
                                      <p:cBhvr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ерите домашнее живо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Картинки по запросу корова рисунок"/>
          <p:cNvPicPr/>
          <p:nvPr/>
        </p:nvPicPr>
        <p:blipFill>
          <a:blip r:embed="rId1"/>
          <a:stretch/>
        </p:blipFill>
        <p:spPr>
          <a:xfrm>
            <a:off x="0" y="1628640"/>
            <a:ext cx="2627280" cy="284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Похожее изображение"/>
          <p:cNvPicPr/>
          <p:nvPr/>
        </p:nvPicPr>
        <p:blipFill>
          <a:blip r:embed="rId2"/>
          <a:stretch/>
        </p:blipFill>
        <p:spPr>
          <a:xfrm>
            <a:off x="1547640" y="3068640"/>
            <a:ext cx="2664000" cy="3165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Картинки по запросу сказочный волк рисунок"/>
          <p:cNvPicPr/>
          <p:nvPr/>
        </p:nvPicPr>
        <p:blipFill>
          <a:blip r:embed="rId3"/>
          <a:stretch/>
        </p:blipFill>
        <p:spPr>
          <a:xfrm>
            <a:off x="3635280" y="1413000"/>
            <a:ext cx="3460680" cy="381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Картинки по запросу сказочный заяц рисунок"/>
          <p:cNvPicPr/>
          <p:nvPr/>
        </p:nvPicPr>
        <p:blipFill>
          <a:blip r:embed="rId4"/>
          <a:stretch/>
        </p:blipFill>
        <p:spPr>
          <a:xfrm>
            <a:off x="6156360" y="3086280"/>
            <a:ext cx="25462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Колесников Петр</cp:lastModifiedBy>
  <dcterms:modified xsi:type="dcterms:W3CDTF">2017-05-04T14:04:14Z</dcterms:modified>
  <cp:revision>38</cp:revision>
  <dc:subject/>
  <dc:title>Слайд 1</dc:title>
</cp:coreProperties>
</file>