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E5AA-1C63-467A-8BFB-1ED0532A7D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0307-4055-47A5-BB53-C241B44ACC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73BB-677B-4FA1-9D90-1513B8B2DE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025A-B435-4952-B3A2-0776F593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77E-104F-45E1-B3BB-40CB5665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CD9B-33DC-4DA2-A068-58737CCB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6D0-27C2-4F01-AC7C-EC355993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59B4-ADE8-4F22-91A0-A8A6D075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AFB6-BF08-49F9-A13F-E285B2FB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89F3-FE5A-419D-BA83-050F4071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EB14-5152-4A95-A577-DB9DE70F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CFD9-5231-4BCE-B7A9-9C965123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8238-5CEE-4E87-AD06-105EEDDC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EAF8-A11F-4B5F-BCAF-1456D306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69FB-83C7-4CE9-B3F9-B71BD747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52FE-AFEB-4478-8F8F-1C3F04BA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41BA-8699-4C14-8599-91BE2381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3CF5-CFA5-4976-B142-451640DB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49B9-E4A3-4B81-80D4-970B3F37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08F1-D4A6-4EA2-9708-96361CDE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2CA6F-7C7A-44D5-B4B2-A0858C91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0D2B6-6F1A-4F93-BB20-6E7C8DF0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EC8EB-151B-4875-9127-ED69E26D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ED1BF-C262-4223-A2FF-090A5F13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F0525-8CDE-485E-8E3F-41B86C69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466-F974-4F94-AB90-CF005CBC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FB304-CD39-43E9-A9D7-A08AD3E0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9E884-97D7-420D-940F-F9A17EC4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A845E-5C3C-4426-9F2C-AA802F52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ECBCF-A71A-4EC8-8114-5DB7ECEB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071A6-2C7E-467E-8161-C302B3A3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C9C60-4CB1-4001-B710-152D026C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E45B2-6DF9-4C59-9962-246F0F26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2FFC1-8B42-4CBE-AF24-EB3DEA8F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C65A3-0ECD-432B-AD19-14E67DA2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B6A42-DF97-48BE-907F-0DAB4E16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E2B6-AA10-4848-8CCC-22853B8F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72E44-E612-4EDB-9FF7-84B241FE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F010D-D234-4A4C-B836-B3C1F5CE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5B130-4283-44A2-82B1-1FE1E74A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7DC1C-C879-4FDC-908B-FC86134D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26E66-C64C-4C7D-91B3-9CA859F0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41B20-29CC-4907-A465-C002FFDA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E0756-5E1F-4C69-8386-18066761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E73D7-4E13-4827-BCE8-C5B73B22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CFB9F-491B-477A-A745-DE794052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3ED00-3211-4473-96C3-8035A873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6CD-1046-49A9-AD5D-C67E5E4C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4749D-CB7B-4C13-82AB-EF5580BE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D6178-FB90-4670-ADE5-14A097F6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E10B4-6CDA-41CC-8C11-BB55146C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0DE2F-7808-4B1D-A91C-120D02AC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89391-908F-407C-99FD-7895A072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FA419-3365-4A6F-8640-9C3AB07D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D6056-5135-4B57-8AFC-04DB1D72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DD9B0-2288-4A61-9B12-31E313C2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B3B5D-2806-44E0-A397-2AFF1BAB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4966E-9701-4F52-93FC-49598387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763-2DED-4B2E-9AA8-6A286B3A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D6EB1-BDB5-4F97-BBAE-2DC83E69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506F-0E72-4106-A56E-60301D2E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185-8777-4C5C-BDD3-A36CFE3B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C6FB-D43D-4AC6-AEC7-42E2B3E1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0047-3F53-4115-804E-810168EF1588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50F1-EE06-483D-A2AF-4FE28E210EBD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2c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1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93FD-7308-46C8-AF22-DA9080E3F676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9F23-EAA9-49C2-A6FF-4833636DB44A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82CB-34EC-4A33-9AA5-B05E520C7109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7"/>
          <p:cNvSpPr/>
          <p:nvPr/>
        </p:nvSpPr>
        <p:spPr>
          <a:xfrm>
            <a:off x="1571760" y="3429000"/>
            <a:ext cx="664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C:\Documents and Settings\Кирилл\Рабочий стол\Рабочий стол\МАМА\анимация\2137a0b44f05.png"/>
          <p:cNvPicPr/>
          <p:nvPr/>
        </p:nvPicPr>
        <p:blipFill>
          <a:blip r:embed="rId1"/>
          <a:stretch/>
        </p:blipFill>
        <p:spPr>
          <a:xfrm>
            <a:off x="0" y="0"/>
            <a:ext cx="9374040" cy="68756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5"/>
          <p:cNvSpPr/>
          <p:nvPr/>
        </p:nvSpPr>
        <p:spPr>
          <a:xfrm rot="21390000">
            <a:off x="3755520" y="1913040"/>
            <a:ext cx="30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 день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360000" y="357120"/>
            <a:ext cx="876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Monotype Corsiva"/>
              </a:rPr>
              <a:t>Открываем новые зн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1173240" y="1785960"/>
            <a:ext cx="71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Служебные части речи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Прямоугольник 3"/>
          <p:cNvSpPr/>
          <p:nvPr/>
        </p:nvSpPr>
        <p:spPr>
          <a:xfrm>
            <a:off x="2286000" y="29671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Предлог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Союз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Частиц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1"/>
          <p:cNvSpPr/>
          <p:nvPr/>
        </p:nvSpPr>
        <p:spPr>
          <a:xfrm>
            <a:off x="738360" y="357120"/>
            <a:ext cx="75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Функции служебных частей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Прямоугольник 2"/>
          <p:cNvSpPr/>
          <p:nvPr/>
        </p:nvSpPr>
        <p:spPr>
          <a:xfrm>
            <a:off x="642960" y="1143000"/>
            <a:ext cx="82152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нига лежит </a:t>
            </a:r>
            <a:r>
              <a:rPr b="1" lang="ru-RU" sz="2600" spc="-1" strike="noStrike">
                <a:solidFill>
                  <a:srgbClr val="003300"/>
                </a:solidFill>
                <a:latin typeface="Calibri"/>
              </a:rPr>
              <a:t>н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тол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нига лежит … стол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ец </a:t>
            </a:r>
            <a:r>
              <a:rPr b="1" lang="ru-RU" sz="2600" spc="-1" strike="noStrike">
                <a:solidFill>
                  <a:srgbClr val="003300"/>
                </a:solidFill>
                <a:latin typeface="Calibri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ать пришли домо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ец, мать пришли домо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ец с матерью пришли домой, </a:t>
            </a:r>
            <a:r>
              <a:rPr b="1" lang="ru-RU" sz="2600" spc="-1" strike="noStrike">
                <a:solidFill>
                  <a:srgbClr val="003300"/>
                </a:solidFill>
                <a:latin typeface="Calibri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ы сели ужина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ец с матерью пришли домой, мы сели ужина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Я </a:t>
            </a:r>
            <a:r>
              <a:rPr b="1" lang="ru-RU" sz="2600" spc="-1" strike="noStrike">
                <a:solidFill>
                  <a:srgbClr val="006600"/>
                </a:solidFill>
                <a:latin typeface="Calibri"/>
              </a:rPr>
              <a:t>н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рассказал секрет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Я рассказал секре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9"/>
          <p:cNvSpPr/>
          <p:nvPr/>
        </p:nvSpPr>
        <p:spPr>
          <a:xfrm>
            <a:off x="357120" y="399240"/>
            <a:ext cx="8286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9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СЛУЖЕБНЫЕ ЧАСТИ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49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-405360" y="2152080"/>
            <a:ext cx="9524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9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лог                                      Союз                                       Част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язывает                                     соединяет                                 придаёт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существительные с                     однородные члены и                      отрицатель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другими словами                    части сложного предложения               смыс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Стрелка вниз 13"/>
          <p:cNvSpPr/>
          <p:nvPr/>
        </p:nvSpPr>
        <p:spPr>
          <a:xfrm>
            <a:off x="1143000" y="1714680"/>
            <a:ext cx="642960" cy="1214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Стрелка вниз 14"/>
          <p:cNvSpPr/>
          <p:nvPr/>
        </p:nvSpPr>
        <p:spPr>
          <a:xfrm>
            <a:off x="4429080" y="1571760"/>
            <a:ext cx="500040" cy="1214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Стрелка вниз 15"/>
          <p:cNvSpPr/>
          <p:nvPr/>
        </p:nvSpPr>
        <p:spPr>
          <a:xfrm>
            <a:off x="7643880" y="1643040"/>
            <a:ext cx="428400" cy="121464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7"/>
          <p:cNvSpPr/>
          <p:nvPr/>
        </p:nvSpPr>
        <p:spPr>
          <a:xfrm>
            <a:off x="571680" y="428760"/>
            <a:ext cx="7805520" cy="551808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644e"/>
                </a:solidFill>
                <a:latin typeface="Calibri"/>
              </a:rPr>
              <a:t>Предлоги, союзы, частицы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644e"/>
                </a:solidFill>
                <a:latin typeface="Calibri"/>
              </a:rPr>
              <a:t>Все встали в один хоровод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644e"/>
                </a:solidFill>
                <a:latin typeface="Calibri"/>
              </a:rPr>
              <a:t>Служебные важные лица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644e"/>
                </a:solidFill>
                <a:latin typeface="Calibri"/>
              </a:rPr>
              <a:t>На редкость серьезный нар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644e"/>
                </a:solidFill>
                <a:latin typeface="Calibri"/>
              </a:rPr>
              <a:t>Без них обойтись невозможн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644e"/>
                </a:solidFill>
                <a:latin typeface="Calibri"/>
              </a:rPr>
              <a:t>И знают об этом о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644e"/>
                </a:solidFill>
                <a:latin typeface="Calibri"/>
              </a:rPr>
              <a:t>Всегда и во всем осторожн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644e"/>
                </a:solidFill>
                <a:latin typeface="Calibri"/>
              </a:rPr>
              <a:t>Нигде не гуляют од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644e"/>
                </a:solidFill>
                <a:latin typeface="Calibri"/>
              </a:rPr>
              <a:t>Но исподволь и незаме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644e"/>
                </a:solidFill>
                <a:latin typeface="Calibri"/>
              </a:rPr>
              <a:t>Значение свое привнесу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644e"/>
                </a:solidFill>
                <a:latin typeface="Calibri"/>
              </a:rPr>
              <a:t>Здесь свяжут, а рядом разделя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644e"/>
                </a:solidFill>
                <a:latin typeface="Calibri"/>
              </a:rPr>
              <a:t>Укажут и силу дадут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95280" y="2276640"/>
            <a:ext cx="1843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6" descr="C:\Documents and Settings\Admin\Мои документы\Мои рисунки\4333.png"/>
          <p:cNvPicPr/>
          <p:nvPr/>
        </p:nvPicPr>
        <p:blipFill>
          <a:blip r:embed="rId1"/>
          <a:stretch/>
        </p:blipFill>
        <p:spPr>
          <a:xfrm>
            <a:off x="395280" y="436572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Физкультминутки на уроке физ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274680" y="133200"/>
            <a:ext cx="8845560" cy="20368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457200" y="2332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1. На з...ре охотник засобирался в пут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2. Костер разг…релся, и мы пр…ладили чайник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3. За ужином не пр…рывались ра…сказы о пред…дущих поездках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4. Учителя и дети заинтересовались пр…заманчивым предл…жение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03" name="Picture 14" descr="C:\Documents and Settings\Admin\Мои документы\Мои рисунки\4333.png"/>
          <p:cNvPicPr/>
          <p:nvPr/>
        </p:nvPicPr>
        <p:blipFill>
          <a:blip r:embed="rId2"/>
          <a:stretch/>
        </p:blipFill>
        <p:spPr>
          <a:xfrm>
            <a:off x="6940440" y="4699080"/>
            <a:ext cx="22035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Достижение цели"/>
          <p:cNvPicPr/>
          <p:nvPr/>
        </p:nvPicPr>
        <p:blipFill>
          <a:blip r:embed="rId1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000160" y="563832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 algn="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Monotype Corsiva"/>
              </a:rPr>
              <a:t>в группах</a:t>
            </a:r>
            <a:endParaRPr b="0" lang="en-US" sz="8000" spc="-1" strike="noStrike">
              <a:solidFill>
                <a:srgbClr val="fbeec9"/>
              </a:solidFill>
              <a:latin typeface="Franklin Gothic Book"/>
            </a:endParaRPr>
          </a:p>
        </p:txBody>
      </p:sp>
      <p:pic>
        <p:nvPicPr>
          <p:cNvPr id="306" name="Заголовок 2" descr=""/>
          <p:cNvPicPr/>
          <p:nvPr/>
        </p:nvPicPr>
        <p:blipFill>
          <a:blip r:embed="rId2"/>
          <a:stretch/>
        </p:blipFill>
        <p:spPr>
          <a:xfrm>
            <a:off x="2425680" y="317520"/>
            <a:ext cx="409104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pic>
        <p:nvPicPr>
          <p:cNvPr id="309" name="Picture 2" descr="САМОСТОЯТЕЛЬНЫЕ И СЛУЖЕБНЫЕ ЧАСТИ РЕЧИ Повторени. - Все презентации интернета"/>
          <p:cNvPicPr/>
          <p:nvPr/>
        </p:nvPicPr>
        <p:blipFill>
          <a:blip r:embed="rId1"/>
          <a:srcRect l="1181" t="2625" r="1181" b="6824"/>
          <a:stretch/>
        </p:blipFill>
        <p:spPr>
          <a:xfrm>
            <a:off x="-716040" y="0"/>
            <a:ext cx="9860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6"/>
          <p:cNvSpPr/>
          <p:nvPr/>
        </p:nvSpPr>
        <p:spPr>
          <a:xfrm>
            <a:off x="571680" y="1197000"/>
            <a:ext cx="85723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Вот тебе подушки белые подуш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На горе подсолнышком выросли подсолнуш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Подосинами накочке гриб вмалиновом платочке,подосиновиком звать, и его придется бра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194840" y="476280"/>
            <a:ext cx="551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3840f"/>
                </a:solidFill>
                <a:latin typeface="Monotype Corsiva"/>
              </a:rPr>
              <a:t>Будь внимателен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6" descr="C:\Documents and Settings\Admin\Мои документы\Мои рисунки\4333.png"/>
          <p:cNvPicPr/>
          <p:nvPr/>
        </p:nvPicPr>
        <p:blipFill>
          <a:blip r:embed="rId1"/>
          <a:stretch/>
        </p:blipFill>
        <p:spPr>
          <a:xfrm>
            <a:off x="7164360" y="5229360"/>
            <a:ext cx="161136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5"/>
          <p:cNvSpPr/>
          <p:nvPr/>
        </p:nvSpPr>
        <p:spPr>
          <a:xfrm>
            <a:off x="2050920" y="476280"/>
            <a:ext cx="4608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Управляющая кнопка: домой 1">
            <a:hlinkClick r:id="rId1" action="ppaction://hlinksldjump"/>
          </p:cNvPr>
          <p:cNvSpPr/>
          <p:nvPr/>
        </p:nvSpPr>
        <p:spPr>
          <a:xfrm>
            <a:off x="8572680" y="6288120"/>
            <a:ext cx="571320" cy="549360"/>
          </a:xfrm>
          <a:custGeom>
            <a:avLst/>
            <a:gdLst>
              <a:gd name="textAreaLeft" fmla="*/ 35280 w 571320"/>
              <a:gd name="textAreaRight" fmla="*/ 536040 w 5713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463" h="21600">
                <a:moveTo>
                  <a:pt x="0" y="0"/>
                </a:moveTo>
                <a:lnTo>
                  <a:pt x="22463" y="0"/>
                </a:lnTo>
                <a:lnTo>
                  <a:pt x="22463" y="21600"/>
                </a:lnTo>
                <a:lnTo>
                  <a:pt x="0" y="21600"/>
                </a:lnTo>
                <a:close/>
              </a:path>
              <a:path fill="lightenLess" w="22463" h="21600">
                <a:moveTo>
                  <a:pt x="0" y="0"/>
                </a:moveTo>
                <a:lnTo>
                  <a:pt x="22463" y="0"/>
                </a:lnTo>
                <a:lnTo>
                  <a:pt x="21063" y="1400"/>
                </a:lnTo>
                <a:lnTo>
                  <a:pt x="1400" y="1400"/>
                </a:lnTo>
                <a:close/>
              </a:path>
              <a:path fill="darken" w="22463" h="21600">
                <a:moveTo>
                  <a:pt x="22463" y="0"/>
                </a:moveTo>
                <a:lnTo>
                  <a:pt x="22463" y="21600"/>
                </a:lnTo>
                <a:lnTo>
                  <a:pt x="21063" y="20200"/>
                </a:lnTo>
                <a:lnTo>
                  <a:pt x="21063" y="1400"/>
                </a:lnTo>
                <a:close/>
              </a:path>
              <a:path fill="darkenLess" w="22463" h="21600">
                <a:moveTo>
                  <a:pt x="22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63" y="20200"/>
                </a:lnTo>
                <a:close/>
              </a:path>
              <a:path fill="lighten" w="22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63" h="21600">
                <a:moveTo>
                  <a:pt x="11231" y="3837"/>
                </a:moveTo>
                <a:lnTo>
                  <a:pt x="13808" y="6448"/>
                </a:lnTo>
                <a:lnTo>
                  <a:pt x="13808" y="4707"/>
                </a:lnTo>
                <a:lnTo>
                  <a:pt x="15583" y="4707"/>
                </a:lnTo>
                <a:lnTo>
                  <a:pt x="15583" y="8224"/>
                </a:lnTo>
                <a:lnTo>
                  <a:pt x="18194" y="10800"/>
                </a:lnTo>
                <a:lnTo>
                  <a:pt x="16541" y="10800"/>
                </a:lnTo>
                <a:lnTo>
                  <a:pt x="16541" y="17989"/>
                </a:lnTo>
                <a:lnTo>
                  <a:pt x="5922" y="17989"/>
                </a:lnTo>
                <a:lnTo>
                  <a:pt x="5922" y="10800"/>
                </a:lnTo>
                <a:lnTo>
                  <a:pt x="4268" y="10800"/>
                </a:lnTo>
                <a:close/>
              </a:path>
              <a:path fill="darkenLess" w="22463" h="21600">
                <a:moveTo>
                  <a:pt x="13808" y="6448"/>
                </a:moveTo>
                <a:lnTo>
                  <a:pt x="13808" y="4707"/>
                </a:lnTo>
                <a:lnTo>
                  <a:pt x="15583" y="4707"/>
                </a:lnTo>
                <a:lnTo>
                  <a:pt x="15583" y="8224"/>
                </a:lnTo>
                <a:close/>
              </a:path>
              <a:path fill="darkenLess" w="22463" h="21600">
                <a:moveTo>
                  <a:pt x="10309" y="14299"/>
                </a:moveTo>
                <a:lnTo>
                  <a:pt x="12154" y="14299"/>
                </a:lnTo>
                <a:lnTo>
                  <a:pt x="12154" y="17989"/>
                </a:lnTo>
                <a:lnTo>
                  <a:pt x="16541" y="17989"/>
                </a:lnTo>
                <a:lnTo>
                  <a:pt x="16541" y="10800"/>
                </a:lnTo>
                <a:lnTo>
                  <a:pt x="5922" y="10800"/>
                </a:lnTo>
                <a:lnTo>
                  <a:pt x="5922" y="17989"/>
                </a:lnTo>
                <a:lnTo>
                  <a:pt x="10309" y="17989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1886760" y="333360"/>
            <a:ext cx="427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3840f"/>
                </a:solidFill>
                <a:latin typeface="Monotype Corsiva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6" descr="C:\Documents and Settings\Admin\Мои документы\Мои рисунки\4333.png"/>
          <p:cNvPicPr/>
          <p:nvPr/>
        </p:nvPicPr>
        <p:blipFill>
          <a:blip r:embed="rId2"/>
          <a:stretch/>
        </p:blipFill>
        <p:spPr>
          <a:xfrm>
            <a:off x="6948360" y="5373720"/>
            <a:ext cx="1468440" cy="148428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7"/>
          <p:cNvSpPr/>
          <p:nvPr/>
        </p:nvSpPr>
        <p:spPr>
          <a:xfrm>
            <a:off x="611280" y="112536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Вот тебе под   ушки белые подуш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На горе под   солнышком выросли подсолнуш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Под    осинами на    кочке гриб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  малиновом платочке, подосиновиком звать, и его придется бр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Прямая соединительная линия 14"/>
          <p:cNvSpPr/>
          <p:nvPr/>
        </p:nvSpPr>
        <p:spPr>
          <a:xfrm>
            <a:off x="3203640" y="1484280"/>
            <a:ext cx="73080" cy="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Прямая соединительная линия 16"/>
          <p:cNvSpPr/>
          <p:nvPr/>
        </p:nvSpPr>
        <p:spPr>
          <a:xfrm flipV="1">
            <a:off x="3203640" y="1557360"/>
            <a:ext cx="216000" cy="144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Прямая соединительная линия 8"/>
          <p:cNvSpPr/>
          <p:nvPr/>
        </p:nvSpPr>
        <p:spPr>
          <a:xfrm flipV="1">
            <a:off x="3059280" y="2060640"/>
            <a:ext cx="215640" cy="144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Прямая соединительная линия 10"/>
          <p:cNvSpPr/>
          <p:nvPr/>
        </p:nvSpPr>
        <p:spPr>
          <a:xfrm flipV="1">
            <a:off x="1763640" y="2997360"/>
            <a:ext cx="216000" cy="144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ая соединительная линия 11"/>
          <p:cNvSpPr/>
          <p:nvPr/>
        </p:nvSpPr>
        <p:spPr>
          <a:xfrm flipV="1">
            <a:off x="4140360" y="2997360"/>
            <a:ext cx="215640" cy="144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Прямая соединительная линия 12"/>
          <p:cNvSpPr/>
          <p:nvPr/>
        </p:nvSpPr>
        <p:spPr>
          <a:xfrm flipV="1">
            <a:off x="900000" y="3499920"/>
            <a:ext cx="216000" cy="180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2b2727fc2854"/>
          <p:cNvPicPr/>
          <p:nvPr/>
        </p:nvPicPr>
        <p:blipFill>
          <a:blip r:embed="rId1"/>
          <a:stretch/>
        </p:blipFill>
        <p:spPr>
          <a:xfrm>
            <a:off x="-828720" y="-500040"/>
            <a:ext cx="10585440" cy="78217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1000080" y="1285920"/>
            <a:ext cx="7000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Двадцать первое ноября</a:t>
            </a: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Классная работ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6" descr="C:\Documents and Settings\Admin\Мои документы\Мои рисунки\4333.png"/>
          <p:cNvPicPr/>
          <p:nvPr/>
        </p:nvPicPr>
        <p:blipFill>
          <a:blip r:embed="rId2"/>
          <a:stretch/>
        </p:blipFill>
        <p:spPr>
          <a:xfrm>
            <a:off x="1116000" y="3646440"/>
            <a:ext cx="172728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2b2727fc2854"/>
          <p:cNvPicPr/>
          <p:nvPr/>
        </p:nvPicPr>
        <p:blipFill>
          <a:blip r:embed="rId1"/>
          <a:stretch/>
        </p:blipFill>
        <p:spPr>
          <a:xfrm>
            <a:off x="-828720" y="-316080"/>
            <a:ext cx="10585440" cy="7821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6"/>
          <p:cNvSpPr/>
          <p:nvPr/>
        </p:nvSpPr>
        <p:spPr>
          <a:xfrm>
            <a:off x="1214280" y="1484280"/>
            <a:ext cx="657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чинить сказку о служебных частях р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ли выполнить упр.22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6" descr="C:\Documents and Settings\Admin\Мои документы\Мои рисунки\4333.png"/>
          <p:cNvPicPr/>
          <p:nvPr/>
        </p:nvPicPr>
        <p:blipFill>
          <a:blip r:embed="rId2"/>
          <a:stretch/>
        </p:blipFill>
        <p:spPr>
          <a:xfrm>
            <a:off x="6372360" y="3984480"/>
            <a:ext cx="14778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1" descr="рад"/>
          <p:cNvPicPr/>
          <p:nvPr/>
        </p:nvPicPr>
        <p:blipFill>
          <a:blip r:embed="rId1"/>
          <a:srcRect l="0" t="4954" r="0" b="4863"/>
          <a:stretch/>
        </p:blipFill>
        <p:spPr>
          <a:xfrm>
            <a:off x="428760" y="1143000"/>
            <a:ext cx="1060200" cy="10666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328" name="Rectangle 5"/>
          <p:cNvSpPr/>
          <p:nvPr/>
        </p:nvSpPr>
        <p:spPr>
          <a:xfrm>
            <a:off x="1928880" y="107172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Вы считаете, что урок прошёл для ва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плодотворно, с пользой. Вы научились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можете помочь друг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22" descr="удивлени"/>
          <p:cNvPicPr/>
          <p:nvPr/>
        </p:nvPicPr>
        <p:blipFill>
          <a:blip r:embed="rId2"/>
          <a:stretch/>
        </p:blipFill>
        <p:spPr>
          <a:xfrm>
            <a:off x="428760" y="2857680"/>
            <a:ext cx="1066680" cy="106668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  <p:sp>
        <p:nvSpPr>
          <p:cNvPr id="330" name="Rectangle 7"/>
          <p:cNvSpPr/>
          <p:nvPr/>
        </p:nvSpPr>
        <p:spPr>
          <a:xfrm>
            <a:off x="1928880" y="271476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ы считаете, что научилис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о иногда вам ещё нужна помощ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23" descr="печ"/>
          <p:cNvPicPr/>
          <p:nvPr/>
        </p:nvPicPr>
        <p:blipFill>
          <a:blip r:embed="rId3"/>
          <a:srcRect l="-7009" t="0" r="0" b="0"/>
          <a:stretch/>
        </p:blipFill>
        <p:spPr>
          <a:xfrm>
            <a:off x="428760" y="4714920"/>
            <a:ext cx="1071360" cy="1017720"/>
          </a:xfrm>
          <a:prstGeom prst="rect">
            <a:avLst/>
          </a:prstGeom>
          <a:ln w="57240">
            <a:solidFill>
              <a:srgbClr val="c87d0e"/>
            </a:solidFill>
            <a:miter/>
          </a:ln>
        </p:spPr>
      </p:pic>
      <p:sp>
        <p:nvSpPr>
          <p:cNvPr id="332" name="Rectangle 9"/>
          <p:cNvSpPr/>
          <p:nvPr/>
        </p:nvSpPr>
        <p:spPr>
          <a:xfrm>
            <a:off x="1785960" y="4786200"/>
            <a:ext cx="601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a5644e"/>
                </a:solidFill>
                <a:latin typeface="Arial"/>
              </a:rPr>
              <a:t>Вы считаете, что был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644e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a5644e"/>
                </a:solidFill>
                <a:latin typeface="Arial"/>
              </a:rPr>
              <a:t>трудно на уро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Прямоугольник 8"/>
          <p:cNvSpPr/>
          <p:nvPr/>
        </p:nvSpPr>
        <p:spPr>
          <a:xfrm>
            <a:off x="1928880" y="1000080"/>
            <a:ext cx="6572160" cy="1357200"/>
          </a:xfrm>
          <a:prstGeom prst="rect">
            <a:avLst/>
          </a:prstGeom>
          <a:noFill/>
          <a:ln w="2556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Прямоугольник 9"/>
          <p:cNvSpPr/>
          <p:nvPr/>
        </p:nvSpPr>
        <p:spPr>
          <a:xfrm>
            <a:off x="1928880" y="2714760"/>
            <a:ext cx="6215040" cy="1571400"/>
          </a:xfrm>
          <a:prstGeom prst="rect">
            <a:avLst/>
          </a:prstGeom>
          <a:noFill/>
          <a:ln w="2556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Прямоугольник 10"/>
          <p:cNvSpPr/>
          <p:nvPr/>
        </p:nvSpPr>
        <p:spPr>
          <a:xfrm>
            <a:off x="1979640" y="4797360"/>
            <a:ext cx="5040360" cy="857160"/>
          </a:xfrm>
          <a:prstGeom prst="rect">
            <a:avLst/>
          </a:prstGeom>
          <a:noFill/>
          <a:ln w="2556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C:\Documents and Settings\Admin\Мои документы\Мои рисунки\4333.png"/>
          <p:cNvPicPr/>
          <p:nvPr/>
        </p:nvPicPr>
        <p:blipFill>
          <a:blip r:embed="rId4"/>
          <a:stretch/>
        </p:blipFill>
        <p:spPr>
          <a:xfrm>
            <a:off x="7424640" y="4797360"/>
            <a:ext cx="171936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7"/>
          <p:cNvSpPr/>
          <p:nvPr/>
        </p:nvSpPr>
        <p:spPr>
          <a:xfrm>
            <a:off x="1571760" y="3429000"/>
            <a:ext cx="664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Picture 2" descr="C:\Documents and Settings\Кирилл\Рабочий стол\Рабочий стол\МАМА\анимация\2137a0b44f05.png"/>
          <p:cNvPicPr/>
          <p:nvPr/>
        </p:nvPicPr>
        <p:blipFill>
          <a:blip r:embed="rId1"/>
          <a:stretch/>
        </p:blipFill>
        <p:spPr>
          <a:xfrm>
            <a:off x="0" y="0"/>
            <a:ext cx="9374040" cy="6875640"/>
          </a:xfrm>
          <a:prstGeom prst="rect">
            <a:avLst/>
          </a:prstGeom>
          <a:ln w="0">
            <a:noFill/>
          </a:ln>
        </p:spPr>
      </p:pic>
      <p:sp>
        <p:nvSpPr>
          <p:cNvPr id="339" name="TextBox 4"/>
          <p:cNvSpPr/>
          <p:nvPr/>
        </p:nvSpPr>
        <p:spPr>
          <a:xfrm rot="21430800">
            <a:off x="5011200" y="2044800"/>
            <a:ext cx="1857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5"/>
          <p:cNvSpPr/>
          <p:nvPr/>
        </p:nvSpPr>
        <p:spPr>
          <a:xfrm rot="21391800">
            <a:off x="4045320" y="1792440"/>
            <a:ext cx="25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214200" y="0"/>
            <a:ext cx="892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Monotype Corsiva"/>
              </a:rPr>
              <a:t>Вспоминаем то, что знаем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1"/>
          <p:cNvSpPr/>
          <p:nvPr/>
        </p:nvSpPr>
        <p:spPr>
          <a:xfrm>
            <a:off x="357120" y="1960920"/>
            <a:ext cx="9144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1. </a:t>
            </a:r>
            <a:r>
              <a:rPr b="1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Что обозначает имя существительное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а) предмет б) признак предмета в) действие предмет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2</a:t>
            </a:r>
            <a:r>
              <a:rPr b="1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. Что обозначает имя прилагательное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а) предмет б) признак предмета в) действие предмет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3</a:t>
            </a:r>
            <a:r>
              <a:rPr b="1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. Что обозначает глагол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а) предмет б) признак предмета в) действие предмет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4. </a:t>
            </a:r>
            <a:r>
              <a:rPr b="1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Из данных слов выберите имена существительные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а) светлый, добрый б) бегать, играть в) солнце, све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214200" y="21420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Monotype Corsiva"/>
              </a:rPr>
              <a:t>Вспоминаем то, что знаем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оугольник 3"/>
          <p:cNvSpPr/>
          <p:nvPr/>
        </p:nvSpPr>
        <p:spPr>
          <a:xfrm>
            <a:off x="214200" y="1000080"/>
            <a:ext cx="86439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5. </a:t>
            </a:r>
            <a:r>
              <a:rPr b="1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Из данных слов выберите имена  прилагательные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а) светлый, добрый б) бегать, играть в) солнце, све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6. </a:t>
            </a:r>
            <a:r>
              <a:rPr b="1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Из данных слов выберите глаголы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а) светлый, добрый б) бегать, играть в) солнце, све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7</a:t>
            </a:r>
            <a:r>
              <a:rPr b="1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. Из данных слов выберите личные местоимения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    </a:t>
            </a: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а) школа, они б) мы, её, я в) ты, слово, в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8. Из данных слов выберите самостоятельные части реч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     </a:t>
            </a:r>
            <a:r>
              <a:rPr b="0" lang="ru-RU" sz="2600" spc="-1" strike="noStrike">
                <a:solidFill>
                  <a:srgbClr val="000066"/>
                </a:solidFill>
                <a:latin typeface="바탕"/>
                <a:ea typeface="바탕"/>
              </a:rPr>
              <a:t>а) дом, мама, весёлый б) бегать, но, из в) я, около, вче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2357280" y="937440"/>
            <a:ext cx="6357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 – 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 – 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 – 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 –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 – 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 – 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– 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 – 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ставление оценок за тес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т ошибок – «5» 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2 ошибки  - «4»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 -4 ошибки – «3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рямоугольник 2"/>
          <p:cNvSpPr/>
          <p:nvPr/>
        </p:nvSpPr>
        <p:spPr>
          <a:xfrm>
            <a:off x="3835800" y="214200"/>
            <a:ext cx="212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66"/>
                </a:solidFill>
                <a:latin typeface="Monotype Corsiva"/>
                <a:ea typeface="Times New Roman"/>
              </a:rPr>
              <a:t>Ключ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6" descr="C:\Documents and Settings\Admin\Мои документы\Мои рисунки\4333.png"/>
          <p:cNvPicPr/>
          <p:nvPr/>
        </p:nvPicPr>
        <p:blipFill>
          <a:blip r:embed="rId1"/>
          <a:stretch/>
        </p:blipFill>
        <p:spPr>
          <a:xfrm>
            <a:off x="285840" y="1571760"/>
            <a:ext cx="273024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2b2727fc2854"/>
          <p:cNvPicPr/>
          <p:nvPr/>
        </p:nvPicPr>
        <p:blipFill>
          <a:blip r:embed="rId1"/>
          <a:stretch/>
        </p:blipFill>
        <p:spPr>
          <a:xfrm>
            <a:off x="-828720" y="-500040"/>
            <a:ext cx="10585440" cy="782172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2"/>
          <p:cNvSpPr/>
          <p:nvPr/>
        </p:nvSpPr>
        <p:spPr>
          <a:xfrm>
            <a:off x="928800" y="1785960"/>
            <a:ext cx="70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Служебные части речи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2b2727fc2854"/>
          <p:cNvPicPr/>
          <p:nvPr/>
        </p:nvPicPr>
        <p:blipFill>
          <a:blip r:embed="rId1"/>
          <a:stretch/>
        </p:blipFill>
        <p:spPr>
          <a:xfrm>
            <a:off x="-828720" y="-500040"/>
            <a:ext cx="10585440" cy="782172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2"/>
          <p:cNvSpPr/>
          <p:nvPr/>
        </p:nvSpPr>
        <p:spPr>
          <a:xfrm>
            <a:off x="1143000" y="857160"/>
            <a:ext cx="6643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Monotype Corsiva"/>
              </a:rPr>
              <a:t>Цели урок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вторить служебные части речи, их правописани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ь роль предлогов, союзов, частиц в предложении и текст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Прямоугольник 1" descr=""/>
          <p:cNvPicPr/>
          <p:nvPr/>
        </p:nvPicPr>
        <p:blipFill>
          <a:blip r:embed="rId1"/>
          <a:stretch/>
        </p:blipFill>
        <p:spPr>
          <a:xfrm>
            <a:off x="189000" y="1457280"/>
            <a:ext cx="8955000" cy="457848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2"/>
          <p:cNvSpPr/>
          <p:nvPr/>
        </p:nvSpPr>
        <p:spPr>
          <a:xfrm>
            <a:off x="0" y="42876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Monotype Corsiva"/>
              </a:rPr>
              <a:t>Открываем новые зн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Прямоугольник 1" descr=""/>
          <p:cNvPicPr/>
          <p:nvPr/>
        </p:nvPicPr>
        <p:blipFill>
          <a:blip r:embed="rId1"/>
          <a:stretch/>
        </p:blipFill>
        <p:spPr>
          <a:xfrm>
            <a:off x="122400" y="1316160"/>
            <a:ext cx="8661240" cy="4932360"/>
          </a:xfrm>
          <a:prstGeom prst="rect">
            <a:avLst/>
          </a:prstGeom>
          <a:ln w="0">
            <a:noFill/>
          </a:ln>
        </p:spPr>
      </p:pic>
      <p:sp>
        <p:nvSpPr>
          <p:cNvPr id="286" name="Прямоугольник 2"/>
          <p:cNvSpPr/>
          <p:nvPr/>
        </p:nvSpPr>
        <p:spPr>
          <a:xfrm>
            <a:off x="205200" y="142920"/>
            <a:ext cx="876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Monotype Corsiva"/>
              </a:rPr>
              <a:t>Открываем новые зн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2:24:57Z</dcterms:created>
  <dc:creator>Кирилл</dc:creator>
  <dc:description/>
  <dc:language>en-US</dc:language>
  <cp:lastModifiedBy>Ученик</cp:lastModifiedBy>
  <dcterms:modified xsi:type="dcterms:W3CDTF">2014-11-21T06:03:48Z</dcterms:modified>
  <cp:revision>372</cp:revision>
  <dc:subject/>
  <dc:title>Слайд 1</dc:title>
</cp:coreProperties>
</file>