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0C1-0DB5-4F40-8CF4-17249AFC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786-8B36-49E5-BC96-5D06A32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8B3-5B7C-45AA-863F-64FCF957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728-F459-4FD9-98C8-859D534F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ABF-D46F-4615-9764-B0984BB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25B-17D6-4336-B86D-842337F6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4C0-BF03-4D16-9B91-8D55570F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1B3-073C-44F8-9C0A-3B11F4E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E70-6995-434D-AB7D-90A9A49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2B5-EF79-48D1-8AB7-D282428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232-C3DB-48F5-8C8C-31A3987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AA4-E507-4948-8086-6C973A4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39F-24E8-4633-BE3D-FC8FF6F995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gor\Desktop\ог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428840" y="100008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вет вечного ог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429240" y="65008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лабанова Т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8760" y="21420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КОУ «Специальная (коррекционная) общеобразовательная школа-интернат №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ой страной, которая увековечила мемориальным огнем память о погибших во Второй мировой войне, стала Польша. 8 мая 1946 года вечный огонь был зажжен в Варшаве на площади Маршала Юзефа Пилсудского, у восстановленной после фашистской оккупации Могилы неизвестного солд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igor\Desktop\в польше.jpg"/>
          <p:cNvPicPr/>
          <p:nvPr/>
        </p:nvPicPr>
        <p:blipFill>
          <a:blip r:embed="rId1"/>
          <a:stretch/>
        </p:blipFill>
        <p:spPr>
          <a:xfrm>
            <a:off x="285840" y="1600200"/>
            <a:ext cx="8643960" cy="4971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6500880" y="6215040"/>
            <a:ext cx="250020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ый вечный огонь в СССР загорелся в октябре 1957 года в Ленинграде (ныне - Санкт-Петербург) на Марсовом поле у памятника "Борцам революции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igor\Desktop\лен.jpg"/>
          <p:cNvPicPr/>
          <p:nvPr/>
        </p:nvPicPr>
        <p:blipFill>
          <a:blip r:embed="rId1"/>
          <a:stretch/>
        </p:blipFill>
        <p:spPr>
          <a:xfrm>
            <a:off x="357120" y="1600200"/>
            <a:ext cx="3857760" cy="340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igor\Desktop\юслар.jpg"/>
          <p:cNvPicPr/>
          <p:nvPr/>
        </p:nvPicPr>
        <p:blipFill>
          <a:blip r:embed="rId2"/>
          <a:stretch/>
        </p:blipFill>
        <p:spPr>
          <a:xfrm>
            <a:off x="4286160" y="1928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ел для открытия мемориала был зажжен сталеваром Жуковским от мартена №1 "Кировского завода" (ранее - "Путиловский завод", "Красный Путиловец"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igor\Desktop\ьатар.jpg"/>
          <p:cNvPicPr/>
          <p:nvPr/>
        </p:nvPicPr>
        <p:blipFill>
          <a:blip r:embed="rId1"/>
          <a:stretch/>
        </p:blipFill>
        <p:spPr>
          <a:xfrm>
            <a:off x="214200" y="150012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чный огонь на Марсовом поле стал источником пламени для большинства воинских мемориалов, открытых в городах-героях СССР, а также городах воинской славы в знак памяти о жертвах Великой отечественной войны 1941-1945 годов (ВОВ).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igor\Desktop\мамае.jpg"/>
          <p:cNvPicPr/>
          <p:nvPr/>
        </p:nvPicPr>
        <p:blipFill>
          <a:blip r:embed="rId1"/>
          <a:stretch/>
        </p:blipFill>
        <p:spPr>
          <a:xfrm>
            <a:off x="357120" y="1500120"/>
            <a:ext cx="8501040" cy="462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286000" y="62866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маев курган. Г. Волго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 мая 1967­го факел Вечного огня зажгли от пламени, пылающего на Марсовом поле в Ленинграде, – и началась эстафета по его доставке в Москву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igor\Desktop\транспорт.jpg"/>
          <p:cNvPicPr/>
          <p:nvPr/>
        </p:nvPicPr>
        <p:blipFill>
          <a:blip r:embed="rId1"/>
          <a:stretch/>
        </p:blipFill>
        <p:spPr>
          <a:xfrm>
            <a:off x="285840" y="1600200"/>
            <a:ext cx="8572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всем пути стоял живой коридор – люди хотели видеть то, что было для них свято.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igor\Desktop\ьвокаг.jpeg"/>
          <p:cNvPicPr/>
          <p:nvPr/>
        </p:nvPicPr>
        <p:blipFill>
          <a:blip r:embed="rId1"/>
          <a:stretch/>
        </p:blipFill>
        <p:spPr>
          <a:xfrm>
            <a:off x="285840" y="1428840"/>
            <a:ext cx="8643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 Манежной площади факел принял Герой Советского Союза, легендарный летчик Алексей Маресьев и передал его Леониду Брежневу, который и зажег пламя Вечного огн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igor\Desktop\маресьев.jpg"/>
          <p:cNvPicPr/>
          <p:nvPr/>
        </p:nvPicPr>
        <p:blipFill>
          <a:blip r:embed="rId1"/>
          <a:stretch/>
        </p:blipFill>
        <p:spPr>
          <a:xfrm>
            <a:off x="428760" y="1500120"/>
            <a:ext cx="82864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97 года к Вечному огню от Мавзолея переведен государственный Пост 1, на который заступает почетный караул Президентского полк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igor\Desktop\пост.jpg"/>
          <p:cNvPicPr/>
          <p:nvPr/>
        </p:nvPicPr>
        <p:blipFill>
          <a:blip r:embed="rId1"/>
          <a:stretch/>
        </p:blipFill>
        <p:spPr>
          <a:xfrm>
            <a:off x="428760" y="135720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ы к Вечному огн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igor\Desktop\путин.jpeg"/>
          <p:cNvPicPr/>
          <p:nvPr/>
        </p:nvPicPr>
        <p:blipFill>
          <a:blip r:embed="rId1"/>
          <a:stretch/>
        </p:blipFill>
        <p:spPr>
          <a:xfrm>
            <a:off x="214200" y="1285920"/>
            <a:ext cx="8643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ть в каждом уголке нашей великой Родины места – памятники павшим в боях и погибшим в годину военного лихолетья от рук фашистов. Пятигорск, переживший оккупацию, свято хранит память о тех суровых будн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igor\Desktop\ьвтвар.jpg"/>
          <p:cNvPicPr/>
          <p:nvPr/>
        </p:nvPicPr>
        <p:blipFill>
          <a:blip r:embed="rId1"/>
          <a:stretch/>
        </p:blipFill>
        <p:spPr>
          <a:xfrm>
            <a:off x="357120" y="1600200"/>
            <a:ext cx="842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igor\Desktop\све.jpg"/>
          <p:cNvPicPr/>
          <p:nvPr/>
        </p:nvPicPr>
        <p:blipFill>
          <a:blip r:embed="rId1"/>
          <a:stretch/>
        </p:blipFill>
        <p:spPr>
          <a:xfrm>
            <a:off x="0" y="0"/>
            <a:ext cx="3357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igor\Desktop\огр.jpg"/>
          <p:cNvPicPr/>
          <p:nvPr/>
        </p:nvPicPr>
        <p:blipFill>
          <a:blip r:embed="rId2"/>
          <a:stretch/>
        </p:blipFill>
        <p:spPr>
          <a:xfrm>
            <a:off x="3500280" y="0"/>
            <a:ext cx="56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мориал «Огонь Вечной славы», расположенном в самом сердце города на естественной возвышенности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igor\Desktop\юорпвы.jpg"/>
          <p:cNvPicPr/>
          <p:nvPr/>
        </p:nvPicPr>
        <p:blipFill>
          <a:blip r:embed="rId1"/>
          <a:stretch/>
        </p:blipFill>
        <p:spPr>
          <a:xfrm>
            <a:off x="357120" y="1600200"/>
            <a:ext cx="842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мориальный комплекс Пятигорска включает  Аллею Сл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igor\Desktop\ььорепке.jpeg"/>
          <p:cNvPicPr/>
          <p:nvPr/>
        </p:nvPicPr>
        <p:blipFill>
          <a:blip r:embed="rId1"/>
          <a:stretch/>
        </p:blipFill>
        <p:spPr>
          <a:xfrm>
            <a:off x="285840" y="1500120"/>
            <a:ext cx="8501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шу материнских слё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igor\Desktop\бсьарашрототь.jpeg"/>
          <p:cNvPicPr/>
          <p:nvPr/>
        </p:nvPicPr>
        <p:blipFill>
          <a:blip r:embed="rId1"/>
          <a:stretch/>
        </p:blipFill>
        <p:spPr>
          <a:xfrm>
            <a:off x="357120" y="1600200"/>
            <a:ext cx="85726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гендарный пятигорский Пост № 1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9 мая 1973 года лучшие из лучших юнармейцев города несут Почётную вахту у Вечного ог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igor\Desktop\бьтор.jpg"/>
          <p:cNvPicPr/>
          <p:nvPr/>
        </p:nvPicPr>
        <p:blipFill>
          <a:blip r:embed="rId1"/>
          <a:stretch/>
        </p:blipFill>
        <p:spPr>
          <a:xfrm>
            <a:off x="428760" y="1500120"/>
            <a:ext cx="8215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здании Поста № 1 обосновался прекрасный музей, рассказывающий своим многочисленным посетителям о различных этапах воинской истории Пятигорс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igor\Desktop\му.jpg"/>
          <p:cNvPicPr/>
          <p:nvPr/>
        </p:nvPicPr>
        <p:blipFill>
          <a:blip r:embed="rId1"/>
          <a:stretch/>
        </p:blipFill>
        <p:spPr>
          <a:xfrm>
            <a:off x="285840" y="1428840"/>
            <a:ext cx="8501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юда приходят молодожены и дети, ветераны и молодёжь, местные жители и гости курорта, возлагают цветы и стоят, молча, склонив голову. Здесь проходит День призывника, Героические поверки, Факельные шествия, Военно-спортивные игры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igor\Desktop\двоарпр.jpg"/>
          <p:cNvPicPr/>
          <p:nvPr/>
        </p:nvPicPr>
        <p:blipFill>
          <a:blip r:embed="rId1"/>
          <a:stretch/>
        </p:blipFill>
        <p:spPr>
          <a:xfrm>
            <a:off x="428760" y="150012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igor\Desktop\веч аниме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igor\Desktop\свббб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igor\Desktop\ми2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гда умирает человек, пламя его сердца медленно затухает, чтобы возгореться в другом мире. Это, конечно, образ, но из него появилась традиция зажигать огонь в честь умерших и погибши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igor\Desktop\свеч.jpg"/>
          <p:cNvPicPr/>
          <p:nvPr/>
        </p:nvPicPr>
        <p:blipFill>
          <a:blip r:embed="rId1"/>
          <a:stretch/>
        </p:blipFill>
        <p:spPr>
          <a:xfrm>
            <a:off x="285840" y="1785960"/>
            <a:ext cx="8572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igor\Desktop\веч аниме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чный огонь символизирует вечную память о ком-нибудь или о чём-либо. К нему всегда приносят цветы, приходят, чтобы поклониться, постоять и помолч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igor\Desktop\воз.jpg"/>
          <p:cNvPicPr/>
          <p:nvPr/>
        </p:nvPicPr>
        <p:blipFill>
          <a:blip r:embed="rId1"/>
          <a:stretch/>
        </p:blipFill>
        <p:spPr>
          <a:xfrm>
            <a:off x="214200" y="1857240"/>
            <a:ext cx="87156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 горит в любую погоду: зимой и летом, в любое время суток: днем и ночью, не давая угаснуть человеческой памят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igor\Desktop\жчлм.JPG"/>
          <p:cNvPicPr/>
          <p:nvPr/>
        </p:nvPicPr>
        <p:blipFill>
          <a:blip r:embed="rId1"/>
          <a:stretch/>
        </p:blipFill>
        <p:spPr>
          <a:xfrm>
            <a:off x="285840" y="1643040"/>
            <a:ext cx="85723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чный огонь зажигался и в древнем мире. К примеру, в Древней Греции, не угасая горело олимпийское плам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igor\Desktop\грец.jpeg"/>
          <p:cNvPicPr/>
          <p:nvPr/>
        </p:nvPicPr>
        <p:blipFill>
          <a:blip r:embed="rId1"/>
          <a:stretch/>
        </p:blipFill>
        <p:spPr>
          <a:xfrm>
            <a:off x="214200" y="1600200"/>
            <a:ext cx="8715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овременности традицию зародили после Первой мировой, когда в Париже в 1921 году открыли мемориал неизвестного солдата – памятник, Вечный огонь которого освещает Триумфальную ар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igor\Desktop\пар.jpg"/>
          <p:cNvPicPr/>
          <p:nvPr/>
        </p:nvPicPr>
        <p:blipFill>
          <a:blip r:embed="rId1"/>
          <a:srcRect l="2646" t="0" r="1662" b="1436"/>
          <a:stretch/>
        </p:blipFill>
        <p:spPr>
          <a:xfrm>
            <a:off x="214200" y="1643040"/>
            <a:ext cx="8715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диция была заимствована многими государствами, которые создавали национальные и городские памятники в память о солдатах, павших в Первой мировой. Вечный огонь в 1930-1940-х годах был зажжен в Бельгии, Португалии, Румынии, Чех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igor\Desktop\юсчлао.jpg"/>
          <p:cNvPicPr/>
          <p:nvPr/>
        </p:nvPicPr>
        <p:blipFill>
          <a:blip r:embed="rId1"/>
          <a:stretch/>
        </p:blipFill>
        <p:spPr>
          <a:xfrm>
            <a:off x="214200" y="1600200"/>
            <a:ext cx="8715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9T06:35:52Z</dcterms:created>
  <dc:creator>igor</dc:creator>
  <dc:description/>
  <dc:language>en-US</dc:language>
  <cp:lastModifiedBy>igor</cp:lastModifiedBy>
  <dcterms:modified xsi:type="dcterms:W3CDTF">2018-01-04T10:50:39Z</dcterms:modified>
  <cp:revision>51</cp:revision>
  <dc:subject/>
  <dc:title>Слайд 1</dc:title>
</cp:coreProperties>
</file>