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7165-765B-4F4A-AA3D-5FCA80922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737D-4DFA-43BC-8B47-225678405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F1B3-BE7B-4553-8DC4-5CEEF85DB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871A-0384-43C6-9590-CABA4592E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93A1-7825-4509-AE66-DC5791FEB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B2CC-F72C-4C36-8317-701BCA3D3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F7B7-687E-4451-9337-7EA6C6C8E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DFF-FA75-40C5-A138-2FD920CB1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5241-ADC2-45DD-B79B-0D70E7676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C83-9BA3-475A-A442-BE352FD51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993-DB01-4565-94E8-C535F5CD5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B9DA-50BB-4021-AE44-63723B573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A110-B08D-486B-8311-753B27037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285B-0654-4C3C-902E-DF09B17AB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B7C-2440-496E-AE8A-C934C5751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3B5-6DC7-49EF-A2E1-F2C493CFC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40BC-BA8F-4545-B53A-D2D437DD7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D13C-29C2-4256-A2D3-2521C0BBA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141-881A-4E98-AB83-8A392A83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238-F81D-4429-9D4B-C9436B15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705-8960-43A6-960A-3B743D64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E63-D164-4B5F-90B4-B92CA8D3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E04-22D9-4DF0-AC94-4D5E1E86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35A-D95F-4FC1-A1A2-7D65DF7E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1F3-DED7-4FC2-B341-132F8798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314-7A0F-484C-B9A8-8B629D58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B63-7BA8-408E-B7C9-B578F6AA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2F8-8572-4D0F-B0E1-134F314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828-650E-42E7-85BA-881B1CE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803-636A-4410-AF6C-A9CF589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8F8-7BB7-48F8-9EB8-A23778958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хемы как средства организации мышления в процессе обучения математике. Часть 2. (Анализ итогов заочного этапа XVI Ломоносовского турнира в секции математик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5-11 классы)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лого_ЛТ_2015"/>
          <p:cNvPicPr/>
          <p:nvPr/>
        </p:nvPicPr>
        <p:blipFill>
          <a:blip r:embed="rId1"/>
          <a:stretch/>
        </p:blipFill>
        <p:spPr>
          <a:xfrm>
            <a:off x="500040" y="476280"/>
            <a:ext cx="7956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круглым столом сидят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человек – рыцари (которые всегда говорят правду) и лжецы (всегда лгут). Каждый из сидящих за столом произнес: "Напротив меня сидит лжец". Сколько всего лжецов сидит за стол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каждой паре сидящих напротив друг друга – один рыцарь и один лж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лжец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течения реки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яет 3 км/ч, а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1км/ч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 =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 км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= 15 км. Катер плыл по течению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15 минут меньше, чем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собственную скорость ка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0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11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2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3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156360" y="3578400"/>
            <a:ext cx="21607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328680" y="433440"/>
            <a:ext cx="83707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зиф обязан каждый день втаскивать большой камень на вершину горы. В первый день он потратил на подъем в гору и спуск с нее 7 часов. Эта работа утомительна, и в каждый следующий день он поднимается вдвое медленнее, чем в предыдущий, но зато спускается вдвое быстрее. Сколько времени он потратил на подъем и спуск в третий день, если во второй день ему понадобилось 8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вина  спуска – 2 часа, т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– 4 часа, П – 3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день: 4П +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= 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+ 1 =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Отрезки"/>
          <p:cNvGrpSpPr/>
          <p:nvPr/>
        </p:nvGrpSpPr>
        <p:grpSpPr>
          <a:xfrm>
            <a:off x="1871640" y="357120"/>
            <a:ext cx="5400720" cy="1981440"/>
            <a:chOff x="1871640" y="357120"/>
            <a:chExt cx="5400720" cy="1981440"/>
          </a:xfrm>
        </p:grpSpPr>
        <p:grpSp>
          <p:nvGrpSpPr>
            <p:cNvPr id="78" name="Группа 4"/>
            <p:cNvGrpSpPr/>
            <p:nvPr/>
          </p:nvGrpSpPr>
          <p:grpSpPr>
            <a:xfrm>
              <a:off x="1871640" y="717840"/>
              <a:ext cx="5400720" cy="1265760"/>
              <a:chOff x="1871640" y="717840"/>
              <a:chExt cx="5400720" cy="1265760"/>
            </a:xfrm>
          </p:grpSpPr>
          <p:sp>
            <p:nvSpPr>
              <p:cNvPr id="79" name="Прямая соединительная линия 13"/>
              <p:cNvSpPr/>
              <p:nvPr/>
            </p:nvSpPr>
            <p:spPr>
              <a:xfrm>
                <a:off x="5113440" y="1953720"/>
                <a:ext cx="215892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14"/>
              <p:cNvSpPr/>
              <p:nvPr/>
            </p:nvSpPr>
            <p:spPr>
              <a:xfrm>
                <a:off x="1871640" y="1953720"/>
                <a:ext cx="3240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15"/>
              <p:cNvSpPr/>
              <p:nvPr/>
            </p:nvSpPr>
            <p:spPr>
              <a:xfrm>
                <a:off x="1871640" y="1393200"/>
                <a:ext cx="216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Прямая соединительная линия 16"/>
              <p:cNvSpPr/>
              <p:nvPr/>
            </p:nvSpPr>
            <p:spPr>
              <a:xfrm>
                <a:off x="4035240" y="1393200"/>
                <a:ext cx="71892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17"/>
              <p:cNvSpPr/>
              <p:nvPr/>
            </p:nvSpPr>
            <p:spPr>
              <a:xfrm>
                <a:off x="2957400" y="813600"/>
                <a:ext cx="143964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Прямая соединительная линия 18"/>
              <p:cNvSpPr/>
              <p:nvPr/>
            </p:nvSpPr>
            <p:spPr>
              <a:xfrm>
                <a:off x="1871640" y="813600"/>
                <a:ext cx="1081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19"/>
              <p:cNvSpPr/>
              <p:nvPr/>
            </p:nvSpPr>
            <p:spPr>
              <a:xfrm>
                <a:off x="7269480" y="185760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Прямая соединительная линия 20"/>
              <p:cNvSpPr/>
              <p:nvPr/>
            </p:nvSpPr>
            <p:spPr>
              <a:xfrm>
                <a:off x="4743360" y="129708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Прямая соединительная линия 21"/>
              <p:cNvSpPr/>
              <p:nvPr/>
            </p:nvSpPr>
            <p:spPr>
              <a:xfrm>
                <a:off x="4395600" y="71784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Прямая соединительная линия 22"/>
              <p:cNvSpPr/>
              <p:nvPr/>
            </p:nvSpPr>
            <p:spPr>
              <a:xfrm>
                <a:off x="1871640" y="71784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Прямая соединительная линия 23"/>
              <p:cNvSpPr/>
              <p:nvPr/>
            </p:nvSpPr>
            <p:spPr>
              <a:xfrm>
                <a:off x="1877760" y="129096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Прямая соединительная линия 24"/>
              <p:cNvSpPr/>
              <p:nvPr/>
            </p:nvSpPr>
            <p:spPr>
              <a:xfrm>
                <a:off x="1877760" y="185760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Прямая соединительная линия 25"/>
              <p:cNvSpPr/>
              <p:nvPr/>
            </p:nvSpPr>
            <p:spPr>
              <a:xfrm>
                <a:off x="2963880" y="71784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ая соединительная линия 26"/>
              <p:cNvSpPr/>
              <p:nvPr/>
            </p:nvSpPr>
            <p:spPr>
              <a:xfrm>
                <a:off x="4033800" y="129708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Прямая соединительная линия 27"/>
              <p:cNvSpPr/>
              <p:nvPr/>
            </p:nvSpPr>
            <p:spPr>
              <a:xfrm>
                <a:off x="5111640" y="185112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28"/>
              <p:cNvSpPr/>
              <p:nvPr/>
            </p:nvSpPr>
            <p:spPr>
              <a:xfrm>
                <a:off x="2930400" y="1351800"/>
                <a:ext cx="71280" cy="727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Овал 29"/>
              <p:cNvSpPr/>
              <p:nvPr/>
            </p:nvSpPr>
            <p:spPr>
              <a:xfrm>
                <a:off x="2922480" y="19123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Овал 30"/>
              <p:cNvSpPr/>
              <p:nvPr/>
            </p:nvSpPr>
            <p:spPr>
              <a:xfrm>
                <a:off x="3659040" y="778680"/>
                <a:ext cx="72720" cy="7272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Овал 31"/>
              <p:cNvSpPr/>
              <p:nvPr/>
            </p:nvSpPr>
            <p:spPr>
              <a:xfrm>
                <a:off x="4008240" y="19123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Овал 32"/>
              <p:cNvSpPr/>
              <p:nvPr/>
            </p:nvSpPr>
            <p:spPr>
              <a:xfrm>
                <a:off x="5781600" y="1912320"/>
                <a:ext cx="71280" cy="7128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Овал 33"/>
              <p:cNvSpPr/>
              <p:nvPr/>
            </p:nvSpPr>
            <p:spPr>
              <a:xfrm>
                <a:off x="6539040" y="1905840"/>
                <a:ext cx="71280" cy="7128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Надпись 26"/>
            <p:cNvSpPr/>
            <p:nvPr/>
          </p:nvSpPr>
          <p:spPr>
            <a:xfrm>
              <a:off x="2287440" y="357120"/>
              <a:ext cx="382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Надпись 27"/>
            <p:cNvSpPr/>
            <p:nvPr/>
          </p:nvSpPr>
          <p:spPr>
            <a:xfrm>
              <a:off x="2670120" y="971640"/>
              <a:ext cx="5634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2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Надпись 28"/>
            <p:cNvSpPr/>
            <p:nvPr/>
          </p:nvSpPr>
          <p:spPr>
            <a:xfrm>
              <a:off x="4437000" y="1592280"/>
              <a:ext cx="382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Надпись 29"/>
            <p:cNvSpPr/>
            <p:nvPr/>
          </p:nvSpPr>
          <p:spPr>
            <a:xfrm>
              <a:off x="3508200" y="363240"/>
              <a:ext cx="3823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Надпись 30"/>
            <p:cNvSpPr/>
            <p:nvPr/>
          </p:nvSpPr>
          <p:spPr>
            <a:xfrm>
              <a:off x="4267080" y="779400"/>
              <a:ext cx="3808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2060"/>
                  </a:solidFill>
                  <a:uFillTx/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Надпись 31"/>
            <p:cNvSpPr/>
            <p:nvPr/>
          </p:nvSpPr>
          <p:spPr>
            <a:xfrm>
              <a:off x="4819680" y="2022840"/>
              <a:ext cx="3808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Надпись 32"/>
            <p:cNvSpPr/>
            <p:nvPr/>
          </p:nvSpPr>
          <p:spPr>
            <a:xfrm>
              <a:off x="5303880" y="1352520"/>
              <a:ext cx="382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2060"/>
                  </a:solidFill>
                  <a:uFillTx/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Дуга 12"/>
            <p:cNvSpPr/>
            <p:nvPr/>
          </p:nvSpPr>
          <p:spPr>
            <a:xfrm flipV="1">
              <a:off x="4048200" y="1740960"/>
              <a:ext cx="1763640" cy="593640"/>
            </a:xfrm>
            <a:custGeom>
              <a:avLst/>
              <a:gdLst/>
              <a:ahLst/>
              <a:rect l="l" t="t" r="r" b="b"/>
              <a:pathLst>
                <a:path stroke="0" w="1764013" h="593910">
                  <a:moveTo>
                    <a:pt x="1958" y="316732"/>
                  </a:moveTo>
                  <a:cubicBezTo>
                    <a:pt x="-27467" y="168309"/>
                    <a:pt x="273824" y="35456"/>
                    <a:pt x="706845" y="5915"/>
                  </a:cubicBezTo>
                  <a:cubicBezTo>
                    <a:pt x="818400" y="-1696"/>
                    <a:pt x="933277" y="-1964"/>
                    <a:pt x="1045136" y="5123"/>
                  </a:cubicBezTo>
                  <a:cubicBezTo>
                    <a:pt x="1452751" y="30951"/>
                    <a:pt x="1751844" y="148909"/>
                    <a:pt x="1763656" y="288498"/>
                  </a:cubicBezTo>
                  <a:lnTo>
                    <a:pt x="882007" y="296955"/>
                  </a:lnTo>
                  <a:lnTo>
                    <a:pt x="1958" y="316732"/>
                  </a:lnTo>
                  <a:close/>
                </a:path>
                <a:path fill="none" w="1764013" h="593910">
                  <a:moveTo>
                    <a:pt x="1958" y="316732"/>
                  </a:moveTo>
                  <a:cubicBezTo>
                    <a:pt x="-27467" y="168309"/>
                    <a:pt x="273824" y="35456"/>
                    <a:pt x="706845" y="5915"/>
                  </a:cubicBezTo>
                  <a:cubicBezTo>
                    <a:pt x="818400" y="-1696"/>
                    <a:pt x="933277" y="-1964"/>
                    <a:pt x="1045136" y="5123"/>
                  </a:cubicBezTo>
                  <a:cubicBezTo>
                    <a:pt x="1452751" y="30951"/>
                    <a:pt x="1751844" y="148909"/>
                    <a:pt x="1763656" y="288498"/>
                  </a:cubicBezTo>
                </a:path>
              </a:pathLst>
            </a:custGeom>
            <a:noFill/>
            <a:ln w="2844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476280" y="938160"/>
            <a:ext cx="7826400" cy="515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8"/>
          <p:cNvSpPr/>
          <p:nvPr/>
        </p:nvSpPr>
        <p:spPr>
          <a:xfrm>
            <a:off x="0" y="0"/>
            <a:ext cx="9131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Объект 13"/>
          <p:cNvGraphicFramePr/>
          <p:nvPr/>
        </p:nvGraphicFramePr>
        <p:xfrm>
          <a:off x="1692360" y="1600200"/>
          <a:ext cx="539424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Объект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600200"/>
                    <a:ext cx="53942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324000" y="652320"/>
            <a:ext cx="8362800" cy="547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Объект 4"/>
          <p:cNvGraphicFramePr/>
          <p:nvPr/>
        </p:nvGraphicFramePr>
        <p:xfrm>
          <a:off x="2771640" y="735120"/>
          <a:ext cx="5178600" cy="100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735120"/>
                    <a:ext cx="51786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5158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7440" y="1915920"/>
            <a:ext cx="851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окраску большого деревянного куба размером 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 ушел 1 кг краски. Покрашенный куб распилили на кубики размером 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колько ещё килограммов краски необходимо для покраски неокрашенных граней маленьких куби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"/>
          <p:cNvPicPr/>
          <p:nvPr/>
        </p:nvPicPr>
        <p:blipFill>
          <a:blip r:embed="rId1"/>
          <a:stretch/>
        </p:blipFill>
        <p:spPr>
          <a:xfrm>
            <a:off x="6659640" y="747720"/>
            <a:ext cx="1877760" cy="1481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120816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9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получить маленькие кубики, необходимо сделать 2013 параллельных распилов в каждом из трех перпендикулярных направлений. При таком распиле красить надо две грани размером 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граней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гран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   1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01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зада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их оцен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74800"/>
                <a:gridCol w="1368360"/>
                <a:gridCol w="3384360"/>
                <a:gridCol w="2602080"/>
              </a:tblGrid>
              <a:tr h="1185840"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от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ода (1, 2, 3 и 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ко один ве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ый ответ – 1 бал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ый – 0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5680"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ый 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ое число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ая десятичная дро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единиц измерения (!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ый ответ – 2 балл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ый – 0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Окружность, проходящая через вершины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мба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пересекает продолжение его стороны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Найдите площадь ромба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=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M=6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229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. 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0040" y="5122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Окружность"/>
          <p:cNvGrpSpPr/>
          <p:nvPr/>
        </p:nvGrpSpPr>
        <p:grpSpPr>
          <a:xfrm>
            <a:off x="2917800" y="738360"/>
            <a:ext cx="4318200" cy="4246560"/>
            <a:chOff x="2917800" y="738360"/>
            <a:chExt cx="4318200" cy="4246560"/>
          </a:xfrm>
        </p:grpSpPr>
        <p:sp>
          <p:nvSpPr>
            <p:cNvPr id="129" name="Ромб 4"/>
            <p:cNvSpPr/>
            <p:nvPr/>
          </p:nvSpPr>
          <p:spPr>
            <a:xfrm>
              <a:off x="4873680" y="1154160"/>
              <a:ext cx="2001960" cy="3462480"/>
            </a:xfrm>
            <a:prstGeom prst="diamond">
              <a:avLst/>
            </a:prstGeom>
            <a:noFill/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5"/>
            <p:cNvSpPr/>
            <p:nvPr/>
          </p:nvSpPr>
          <p:spPr>
            <a:xfrm>
              <a:off x="2917800" y="893880"/>
              <a:ext cx="3984840" cy="3984840"/>
            </a:xfrm>
            <a:prstGeom prst="ellipse">
              <a:avLst/>
            </a:prstGeom>
            <a:noFill/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6"/>
            <p:cNvSpPr/>
            <p:nvPr/>
          </p:nvSpPr>
          <p:spPr>
            <a:xfrm flipH="1">
              <a:off x="3905280" y="2889360"/>
              <a:ext cx="968400" cy="173052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рямая соединительная линия 7"/>
            <p:cNvSpPr/>
            <p:nvPr/>
          </p:nvSpPr>
          <p:spPr>
            <a:xfrm flipH="1" flipV="1">
              <a:off x="3904920" y="4604040"/>
              <a:ext cx="1970280" cy="10800"/>
            </a:xfrm>
            <a:prstGeom prst="line">
              <a:avLst/>
            </a:prstGeom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8"/>
            <p:cNvSpPr/>
            <p:nvPr/>
          </p:nvSpPr>
          <p:spPr>
            <a:xfrm flipH="1" flipV="1">
              <a:off x="4354560" y="3799080"/>
              <a:ext cx="1519200" cy="814320"/>
            </a:xfrm>
            <a:prstGeom prst="line">
              <a:avLst/>
            </a:prstGeom>
            <a:ln w="12600">
              <a:solidFill>
                <a:srgbClr val="3c8c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9"/>
            <p:cNvSpPr/>
            <p:nvPr/>
          </p:nvSpPr>
          <p:spPr>
            <a:xfrm>
              <a:off x="5873760" y="1147680"/>
              <a:ext cx="0" cy="345132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10"/>
            <p:cNvSpPr/>
            <p:nvPr/>
          </p:nvSpPr>
          <p:spPr>
            <a:xfrm flipH="1">
              <a:off x="6356520" y="2041920"/>
              <a:ext cx="126360" cy="7308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11"/>
            <p:cNvSpPr/>
            <p:nvPr/>
          </p:nvSpPr>
          <p:spPr>
            <a:xfrm>
              <a:off x="4827600" y="4538880"/>
              <a:ext cx="0" cy="1476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12"/>
            <p:cNvSpPr/>
            <p:nvPr/>
          </p:nvSpPr>
          <p:spPr>
            <a:xfrm flipH="1">
              <a:off x="5251680" y="360828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13"/>
            <p:cNvSpPr/>
            <p:nvPr/>
          </p:nvSpPr>
          <p:spPr>
            <a:xfrm flipH="1" flipV="1">
              <a:off x="6388560" y="358128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14"/>
            <p:cNvSpPr/>
            <p:nvPr/>
          </p:nvSpPr>
          <p:spPr>
            <a:xfrm flipH="1" flipV="1">
              <a:off x="5251680" y="208764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оугольник 15"/>
            <p:cNvSpPr/>
            <p:nvPr/>
          </p:nvSpPr>
          <p:spPr>
            <a:xfrm rot="1740000">
              <a:off x="4385880" y="3713040"/>
              <a:ext cx="156960" cy="137880"/>
            </a:xfrm>
            <a:prstGeom prst="rect">
              <a:avLst/>
            </a:pr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Надпись 55"/>
            <p:cNvSpPr/>
            <p:nvPr/>
          </p:nvSpPr>
          <p:spPr>
            <a:xfrm>
              <a:off x="3963960" y="346716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Надпись 56"/>
            <p:cNvSpPr/>
            <p:nvPr/>
          </p:nvSpPr>
          <p:spPr>
            <a:xfrm>
              <a:off x="4203720" y="379908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Надпись 57"/>
            <p:cNvSpPr/>
            <p:nvPr/>
          </p:nvSpPr>
          <p:spPr>
            <a:xfrm>
              <a:off x="4529160" y="257040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Надпись 58"/>
            <p:cNvSpPr/>
            <p:nvPr/>
          </p:nvSpPr>
          <p:spPr>
            <a:xfrm>
              <a:off x="6810840" y="264168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Надпись 59"/>
            <p:cNvSpPr/>
            <p:nvPr/>
          </p:nvSpPr>
          <p:spPr>
            <a:xfrm>
              <a:off x="5743800" y="73836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Надпись 60"/>
            <p:cNvSpPr/>
            <p:nvPr/>
          </p:nvSpPr>
          <p:spPr>
            <a:xfrm>
              <a:off x="3541680" y="4538880"/>
              <a:ext cx="425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Надпись 61"/>
            <p:cNvSpPr/>
            <p:nvPr/>
          </p:nvSpPr>
          <p:spPr>
            <a:xfrm>
              <a:off x="5743800" y="457236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Надпись 62"/>
            <p:cNvSpPr/>
            <p:nvPr/>
          </p:nvSpPr>
          <p:spPr>
            <a:xfrm>
              <a:off x="4892760" y="1679760"/>
              <a:ext cx="4269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Дуга 24"/>
            <p:cNvSpPr/>
            <p:nvPr/>
          </p:nvSpPr>
          <p:spPr>
            <a:xfrm>
              <a:off x="5581800" y="1465200"/>
              <a:ext cx="314280" cy="284040"/>
            </a:xfrm>
            <a:custGeom>
              <a:avLst/>
              <a:gdLst/>
              <a:ahLst/>
              <a:rect l="l" t="t" r="r" b="b"/>
              <a:pathLst>
                <a:path stroke="0" w="230395" h="208296">
                  <a:moveTo>
                    <a:pt x="209778" y="163604"/>
                  </a:moveTo>
                  <a:cubicBezTo>
                    <a:pt x="183666" y="197555"/>
                    <a:pt x="137811" y="214324"/>
                    <a:pt x="92934" y="206332"/>
                  </a:cubicBezTo>
                  <a:cubicBezTo>
                    <a:pt x="45062" y="197807"/>
                    <a:pt x="8323" y="162942"/>
                    <a:pt x="1224" y="119300"/>
                  </a:cubicBezTo>
                  <a:lnTo>
                    <a:pt x="115198" y="104148"/>
                  </a:lnTo>
                  <a:lnTo>
                    <a:pt x="209778" y="163604"/>
                  </a:lnTo>
                  <a:close/>
                </a:path>
                <a:path fill="none" w="230395" h="208296">
                  <a:moveTo>
                    <a:pt x="209778" y="163604"/>
                  </a:moveTo>
                  <a:cubicBezTo>
                    <a:pt x="183666" y="197555"/>
                    <a:pt x="137811" y="214324"/>
                    <a:pt x="92934" y="206332"/>
                  </a:cubicBezTo>
                  <a:cubicBezTo>
                    <a:pt x="45062" y="197807"/>
                    <a:pt x="8323" y="162942"/>
                    <a:pt x="1224" y="119300"/>
                  </a:cubicBezTo>
                </a:path>
              </a:pathLst>
            </a:cu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Дуга 25"/>
            <p:cNvSpPr/>
            <p:nvPr/>
          </p:nvSpPr>
          <p:spPr>
            <a:xfrm>
              <a:off x="5855040" y="1492200"/>
              <a:ext cx="276120" cy="258480"/>
            </a:xfrm>
            <a:custGeom>
              <a:avLst/>
              <a:gdLst/>
              <a:ahLst/>
              <a:rect l="l" t="t" r="r" b="b"/>
              <a:pathLst>
                <a:path stroke="0" w="202468" h="189678">
                  <a:moveTo>
                    <a:pt x="202324" y="89787"/>
                  </a:moveTo>
                  <a:cubicBezTo>
                    <a:pt x="204738" y="132185"/>
                    <a:pt x="176779" y="170920"/>
                    <a:pt x="133878" y="184612"/>
                  </a:cubicBezTo>
                  <a:cubicBezTo>
                    <a:pt x="93658" y="197448"/>
                    <a:pt x="49162" y="185389"/>
                    <a:pt x="22470" y="154419"/>
                  </a:cubicBezTo>
                  <a:lnTo>
                    <a:pt x="101234" y="94839"/>
                  </a:lnTo>
                  <a:lnTo>
                    <a:pt x="202324" y="89787"/>
                  </a:lnTo>
                  <a:close/>
                </a:path>
                <a:path fill="none" w="202468" h="189678">
                  <a:moveTo>
                    <a:pt x="202324" y="89787"/>
                  </a:moveTo>
                  <a:cubicBezTo>
                    <a:pt x="204738" y="132185"/>
                    <a:pt x="176779" y="170920"/>
                    <a:pt x="133878" y="184612"/>
                  </a:cubicBezTo>
                  <a:cubicBezTo>
                    <a:pt x="93658" y="197448"/>
                    <a:pt x="49162" y="185389"/>
                    <a:pt x="22470" y="154419"/>
                  </a:cubicBezTo>
                </a:path>
              </a:pathLst>
            </a:cu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.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лера выкладывает «домики» из спичек (на рисунке изображены такие домики в два и три этажа). Сколько спичек понадобится Валере, чтобы построить дом из 10 этаже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009960" cy="187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18255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1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9520" y="981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79520" y="1006560"/>
            <a:ext cx="82296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м взаимосвязь между количеством спичек и количеством этаж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этаж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+ 2 спич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этаж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+2)+3+4 сп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этаж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+2+3+4)+5+6  сп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этажей: (1+2+…+18)+19+20=2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21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2880" y="188640"/>
            <a:ext cx="294948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231920"/>
            <a:ext cx="7686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числ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 - 5) + 2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.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979640" y="1947960"/>
            <a:ext cx="11049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Объект 5"/>
          <p:cNvGraphicFramePr/>
          <p:nvPr/>
        </p:nvGraphicFramePr>
        <p:xfrm>
          <a:off x="1258920" y="1846440"/>
          <a:ext cx="696744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6440"/>
                    <a:ext cx="69674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Прямоугольник 8" descr=""/>
          <p:cNvPicPr/>
          <p:nvPr/>
        </p:nvPicPr>
        <p:blipFill>
          <a:blip r:embed="rId3"/>
          <a:stretch/>
        </p:blipFill>
        <p:spPr>
          <a:xfrm>
            <a:off x="1474920" y="3432240"/>
            <a:ext cx="62053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вами четыре двери, на каждой из них написано по одному утверждению. Известно, что за каждой дверью находится либо дракон, либо несметные сокровища (общее число драконов и сокровищ не регламентировано; может быть, там везде драконы, а может, везде сокровища). Что именно находится за дверью, зависит от надписи на ней (за дверью сокровища тогда и только тогда, когда надпись истинна, дракон ‑ тогда и только тогда, когда надпись ложна). Какую дверь (по номеру) нужно открыть, чтобы не попасть в лапы дракона? Если такой двери нет, напишите в ответе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760" y="407160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3: лож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4: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2: лож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1: прав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716040" y="549360"/>
            <a:ext cx="77119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ннисном клубе 189 членов: 8 состоят в клубе меньше трёх лет, 11 моложе 20 лет, 70 носят очки, 140 ‑ мужчины. Какое наименьшее возможное число членов клуба удовлетворяет сразу четырём условиям: состоят в клубе не меньше трёх лет, их возраст не меньше 20 лет, носят очки и являются мужчин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670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ьше трех лет в клубе – 18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не меньше 20 лет –    17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очки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7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чины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4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 наихудшего вари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 – 49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– 11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– 8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.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072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м выкладывает «домики» из спичек (на рисунке изображены такие домики в два и три этажа). Сколько этажей будет в «домике», построенном из 11 325 спич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4788000" y="2924280"/>
            <a:ext cx="3473280" cy="21603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2"/>
          <a:stretch/>
        </p:blipFill>
        <p:spPr>
          <a:xfrm>
            <a:off x="1674720" y="2914560"/>
            <a:ext cx="2268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и решения некоторых задач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а говорит правду только один день в нед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жды она сказала: "Я лгу по понедельникам и вторникам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ледующий день она сказала: "Сегодня или четверг, или суббота, или воскресенье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на следующий день она сказала: "Я лгу по средам и пятницам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день недели Маша сделала первое свое заяв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четвер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ят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воскрес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28680" y="579600"/>
            <a:ext cx="837072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лагодарю за внимание и интерес к математи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155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ая запись усло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я лгу по ПН и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сегодня или ЧТ, или СБ, или 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– я лгу по СР и 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и 3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не может говорить правду в ЧТ, в СБ и в ВС, так как 1 и 3 будут прав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, заявление 2 всегда л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бор: правду говорит в ПН, ВТ, СР или ПТ, т.е. четыре вари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 правду говорит во вторник (3-й день), а первое заявление - в воскресе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09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годнем празднике дети пытались угадать, сколько подарков в мешке у Деда Мороза. Предлагались следующие вариа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1, 46, 60, 45 и 5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варианты были неверные, причем отличались от правильного от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8, 12, 7, 2 и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рядок необязательно соответствует порядку исходных чисел, а также неизвестно: угадываемое число на столько больше или меньше). Сколько подарков в мешке у Деда Мороза? Если возможны несколько вариантов ответов, то в бланке укажите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выдвигать гипотезы, подмечая законом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ы: 41, 46, 60, 45 и 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я: на 8, 12, 7, 2 и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жды отличие на 7, но при этом среди предположений нет одинаковых вари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62960"/>
            <a:ext cx="6858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предположений на 7 больше, а другое – на 7 меньше, т.е. разница между ними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ы два вариа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 и 60, тогда угадываемое число (количество подарков) – 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1 и 55, угадываемое число – 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отличий приводит только к одному верному от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 соснового бруска 27 кг, а дубового бруска – 45 кг. На весы положили 10 брусков, их общий вес оказался равным 396 кг. Сколько было дубовых брус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: перебор по последней циф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оличество дубовых брусков нечетно, то число сосновых брусков должно равняться тр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+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= 81 + 315 = 3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оличество дубовых брусков четно, то число сосновых брусков должно равняться вос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+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= 216 + 90 ≠ 3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3:14:00Z</dcterms:created>
  <dc:creator>Bernikov</dc:creator>
  <dc:description/>
  <dc:language>en-US</dc:language>
  <cp:lastModifiedBy>Scaner</cp:lastModifiedBy>
  <dcterms:modified xsi:type="dcterms:W3CDTF">2014-12-16T05:09:46Z</dcterms:modified>
  <cp:revision>166</cp:revision>
  <dc:subject/>
  <dc:title>Спецификация  заданий по математике заочного этапа  XIV турнира  им. М.В.Ломоносова</dc:title>
</cp:coreProperties>
</file>