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8.wmf" ContentType="image/x-wmf"/>
  <Override PartName="/ppt/media/image9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5C3A5-7D29-4D87-9074-07D9F52E8C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C74AB-7E8D-4FB8-AFD4-1A98782D06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44A89-1866-4A5E-9E5B-9689A338C5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56E2A-9E8D-4DA2-9FAC-336F95CE18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11F16-A99E-40DE-BDC9-7C16CC576E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B6555-88BE-48CD-BFDC-6332C48DFD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CB365-408B-4F59-A85D-FC042CB6A1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9203A-6800-496C-8FE5-4A198DB0D3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EECF8-7130-4926-AF4B-63BA225666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6EF8F-C4FD-4781-BA82-32DD1AA084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8A039-86BE-4D50-B611-3A5153DE5C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4437E-6585-4C23-B5A9-44C4B7794D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F44E8-0C8C-40A8-A9C6-E16C23ABDA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F9CA-F0CA-4323-992B-518F601F1D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CBCF0-9A96-42EB-8B3F-D6D42DFE0C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5B4B0-0212-4BAC-ABFE-B270765112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76C5B-0314-43FD-86DB-1E6671382D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39A8C-11C3-41B2-B44D-7BB01838D3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494D-1327-416A-978E-D151EA2D7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1183-B74D-4B27-8951-593C7F598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A392-9707-4B46-8C02-3E79564CF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CB47-7873-43BF-85B0-FD2998F4F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26A0-54AD-41C2-B9C4-BBB2E7186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7D4F-ED5D-4C87-8992-5F028A8FE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E62D-023D-4E11-B60A-0B9E486D7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E775-A7FE-4A3B-A772-FDABC2B96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A721-12AD-4112-9366-C131709BF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4DB8-7A43-440A-A5A7-1BCF13E8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7D52-594D-4277-957A-410BFB2E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BEE1-6C10-4F5E-A990-629936A3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7748F-0598-42D1-94A7-C064FA9AF3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204640"/>
            <a:ext cx="777240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Схемы как средства организации мышления в процессе обучения математике. Часть 2. (Анализ итогов заочного этапа XVI Ломоносовского турнира в секции математики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5-11 классы)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лого_ЛТ_2015"/>
          <p:cNvPicPr/>
          <p:nvPr/>
        </p:nvPicPr>
        <p:blipFill>
          <a:blip r:embed="rId1"/>
          <a:stretch/>
        </p:blipFill>
        <p:spPr>
          <a:xfrm>
            <a:off x="500040" y="476280"/>
            <a:ext cx="795672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 круглым столом сидят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4 человек – рыцари (которые всегда говорят правду) и лжецы (всегда лгут). Каждый из сидящих за столом произнес: "Напротив меня сидит лжец". Сколько всего лжецов сидит за столо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Решение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В каждой паре сидящих напротив друг друга – один рыцарь и один лжец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вет.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лжец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7 кла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.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рость течения реки от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до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ляет 3 км/ч, а от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до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1км/ч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АВ =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4 км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= 15 км. Катер плыл по течению от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до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а 15 минут меньше, чем от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до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ите собственную скорость катер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10 км/ч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2)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 11 км/ч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12 км/ч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13 км/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6156360" y="3578400"/>
            <a:ext cx="2160720" cy="25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3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Rectangle 3" descr=""/>
          <p:cNvPicPr/>
          <p:nvPr/>
        </p:nvPicPr>
        <p:blipFill>
          <a:blip r:embed="rId1"/>
          <a:stretch/>
        </p:blipFill>
        <p:spPr>
          <a:xfrm>
            <a:off x="328680" y="433440"/>
            <a:ext cx="8370720" cy="57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24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4.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зиф обязан каждый день втаскивать большой камень на вершину горы. В первый день он потратил на подъем в гору и спуск с нее 7 часов. Эта работа утомительна, и в каждый следующий день он поднимается вдвое медленнее, чем в предыдущий, но зато спускается вдвое быстрее. Сколько времени он потратил на подъем и спуск в третий день, если во второй день ему понадобилось 8 час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285228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овина  спуска – 2 часа, тог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– 4 часа, П – 3 ча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етий день: 4П + 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 = 4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+ 1 = 1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т. 1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Отрезки"/>
          <p:cNvGrpSpPr/>
          <p:nvPr/>
        </p:nvGrpSpPr>
        <p:grpSpPr>
          <a:xfrm>
            <a:off x="1871640" y="357120"/>
            <a:ext cx="5400720" cy="1981440"/>
            <a:chOff x="1871640" y="357120"/>
            <a:chExt cx="5400720" cy="1981440"/>
          </a:xfrm>
        </p:grpSpPr>
        <p:grpSp>
          <p:nvGrpSpPr>
            <p:cNvPr id="78" name="Группа 4"/>
            <p:cNvGrpSpPr/>
            <p:nvPr/>
          </p:nvGrpSpPr>
          <p:grpSpPr>
            <a:xfrm>
              <a:off x="1871640" y="717840"/>
              <a:ext cx="5400720" cy="1265760"/>
              <a:chOff x="1871640" y="717840"/>
              <a:chExt cx="5400720" cy="1265760"/>
            </a:xfrm>
          </p:grpSpPr>
          <p:sp>
            <p:nvSpPr>
              <p:cNvPr id="79" name="Прямая соединительная линия 13"/>
              <p:cNvSpPr/>
              <p:nvPr/>
            </p:nvSpPr>
            <p:spPr>
              <a:xfrm>
                <a:off x="5113440" y="1953720"/>
                <a:ext cx="215892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14"/>
              <p:cNvSpPr/>
              <p:nvPr/>
            </p:nvSpPr>
            <p:spPr>
              <a:xfrm>
                <a:off x="1871640" y="1953720"/>
                <a:ext cx="3240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15"/>
              <p:cNvSpPr/>
              <p:nvPr/>
            </p:nvSpPr>
            <p:spPr>
              <a:xfrm>
                <a:off x="1871640" y="1393200"/>
                <a:ext cx="21607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Прямая соединительная линия 16"/>
              <p:cNvSpPr/>
              <p:nvPr/>
            </p:nvSpPr>
            <p:spPr>
              <a:xfrm>
                <a:off x="4035240" y="1393200"/>
                <a:ext cx="71892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17"/>
              <p:cNvSpPr/>
              <p:nvPr/>
            </p:nvSpPr>
            <p:spPr>
              <a:xfrm>
                <a:off x="2957400" y="813600"/>
                <a:ext cx="143964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Прямая соединительная линия 18"/>
              <p:cNvSpPr/>
              <p:nvPr/>
            </p:nvSpPr>
            <p:spPr>
              <a:xfrm>
                <a:off x="1871640" y="813600"/>
                <a:ext cx="10810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19"/>
              <p:cNvSpPr/>
              <p:nvPr/>
            </p:nvSpPr>
            <p:spPr>
              <a:xfrm>
                <a:off x="7269480" y="1857600"/>
                <a:ext cx="0" cy="1076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Прямая соединительная линия 20"/>
              <p:cNvSpPr/>
              <p:nvPr/>
            </p:nvSpPr>
            <p:spPr>
              <a:xfrm>
                <a:off x="4743360" y="1297080"/>
                <a:ext cx="0" cy="1076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Прямая соединительная линия 21"/>
              <p:cNvSpPr/>
              <p:nvPr/>
            </p:nvSpPr>
            <p:spPr>
              <a:xfrm>
                <a:off x="4395600" y="717840"/>
                <a:ext cx="0" cy="1076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Прямая соединительная линия 22"/>
              <p:cNvSpPr/>
              <p:nvPr/>
            </p:nvSpPr>
            <p:spPr>
              <a:xfrm>
                <a:off x="1871640" y="717840"/>
                <a:ext cx="0" cy="1076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Прямая соединительная линия 23"/>
              <p:cNvSpPr/>
              <p:nvPr/>
            </p:nvSpPr>
            <p:spPr>
              <a:xfrm>
                <a:off x="1877760" y="1290960"/>
                <a:ext cx="0" cy="1076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Прямая соединительная линия 24"/>
              <p:cNvSpPr/>
              <p:nvPr/>
            </p:nvSpPr>
            <p:spPr>
              <a:xfrm>
                <a:off x="1877760" y="1857600"/>
                <a:ext cx="0" cy="1076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Прямая соединительная линия 25"/>
              <p:cNvSpPr/>
              <p:nvPr/>
            </p:nvSpPr>
            <p:spPr>
              <a:xfrm>
                <a:off x="2963880" y="717840"/>
                <a:ext cx="0" cy="1076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Прямая соединительная линия 26"/>
              <p:cNvSpPr/>
              <p:nvPr/>
            </p:nvSpPr>
            <p:spPr>
              <a:xfrm>
                <a:off x="4033800" y="1297080"/>
                <a:ext cx="0" cy="1076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Прямая соединительная линия 27"/>
              <p:cNvSpPr/>
              <p:nvPr/>
            </p:nvSpPr>
            <p:spPr>
              <a:xfrm>
                <a:off x="5111640" y="1851120"/>
                <a:ext cx="0" cy="1076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28"/>
              <p:cNvSpPr/>
              <p:nvPr/>
            </p:nvSpPr>
            <p:spPr>
              <a:xfrm>
                <a:off x="2930400" y="1351800"/>
                <a:ext cx="71280" cy="727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Овал 29"/>
              <p:cNvSpPr/>
              <p:nvPr/>
            </p:nvSpPr>
            <p:spPr>
              <a:xfrm>
                <a:off x="2922480" y="1912320"/>
                <a:ext cx="71280" cy="712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Овал 30"/>
              <p:cNvSpPr/>
              <p:nvPr/>
            </p:nvSpPr>
            <p:spPr>
              <a:xfrm>
                <a:off x="3659040" y="778680"/>
                <a:ext cx="72720" cy="72720"/>
              </a:xfrm>
              <a:prstGeom prst="ellipse">
                <a:avLst/>
              </a:prstGeom>
              <a:solidFill>
                <a:srgbClr val="002060"/>
              </a:solidFill>
              <a:ln w="1260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Овал 31"/>
              <p:cNvSpPr/>
              <p:nvPr/>
            </p:nvSpPr>
            <p:spPr>
              <a:xfrm>
                <a:off x="4008240" y="1912320"/>
                <a:ext cx="71280" cy="712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Овал 32"/>
              <p:cNvSpPr/>
              <p:nvPr/>
            </p:nvSpPr>
            <p:spPr>
              <a:xfrm>
                <a:off x="5781600" y="1912320"/>
                <a:ext cx="71280" cy="71280"/>
              </a:xfrm>
              <a:prstGeom prst="ellipse">
                <a:avLst/>
              </a:prstGeom>
              <a:solidFill>
                <a:srgbClr val="002060"/>
              </a:solidFill>
              <a:ln w="1260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Овал 33"/>
              <p:cNvSpPr/>
              <p:nvPr/>
            </p:nvSpPr>
            <p:spPr>
              <a:xfrm>
                <a:off x="6539040" y="1905840"/>
                <a:ext cx="71280" cy="71280"/>
              </a:xfrm>
              <a:prstGeom prst="ellipse">
                <a:avLst/>
              </a:prstGeom>
              <a:solidFill>
                <a:srgbClr val="002060"/>
              </a:solidFill>
              <a:ln w="1260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Надпись 26"/>
            <p:cNvSpPr/>
            <p:nvPr/>
          </p:nvSpPr>
          <p:spPr>
            <a:xfrm>
              <a:off x="2287440" y="357120"/>
              <a:ext cx="38232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Courier New"/>
                  <a:ea typeface="Calibri"/>
                </a:rPr>
                <a:t>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Надпись 27"/>
            <p:cNvSpPr/>
            <p:nvPr/>
          </p:nvSpPr>
          <p:spPr>
            <a:xfrm>
              <a:off x="2670120" y="971640"/>
              <a:ext cx="56340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Courier New"/>
                  <a:ea typeface="Calibri"/>
                </a:rPr>
                <a:t>2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Надпись 28"/>
            <p:cNvSpPr/>
            <p:nvPr/>
          </p:nvSpPr>
          <p:spPr>
            <a:xfrm>
              <a:off x="4437000" y="1592280"/>
              <a:ext cx="38232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Courier New"/>
                  <a:ea typeface="Calibri"/>
                </a:rPr>
                <a:t>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Надпись 29"/>
            <p:cNvSpPr/>
            <p:nvPr/>
          </p:nvSpPr>
          <p:spPr>
            <a:xfrm>
              <a:off x="3508200" y="363240"/>
              <a:ext cx="3823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2060"/>
                  </a:solidFill>
                  <a:latin typeface="Courier New"/>
                  <a:ea typeface="Calibri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Надпись 30"/>
            <p:cNvSpPr/>
            <p:nvPr/>
          </p:nvSpPr>
          <p:spPr>
            <a:xfrm>
              <a:off x="4267080" y="779400"/>
              <a:ext cx="38088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002060"/>
                  </a:solidFill>
                  <a:uFillTx/>
                  <a:latin typeface="Courier New"/>
                  <a:ea typeface="Calibri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2060"/>
                  </a:solidFill>
                  <a:latin typeface="Courier New"/>
                  <a:ea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Надпись 31"/>
            <p:cNvSpPr/>
            <p:nvPr/>
          </p:nvSpPr>
          <p:spPr>
            <a:xfrm>
              <a:off x="4819680" y="2022840"/>
              <a:ext cx="38088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2060"/>
                  </a:solidFill>
                  <a:latin typeface="Courier New"/>
                  <a:ea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Надпись 32"/>
            <p:cNvSpPr/>
            <p:nvPr/>
          </p:nvSpPr>
          <p:spPr>
            <a:xfrm>
              <a:off x="5303880" y="1352520"/>
              <a:ext cx="38232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002060"/>
                  </a:solidFill>
                  <a:uFillTx/>
                  <a:latin typeface="Courier New"/>
                  <a:ea typeface="Calibri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2060"/>
                  </a:solidFill>
                  <a:latin typeface="Courier New"/>
                  <a:ea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Дуга 12"/>
            <p:cNvSpPr/>
            <p:nvPr/>
          </p:nvSpPr>
          <p:spPr>
            <a:xfrm flipV="1">
              <a:off x="4048200" y="1740960"/>
              <a:ext cx="1763640" cy="593640"/>
            </a:xfrm>
            <a:custGeom>
              <a:avLst/>
              <a:gdLst/>
              <a:ahLst/>
              <a:rect l="l" t="t" r="r" b="b"/>
              <a:pathLst>
                <a:path stroke="0" w="1764013" h="593910">
                  <a:moveTo>
                    <a:pt x="1958" y="316732"/>
                  </a:moveTo>
                  <a:cubicBezTo>
                    <a:pt x="-27467" y="168309"/>
                    <a:pt x="273824" y="35456"/>
                    <a:pt x="706845" y="5915"/>
                  </a:cubicBezTo>
                  <a:cubicBezTo>
                    <a:pt x="818400" y="-1696"/>
                    <a:pt x="933277" y="-1964"/>
                    <a:pt x="1045136" y="5123"/>
                  </a:cubicBezTo>
                  <a:cubicBezTo>
                    <a:pt x="1452751" y="30951"/>
                    <a:pt x="1751844" y="148909"/>
                    <a:pt x="1763656" y="288498"/>
                  </a:cubicBezTo>
                  <a:lnTo>
                    <a:pt x="882007" y="296955"/>
                  </a:lnTo>
                  <a:lnTo>
                    <a:pt x="1958" y="316732"/>
                  </a:lnTo>
                  <a:close/>
                </a:path>
                <a:path fill="none" w="1764013" h="593910">
                  <a:moveTo>
                    <a:pt x="1958" y="316732"/>
                  </a:moveTo>
                  <a:cubicBezTo>
                    <a:pt x="-27467" y="168309"/>
                    <a:pt x="273824" y="35456"/>
                    <a:pt x="706845" y="5915"/>
                  </a:cubicBezTo>
                  <a:cubicBezTo>
                    <a:pt x="818400" y="-1696"/>
                    <a:pt x="933277" y="-1964"/>
                    <a:pt x="1045136" y="5123"/>
                  </a:cubicBezTo>
                  <a:cubicBezTo>
                    <a:pt x="1452751" y="30951"/>
                    <a:pt x="1751844" y="148909"/>
                    <a:pt x="1763656" y="288498"/>
                  </a:cubicBezTo>
                </a:path>
              </a:pathLst>
            </a:custGeom>
            <a:noFill/>
            <a:ln w="28440">
              <a:solidFill>
                <a:srgbClr val="00206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8 кла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3116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Rectangle 4" descr=""/>
          <p:cNvPicPr/>
          <p:nvPr/>
        </p:nvPicPr>
        <p:blipFill>
          <a:blip r:embed="rId1"/>
          <a:stretch/>
        </p:blipFill>
        <p:spPr>
          <a:xfrm>
            <a:off x="476280" y="938160"/>
            <a:ext cx="7826400" cy="51577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18"/>
          <p:cNvSpPr/>
          <p:nvPr/>
        </p:nvSpPr>
        <p:spPr>
          <a:xfrm>
            <a:off x="0" y="0"/>
            <a:ext cx="913140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Объект 13"/>
          <p:cNvGraphicFramePr/>
          <p:nvPr/>
        </p:nvGraphicFramePr>
        <p:xfrm>
          <a:off x="1692360" y="1600200"/>
          <a:ext cx="5394240" cy="1052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Объект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2360" y="1600200"/>
                    <a:ext cx="5394240" cy="10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52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Rectangle 3" descr=""/>
          <p:cNvPicPr/>
          <p:nvPr/>
        </p:nvPicPr>
        <p:blipFill>
          <a:blip r:embed="rId1"/>
          <a:stretch/>
        </p:blipFill>
        <p:spPr>
          <a:xfrm>
            <a:off x="324000" y="652320"/>
            <a:ext cx="8362800" cy="5473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6" name="Объект 4"/>
          <p:cNvGraphicFramePr/>
          <p:nvPr/>
        </p:nvGraphicFramePr>
        <p:xfrm>
          <a:off x="2771640" y="735120"/>
          <a:ext cx="5178600" cy="1009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" name="Объект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71640" y="735120"/>
                    <a:ext cx="5178600" cy="100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560" y="5158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17440" y="1915920"/>
            <a:ext cx="8515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5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покраску большого деревянного куба размером 2014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014 ушел 1 кг краски. Покрашенный куб распилили на кубики размером 1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Сколько ещё килограммов краски необходимо для покраски неокрашенных граней маленьких кубиков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9" descr=""/>
          <p:cNvPicPr/>
          <p:nvPr/>
        </p:nvPicPr>
        <p:blipFill>
          <a:blip r:embed="rId1"/>
          <a:stretch/>
        </p:blipFill>
        <p:spPr>
          <a:xfrm>
            <a:off x="6659640" y="747720"/>
            <a:ext cx="1877760" cy="14810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1" descr=""/>
          <p:cNvPicPr/>
          <p:nvPr/>
        </p:nvPicPr>
        <p:blipFill>
          <a:blip r:embed="rId2"/>
          <a:stretch/>
        </p:blipFill>
        <p:spPr>
          <a:xfrm>
            <a:off x="1116000" y="907920"/>
            <a:ext cx="1208160" cy="12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96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ешение.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 получить маленькие кубики, необходимо сделать 2013 параллельных распилов в каждом из трех перпендикулярных направлений. При таком распиле красить надо две грани размером 2014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01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013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граней –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х к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 гране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     1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твет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2013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труктура заданий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 их оцени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874800"/>
                <a:gridCol w="1368360"/>
                <a:gridCol w="3384360"/>
                <a:gridCol w="2602080"/>
              </a:tblGrid>
              <a:tr h="1185840">
                <a:tc>
                  <a:txBody>
                    <a:bodyPr lIns="0" rIns="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отве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и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4400">
                <a:tc>
                  <a:txBody>
                    <a:bodyPr lIns="0" rIns="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ь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кода (1, 2, 3 и 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лько один вер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ный ответ – 1 балл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ерный – 0 балл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5680">
                <a:tc>
                  <a:txBody>
                    <a:bodyPr lIns="0" rIns="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ь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ободный отв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ое число ил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ечная десятичная дроб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 единиц измерения (!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ный ответ – 2 балл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ерный – 0 балл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9 кла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3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Окружность, проходящая через вершины 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ромба 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, пересекает продолжение его стороны  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D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точке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Найдите площадь ромба 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, если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B=5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M=6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5229360"/>
            <a:ext cx="82915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твет. 2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0040" y="512280"/>
            <a:ext cx="8229600" cy="7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еше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Окружность"/>
          <p:cNvGrpSpPr/>
          <p:nvPr/>
        </p:nvGrpSpPr>
        <p:grpSpPr>
          <a:xfrm>
            <a:off x="2917800" y="738360"/>
            <a:ext cx="4318200" cy="4246560"/>
            <a:chOff x="2917800" y="738360"/>
            <a:chExt cx="4318200" cy="4246560"/>
          </a:xfrm>
        </p:grpSpPr>
        <p:sp>
          <p:nvSpPr>
            <p:cNvPr id="129" name="Ромб 4"/>
            <p:cNvSpPr/>
            <p:nvPr/>
          </p:nvSpPr>
          <p:spPr>
            <a:xfrm>
              <a:off x="4873680" y="1154160"/>
              <a:ext cx="2001960" cy="3462480"/>
            </a:xfrm>
            <a:prstGeom prst="diamond">
              <a:avLst/>
            </a:prstGeom>
            <a:noFill/>
            <a:ln w="28440">
              <a:solidFill>
                <a:srgbClr val="3c8c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Овал 5"/>
            <p:cNvSpPr/>
            <p:nvPr/>
          </p:nvSpPr>
          <p:spPr>
            <a:xfrm>
              <a:off x="2917800" y="893880"/>
              <a:ext cx="3984840" cy="3984840"/>
            </a:xfrm>
            <a:prstGeom prst="ellipse">
              <a:avLst/>
            </a:prstGeom>
            <a:noFill/>
            <a:ln w="28440">
              <a:solidFill>
                <a:srgbClr val="3c8c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Прямая соединительная линия 6"/>
            <p:cNvSpPr/>
            <p:nvPr/>
          </p:nvSpPr>
          <p:spPr>
            <a:xfrm flipH="1">
              <a:off x="3905280" y="2889360"/>
              <a:ext cx="968400" cy="1730520"/>
            </a:xfrm>
            <a:prstGeom prst="line">
              <a:avLst/>
            </a:prstGeom>
            <a:ln w="12600">
              <a:solidFill>
                <a:srgbClr val="3c8c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Прямая соединительная линия 7"/>
            <p:cNvSpPr/>
            <p:nvPr/>
          </p:nvSpPr>
          <p:spPr>
            <a:xfrm flipH="1" flipV="1">
              <a:off x="3904920" y="4604040"/>
              <a:ext cx="1970280" cy="10800"/>
            </a:xfrm>
            <a:prstGeom prst="line">
              <a:avLst/>
            </a:prstGeom>
            <a:ln w="28440">
              <a:solidFill>
                <a:srgbClr val="3c8c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Прямая соединительная линия 8"/>
            <p:cNvSpPr/>
            <p:nvPr/>
          </p:nvSpPr>
          <p:spPr>
            <a:xfrm flipH="1" flipV="1">
              <a:off x="4354560" y="3799080"/>
              <a:ext cx="1519200" cy="814320"/>
            </a:xfrm>
            <a:prstGeom prst="line">
              <a:avLst/>
            </a:prstGeom>
            <a:ln w="12600">
              <a:solidFill>
                <a:srgbClr val="3c8c9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Прямая соединительная линия 9"/>
            <p:cNvSpPr/>
            <p:nvPr/>
          </p:nvSpPr>
          <p:spPr>
            <a:xfrm>
              <a:off x="5873760" y="1147680"/>
              <a:ext cx="0" cy="3451320"/>
            </a:xfrm>
            <a:prstGeom prst="line">
              <a:avLst/>
            </a:prstGeom>
            <a:ln w="12600">
              <a:solidFill>
                <a:srgbClr val="3c8c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Прямая соединительная линия 10"/>
            <p:cNvSpPr/>
            <p:nvPr/>
          </p:nvSpPr>
          <p:spPr>
            <a:xfrm flipH="1">
              <a:off x="6356520" y="2041920"/>
              <a:ext cx="126360" cy="73080"/>
            </a:xfrm>
            <a:prstGeom prst="line">
              <a:avLst/>
            </a:prstGeom>
            <a:ln w="12600">
              <a:solidFill>
                <a:srgbClr val="3c8c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Прямая соединительная линия 11"/>
            <p:cNvSpPr/>
            <p:nvPr/>
          </p:nvSpPr>
          <p:spPr>
            <a:xfrm>
              <a:off x="4827600" y="4538880"/>
              <a:ext cx="0" cy="147600"/>
            </a:xfrm>
            <a:prstGeom prst="line">
              <a:avLst/>
            </a:prstGeom>
            <a:ln w="12600">
              <a:solidFill>
                <a:srgbClr val="3c8c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Прямая соединительная линия 12"/>
            <p:cNvSpPr/>
            <p:nvPr/>
          </p:nvSpPr>
          <p:spPr>
            <a:xfrm flipH="1">
              <a:off x="5251680" y="3608280"/>
              <a:ext cx="128160" cy="73800"/>
            </a:xfrm>
            <a:prstGeom prst="line">
              <a:avLst/>
            </a:prstGeom>
            <a:ln w="12600">
              <a:solidFill>
                <a:srgbClr val="3c8c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Прямая соединительная линия 13"/>
            <p:cNvSpPr/>
            <p:nvPr/>
          </p:nvSpPr>
          <p:spPr>
            <a:xfrm flipH="1" flipV="1">
              <a:off x="6388560" y="3581280"/>
              <a:ext cx="128160" cy="73800"/>
            </a:xfrm>
            <a:prstGeom prst="line">
              <a:avLst/>
            </a:prstGeom>
            <a:ln w="12600">
              <a:solidFill>
                <a:srgbClr val="3c8c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Прямая соединительная линия 14"/>
            <p:cNvSpPr/>
            <p:nvPr/>
          </p:nvSpPr>
          <p:spPr>
            <a:xfrm flipH="1" flipV="1">
              <a:off x="5251680" y="2087640"/>
              <a:ext cx="128160" cy="73800"/>
            </a:xfrm>
            <a:prstGeom prst="line">
              <a:avLst/>
            </a:prstGeom>
            <a:ln w="12600">
              <a:solidFill>
                <a:srgbClr val="3c8c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Прямоугольник 15"/>
            <p:cNvSpPr/>
            <p:nvPr/>
          </p:nvSpPr>
          <p:spPr>
            <a:xfrm rot="1740000">
              <a:off x="4385880" y="3713040"/>
              <a:ext cx="156960" cy="137880"/>
            </a:xfrm>
            <a:prstGeom prst="rect">
              <a:avLst/>
            </a:prstGeom>
            <a:noFill/>
            <a:ln w="12600">
              <a:solidFill>
                <a:srgbClr val="3c8c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Надпись 55"/>
            <p:cNvSpPr/>
            <p:nvPr/>
          </p:nvSpPr>
          <p:spPr>
            <a:xfrm>
              <a:off x="3963960" y="3467160"/>
              <a:ext cx="42516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060"/>
                  </a:solidFill>
                  <a:latin typeface="Courier New"/>
                  <a:ea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Надпись 56"/>
            <p:cNvSpPr/>
            <p:nvPr/>
          </p:nvSpPr>
          <p:spPr>
            <a:xfrm>
              <a:off x="4203720" y="3799080"/>
              <a:ext cx="42696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Courier New"/>
                  <a:ea typeface="Calibri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Надпись 57"/>
            <p:cNvSpPr/>
            <p:nvPr/>
          </p:nvSpPr>
          <p:spPr>
            <a:xfrm>
              <a:off x="4529160" y="2570400"/>
              <a:ext cx="42516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Courier New"/>
                  <a:ea typeface="Calibri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Надпись 58"/>
            <p:cNvSpPr/>
            <p:nvPr/>
          </p:nvSpPr>
          <p:spPr>
            <a:xfrm>
              <a:off x="6810840" y="2641680"/>
              <a:ext cx="42516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Courier New"/>
                  <a:ea typeface="Calibri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Надпись 59"/>
            <p:cNvSpPr/>
            <p:nvPr/>
          </p:nvSpPr>
          <p:spPr>
            <a:xfrm>
              <a:off x="5743800" y="738360"/>
              <a:ext cx="42696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Courier New"/>
                  <a:ea typeface="Calibri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Надпись 60"/>
            <p:cNvSpPr/>
            <p:nvPr/>
          </p:nvSpPr>
          <p:spPr>
            <a:xfrm>
              <a:off x="3541680" y="4538880"/>
              <a:ext cx="42516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Courier New"/>
                  <a:ea typeface="Calibri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Надпись 61"/>
            <p:cNvSpPr/>
            <p:nvPr/>
          </p:nvSpPr>
          <p:spPr>
            <a:xfrm>
              <a:off x="5743800" y="4572360"/>
              <a:ext cx="42696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Courier New"/>
                  <a:ea typeface="Calibri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Надпись 62"/>
            <p:cNvSpPr/>
            <p:nvPr/>
          </p:nvSpPr>
          <p:spPr>
            <a:xfrm>
              <a:off x="4892760" y="1679760"/>
              <a:ext cx="42696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060"/>
                  </a:solidFill>
                  <a:latin typeface="Courier New"/>
                  <a:ea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Дуга 24"/>
            <p:cNvSpPr/>
            <p:nvPr/>
          </p:nvSpPr>
          <p:spPr>
            <a:xfrm>
              <a:off x="5581800" y="1465200"/>
              <a:ext cx="314280" cy="284040"/>
            </a:xfrm>
            <a:custGeom>
              <a:avLst/>
              <a:gdLst/>
              <a:ahLst/>
              <a:rect l="l" t="t" r="r" b="b"/>
              <a:pathLst>
                <a:path stroke="0" w="230395" h="208296">
                  <a:moveTo>
                    <a:pt x="209778" y="163604"/>
                  </a:moveTo>
                  <a:cubicBezTo>
                    <a:pt x="183666" y="197555"/>
                    <a:pt x="137811" y="214324"/>
                    <a:pt x="92934" y="206332"/>
                  </a:cubicBezTo>
                  <a:cubicBezTo>
                    <a:pt x="45062" y="197807"/>
                    <a:pt x="8323" y="162942"/>
                    <a:pt x="1224" y="119300"/>
                  </a:cubicBezTo>
                  <a:lnTo>
                    <a:pt x="115198" y="104148"/>
                  </a:lnTo>
                  <a:lnTo>
                    <a:pt x="209778" y="163604"/>
                  </a:lnTo>
                  <a:close/>
                </a:path>
                <a:path fill="none" w="230395" h="208296">
                  <a:moveTo>
                    <a:pt x="209778" y="163604"/>
                  </a:moveTo>
                  <a:cubicBezTo>
                    <a:pt x="183666" y="197555"/>
                    <a:pt x="137811" y="214324"/>
                    <a:pt x="92934" y="206332"/>
                  </a:cubicBezTo>
                  <a:cubicBezTo>
                    <a:pt x="45062" y="197807"/>
                    <a:pt x="8323" y="162942"/>
                    <a:pt x="1224" y="119300"/>
                  </a:cubicBezTo>
                </a:path>
              </a:pathLst>
            </a:custGeom>
            <a:noFill/>
            <a:ln w="12600">
              <a:solidFill>
                <a:srgbClr val="3c8c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Дуга 25"/>
            <p:cNvSpPr/>
            <p:nvPr/>
          </p:nvSpPr>
          <p:spPr>
            <a:xfrm>
              <a:off x="5855040" y="1492200"/>
              <a:ext cx="276120" cy="258480"/>
            </a:xfrm>
            <a:custGeom>
              <a:avLst/>
              <a:gdLst/>
              <a:ahLst/>
              <a:rect l="l" t="t" r="r" b="b"/>
              <a:pathLst>
                <a:path stroke="0" w="202468" h="189678">
                  <a:moveTo>
                    <a:pt x="202324" y="89787"/>
                  </a:moveTo>
                  <a:cubicBezTo>
                    <a:pt x="204738" y="132185"/>
                    <a:pt x="176779" y="170920"/>
                    <a:pt x="133878" y="184612"/>
                  </a:cubicBezTo>
                  <a:cubicBezTo>
                    <a:pt x="93658" y="197448"/>
                    <a:pt x="49162" y="185389"/>
                    <a:pt x="22470" y="154419"/>
                  </a:cubicBezTo>
                  <a:lnTo>
                    <a:pt x="101234" y="94839"/>
                  </a:lnTo>
                  <a:lnTo>
                    <a:pt x="202324" y="89787"/>
                  </a:lnTo>
                  <a:close/>
                </a:path>
                <a:path fill="none" w="202468" h="189678">
                  <a:moveTo>
                    <a:pt x="202324" y="89787"/>
                  </a:moveTo>
                  <a:cubicBezTo>
                    <a:pt x="204738" y="132185"/>
                    <a:pt x="176779" y="170920"/>
                    <a:pt x="133878" y="184612"/>
                  </a:cubicBezTo>
                  <a:cubicBezTo>
                    <a:pt x="93658" y="197448"/>
                    <a:pt x="49162" y="185389"/>
                    <a:pt x="22470" y="154419"/>
                  </a:cubicBezTo>
                </a:path>
              </a:pathLst>
            </a:custGeom>
            <a:noFill/>
            <a:ln w="12600">
              <a:solidFill>
                <a:srgbClr val="3c8c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2.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алера выкладывает «домики» из спичек (на рисунке изображены такие домики в два и три этажа). Сколько спичек понадобится Валере, чтобы построить дом из 10 этажей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6" descr=""/>
          <p:cNvPicPr/>
          <p:nvPr/>
        </p:nvPicPr>
        <p:blipFill>
          <a:blip r:embed="rId1"/>
          <a:stretch/>
        </p:blipFill>
        <p:spPr>
          <a:xfrm>
            <a:off x="4932360" y="3716280"/>
            <a:ext cx="3009960" cy="1873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"/>
          <p:cNvPicPr/>
          <p:nvPr/>
        </p:nvPicPr>
        <p:blipFill>
          <a:blip r:embed="rId2"/>
          <a:stretch/>
        </p:blipFill>
        <p:spPr>
          <a:xfrm>
            <a:off x="1332000" y="3716280"/>
            <a:ext cx="182556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015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79520" y="981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479520" y="1006560"/>
            <a:ext cx="8229600" cy="53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ешение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им взаимосвязь между количеством спичек и количеством этаж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этаж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+ 2 спичк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этажа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1+2)+3+4 спич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этажа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1+2+3+4)+5+6  спич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 этажей: (1+2+…+18)+19+20=21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т. 210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2880" y="188640"/>
            <a:ext cx="2949480" cy="71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231920"/>
            <a:ext cx="768672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ычислит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2 - 5) + 2 = 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. -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1979640" y="1947960"/>
            <a:ext cx="110491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Объект 5"/>
          <p:cNvGraphicFramePr/>
          <p:nvPr/>
        </p:nvGraphicFramePr>
        <p:xfrm>
          <a:off x="1258920" y="1846440"/>
          <a:ext cx="6967440" cy="98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846440"/>
                    <a:ext cx="6967440" cy="9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2" name="Прямоугольник 8" descr=""/>
          <p:cNvPicPr/>
          <p:nvPr/>
        </p:nvPicPr>
        <p:blipFill>
          <a:blip r:embed="rId3"/>
          <a:stretch/>
        </p:blipFill>
        <p:spPr>
          <a:xfrm>
            <a:off x="1474920" y="3432240"/>
            <a:ext cx="620532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2.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д вами четыре двери, на каждой из них написано по одному утверждению. Известно, что за каждой дверью находится либо дракон, либо несметные сокровища (общее число драконов и сокровищ не регламентировано; может быть, там везде драконы, а может, везде сокровища). Что именно находится за дверью, зависит от надписи на ней (за дверью сокровища тогда и только тогда, когда надпись истинна, дракон ‑ тогда и только тогда, когда надпись ложна). Какую дверь (по номеру) нужно открыть, чтобы не попасть в лапы дракона? Если такой двери нет, напишите в ответе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5760" y="4071600"/>
            <a:ext cx="8229600" cy="223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ерь 3: ложь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ерь 4: лож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ерь 2: ложь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ерь 1: прав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т.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Рисунок 1" descr=""/>
          <p:cNvPicPr/>
          <p:nvPr/>
        </p:nvPicPr>
        <p:blipFill>
          <a:blip r:embed="rId1"/>
          <a:stretch/>
        </p:blipFill>
        <p:spPr>
          <a:xfrm>
            <a:off x="716040" y="549360"/>
            <a:ext cx="7711920" cy="28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1 кла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3628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3.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теннисном клубе 189 членов: 8 состоят в клубе меньше трёх лет, 11 моложе 20 лет, 70 носят очки, 140 ‑ мужчины. Какое наименьшее возможное число членов клуба удовлетворяет сразу четырём условиям: состоят в клубе не меньше трёх лет, их возраст не меньше 20 лет, носят очки и являются мужчинам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Рисунок 1" descr=""/>
          <p:cNvPicPr/>
          <p:nvPr/>
        </p:nvPicPr>
        <p:blipFill>
          <a:blip r:embed="rId1"/>
          <a:stretch/>
        </p:blipFill>
        <p:spPr>
          <a:xfrm>
            <a:off x="5796000" y="4149720"/>
            <a:ext cx="26701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360" y="549360"/>
            <a:ext cx="8229600" cy="56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ешение.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тат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меньше трех лет в клубе – 18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раст не меньше 20 лет –    178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сят очки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70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ужчины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140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нцип наихудшего вариан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0 – 49 =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1 – 11 =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 – 8 =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.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549360"/>
            <a:ext cx="820728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5.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им выкладывает «домики» из спичек (на рисунке изображены такие домики в два и три этажа). Сколько этажей будет в «домике», построенном из 11 325 спиче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Рисунок 2" descr=""/>
          <p:cNvPicPr/>
          <p:nvPr/>
        </p:nvPicPr>
        <p:blipFill>
          <a:blip r:embed="rId1"/>
          <a:stretch/>
        </p:blipFill>
        <p:spPr>
          <a:xfrm>
            <a:off x="4788000" y="2924280"/>
            <a:ext cx="3473280" cy="216036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1" descr=""/>
          <p:cNvPicPr/>
          <p:nvPr/>
        </p:nvPicPr>
        <p:blipFill>
          <a:blip r:embed="rId2"/>
          <a:stretch/>
        </p:blipFill>
        <p:spPr>
          <a:xfrm>
            <a:off x="1674720" y="2914560"/>
            <a:ext cx="226872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деи решения некоторых задач</a:t>
            </a:r>
            <a:br>
              <a:rPr sz="36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5 класс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ша говорит правду только один день в недел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ажды она сказала: "Я лгу по понедельникам и вторникам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следующий день она сказала: "Сегодня или четверг, или суббота, или воскресенье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ще на следующий день она сказала: "Я лгу по средам и пятницам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кой день недели Маша сделала первое свое заявл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)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торни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четвер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пятниц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4)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 воскресен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tretch/>
        </p:blipFill>
        <p:spPr>
          <a:xfrm>
            <a:off x="328680" y="579600"/>
            <a:ext cx="8370720" cy="56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Благодарю за внимание и интерес к математик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51552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ешение.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аткая запись услов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 – я лгу по ПН и В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 – сегодня или ЧТ, или СБ, или В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 – я лгу по СР и П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 и 3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не может говорить правду в ЧТ, в СБ и в ВС, так как 1 и 3 будут правд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чит, заявление 2 всегда лож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бор: правду говорит в ПН, ВТ, СР или ПТ, т.е. четыре вариан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вод: правду говорит во вторник (3-й день), а первое заявление - в воскресен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94920" y="404640"/>
            <a:ext cx="820908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5.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Новогоднем празднике дети пытались угадать, сколько подарков в мешке у Деда Мороза. Предлагались следующие вариант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1, 46, 60, 45 и 55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эти варианты были неверные, причем отличались от правильного отве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8, 12, 7, 2 и 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орядок необязательно соответствует порядку исходных чисел, а также неизвестно: угадываемое число на столько больше или меньше). Сколько подарков в мешке у Деда Мороза? Если возможны несколько вариантов ответов, то в бланке укажите их сум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3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ешение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мение выдвигать гипотезы, подмечая закономер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рианты: 41, 46, 60, 45 и 5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личия: на 8, 12, 7, 2 и 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ажды отличие на 7, но при этом среди предположений нет одинаковых вариан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ой вывод можно сделат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462960"/>
            <a:ext cx="6858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9640" y="1125000"/>
            <a:ext cx="7920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о из предположений на 7 больше, а другое – на 7 меньше, т.е. разница между ними 1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можны два вариан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6 и 60, тогда угадываемое число (количество подарков) – 5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1 и 55, угадываемое число – 4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рка отличий приводит только к одному верному отве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т. 5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клас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.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с соснового бруска 27 кг, а дубового бруска – 45 кг. На весы положили 10 брусков, их общий вес оказался равным 396 кг. Сколько было дубовых бруск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404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дея: перебор по последней циф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количество дубовых брусков нечетно, то число сосновых брусков должно равняться тр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+ 45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 = 81 + 315 = 3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количество дубовых брусков четно, то число сосновых брусков должно равняться вось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 + 45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= 216 + 90 ≠ 3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.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8T13:14:00Z</dcterms:created>
  <dc:creator>Bernikov</dc:creator>
  <dc:description/>
  <dc:language>en-US</dc:language>
  <cp:lastModifiedBy>Scaner</cp:lastModifiedBy>
  <dcterms:modified xsi:type="dcterms:W3CDTF">2014-12-16T05:09:46Z</dcterms:modified>
  <cp:revision>166</cp:revision>
  <dc:subject/>
  <dc:title>Спецификация  заданий по математике заочного этапа  XIV турнира  им. М.В.Ломоносова</dc:title>
</cp:coreProperties>
</file>