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CA19-8A2F-497A-B67F-F342368354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B3B3-3FC9-4B36-A2A1-B42A177B5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F162-593F-4DE2-984E-47D06EDA3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2116-D2D7-458F-AB47-39C5247B5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3EB8-14FB-4F6B-BA31-0C4DEE0EFA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DE57-0859-4A71-A7AC-5DE19EDDDF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E59B-36EF-49A2-A109-A7AECEA8D6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4280-3B9C-48CC-9A27-DD92832EE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9AD-5F9C-4B5D-BE43-19DF54FAA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61B6-F162-41C6-ABD8-5C1F5A298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D1C-40EC-4C24-8591-3E8FD090E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650D-F6A2-49B1-B885-B38AE46C2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5522-2930-4C04-A001-D4493A1CC6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A3F-2C5F-4514-8D53-E815E2CEB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AAFD-AC39-4718-ACBA-5CC55EE39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973-55D1-4605-BA21-0144445C48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CCBF-68B8-4C49-BC8F-32900308F3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F090-3B15-4F52-9429-5B18C6F48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94EE-2667-4034-9D51-2A0483A5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1E8-6A21-4996-AAB6-4E16811F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05E9-D465-4F7C-A226-608B0943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3AE7-928F-4D83-B699-8FF766C4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3B6-D566-47BD-A4AD-A7A90AAE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DFD6-E0E5-403E-94C9-11CAF909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109-C051-4F03-8E12-9413927F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C16-CDF1-4E6E-A7D6-62B30375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BC9-F1B4-41C7-8122-CFEAE116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33C-D768-484B-933B-893F598E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6A9-85D5-43F5-99A0-F8FEF494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AFE-F612-4670-925E-5CE51E63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BE9C-7B05-4F85-BEBA-00BB83FFF5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хемы как средства организации мышления в процессе обучения математике. Часть 2. (Анализ итогов заочного этапа XVI Ломоносовского турнира в секции математик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5-11 классы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лого_ЛТ_2015"/>
          <p:cNvPicPr/>
          <p:nvPr/>
        </p:nvPicPr>
        <p:blipFill>
          <a:blip r:embed="rId1"/>
          <a:stretch/>
        </p:blipFill>
        <p:spPr>
          <a:xfrm>
            <a:off x="500040" y="476280"/>
            <a:ext cx="7956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 круглым столом сидят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человек – рыцари (которые всегда говорят правду) и лжецы (всегда лгут). Каждый из сидящих за столом произнес: "Напротив меня сидит лжец". Сколько всего лжецов сидит за стол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каждой паре сидящих напротив друг друга – один рыцарь и один лж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лжец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течения реки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ляет 3 км/ч, а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1км/ч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 =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4 км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= 15 км. Катер плыл по течению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15 минут меньше, чем о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собственную скорость кат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0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)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 11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2 км/ч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13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156360" y="3578400"/>
            <a:ext cx="2160720" cy="25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tangle 3" descr=""/>
          <p:cNvPicPr/>
          <p:nvPr/>
        </p:nvPicPr>
        <p:blipFill>
          <a:blip r:embed="rId1"/>
          <a:stretch/>
        </p:blipFill>
        <p:spPr>
          <a:xfrm>
            <a:off x="328680" y="433440"/>
            <a:ext cx="83707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24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зиф обязан каждый день втаскивать большой камень на вершину горы. В первый день он потратил на подъем в гору и спуск с нее 7 часов. Эта работа утомительна, и в каждый следующий день он поднимается вдвое медленнее, чем в предыдущий, но зато спускается вдвое быстрее. Сколько времени он потратил на подъем и спуск в третий день, если во второй день ему понадобилось 8 ча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вина  спуска – 2 часа, т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4 часа, П – 3 ча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день: 4П +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= 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1 =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Отрезки"/>
          <p:cNvGrpSpPr/>
          <p:nvPr/>
        </p:nvGrpSpPr>
        <p:grpSpPr>
          <a:xfrm>
            <a:off x="1871640" y="357120"/>
            <a:ext cx="5400720" cy="1981440"/>
            <a:chOff x="1871640" y="357120"/>
            <a:chExt cx="5400720" cy="1981440"/>
          </a:xfrm>
        </p:grpSpPr>
        <p:grpSp>
          <p:nvGrpSpPr>
            <p:cNvPr id="78" name="Группа 4"/>
            <p:cNvGrpSpPr/>
            <p:nvPr/>
          </p:nvGrpSpPr>
          <p:grpSpPr>
            <a:xfrm>
              <a:off x="1871640" y="717840"/>
              <a:ext cx="5400720" cy="1265760"/>
              <a:chOff x="1871640" y="717840"/>
              <a:chExt cx="5400720" cy="1265760"/>
            </a:xfrm>
          </p:grpSpPr>
          <p:sp>
            <p:nvSpPr>
              <p:cNvPr id="79" name="Прямая соединительная линия 13"/>
              <p:cNvSpPr/>
              <p:nvPr/>
            </p:nvSpPr>
            <p:spPr>
              <a:xfrm>
                <a:off x="5113440" y="1953720"/>
                <a:ext cx="215892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14"/>
              <p:cNvSpPr/>
              <p:nvPr/>
            </p:nvSpPr>
            <p:spPr>
              <a:xfrm>
                <a:off x="1871640" y="1953720"/>
                <a:ext cx="3240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15"/>
              <p:cNvSpPr/>
              <p:nvPr/>
            </p:nvSpPr>
            <p:spPr>
              <a:xfrm>
                <a:off x="1871640" y="1393200"/>
                <a:ext cx="216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Прямая соединительная линия 16"/>
              <p:cNvSpPr/>
              <p:nvPr/>
            </p:nvSpPr>
            <p:spPr>
              <a:xfrm>
                <a:off x="4035240" y="1393200"/>
                <a:ext cx="71892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17"/>
              <p:cNvSpPr/>
              <p:nvPr/>
            </p:nvSpPr>
            <p:spPr>
              <a:xfrm>
                <a:off x="2957400" y="813600"/>
                <a:ext cx="1439640" cy="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Прямая соединительная линия 18"/>
              <p:cNvSpPr/>
              <p:nvPr/>
            </p:nvSpPr>
            <p:spPr>
              <a:xfrm>
                <a:off x="1871640" y="813600"/>
                <a:ext cx="1081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19"/>
              <p:cNvSpPr/>
              <p:nvPr/>
            </p:nvSpPr>
            <p:spPr>
              <a:xfrm>
                <a:off x="7269480" y="185760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Прямая соединительная линия 20"/>
              <p:cNvSpPr/>
              <p:nvPr/>
            </p:nvSpPr>
            <p:spPr>
              <a:xfrm>
                <a:off x="4743360" y="129708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Прямая соединительная линия 21"/>
              <p:cNvSpPr/>
              <p:nvPr/>
            </p:nvSpPr>
            <p:spPr>
              <a:xfrm>
                <a:off x="4395600" y="717840"/>
                <a:ext cx="0" cy="107640"/>
              </a:xfrm>
              <a:prstGeom prst="line">
                <a:avLst/>
              </a:prstGeom>
              <a:ln w="2844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Прямая соединительная линия 22"/>
              <p:cNvSpPr/>
              <p:nvPr/>
            </p:nvSpPr>
            <p:spPr>
              <a:xfrm>
                <a:off x="1871640" y="71784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Прямая соединительная линия 23"/>
              <p:cNvSpPr/>
              <p:nvPr/>
            </p:nvSpPr>
            <p:spPr>
              <a:xfrm>
                <a:off x="1877760" y="129096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Прямая соединительная линия 24"/>
              <p:cNvSpPr/>
              <p:nvPr/>
            </p:nvSpPr>
            <p:spPr>
              <a:xfrm>
                <a:off x="1877760" y="185760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Прямая соединительная линия 25"/>
              <p:cNvSpPr/>
              <p:nvPr/>
            </p:nvSpPr>
            <p:spPr>
              <a:xfrm>
                <a:off x="2963880" y="71784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ая соединительная линия 26"/>
              <p:cNvSpPr/>
              <p:nvPr/>
            </p:nvSpPr>
            <p:spPr>
              <a:xfrm>
                <a:off x="4033800" y="129708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Прямая соединительная линия 27"/>
              <p:cNvSpPr/>
              <p:nvPr/>
            </p:nvSpPr>
            <p:spPr>
              <a:xfrm>
                <a:off x="5111640" y="1851120"/>
                <a:ext cx="0" cy="107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28"/>
              <p:cNvSpPr/>
              <p:nvPr/>
            </p:nvSpPr>
            <p:spPr>
              <a:xfrm>
                <a:off x="2930400" y="1351800"/>
                <a:ext cx="71280" cy="727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Овал 29"/>
              <p:cNvSpPr/>
              <p:nvPr/>
            </p:nvSpPr>
            <p:spPr>
              <a:xfrm>
                <a:off x="2922480" y="19123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Овал 30"/>
              <p:cNvSpPr/>
              <p:nvPr/>
            </p:nvSpPr>
            <p:spPr>
              <a:xfrm>
                <a:off x="3659040" y="778680"/>
                <a:ext cx="72720" cy="7272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Овал 31"/>
              <p:cNvSpPr/>
              <p:nvPr/>
            </p:nvSpPr>
            <p:spPr>
              <a:xfrm>
                <a:off x="4008240" y="1912320"/>
                <a:ext cx="71280" cy="712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Овал 32"/>
              <p:cNvSpPr/>
              <p:nvPr/>
            </p:nvSpPr>
            <p:spPr>
              <a:xfrm>
                <a:off x="5781600" y="1912320"/>
                <a:ext cx="71280" cy="7128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Овал 33"/>
              <p:cNvSpPr/>
              <p:nvPr/>
            </p:nvSpPr>
            <p:spPr>
              <a:xfrm>
                <a:off x="6539040" y="1905840"/>
                <a:ext cx="71280" cy="71280"/>
              </a:xfrm>
              <a:prstGeom prst="ellipse">
                <a:avLst/>
              </a:prstGeom>
              <a:solidFill>
                <a:srgbClr val="002060"/>
              </a:solidFill>
              <a:ln w="1260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Надпись 26"/>
            <p:cNvSpPr/>
            <p:nvPr/>
          </p:nvSpPr>
          <p:spPr>
            <a:xfrm>
              <a:off x="2287440" y="357120"/>
              <a:ext cx="38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Надпись 27"/>
            <p:cNvSpPr/>
            <p:nvPr/>
          </p:nvSpPr>
          <p:spPr>
            <a:xfrm>
              <a:off x="2670120" y="971640"/>
              <a:ext cx="5634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2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Надпись 28"/>
            <p:cNvSpPr/>
            <p:nvPr/>
          </p:nvSpPr>
          <p:spPr>
            <a:xfrm>
              <a:off x="4437000" y="1592280"/>
              <a:ext cx="38232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urier New"/>
                  <a:ea typeface="Calibri"/>
                </a:rPr>
                <a:t>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Надпись 29"/>
            <p:cNvSpPr/>
            <p:nvPr/>
          </p:nvSpPr>
          <p:spPr>
            <a:xfrm>
              <a:off x="3508200" y="363240"/>
              <a:ext cx="3823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Надпись 30"/>
            <p:cNvSpPr/>
            <p:nvPr/>
          </p:nvSpPr>
          <p:spPr>
            <a:xfrm>
              <a:off x="4267080" y="779400"/>
              <a:ext cx="38088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Надпись 31"/>
            <p:cNvSpPr/>
            <p:nvPr/>
          </p:nvSpPr>
          <p:spPr>
            <a:xfrm>
              <a:off x="4819680" y="2022840"/>
              <a:ext cx="38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Надпись 32"/>
            <p:cNvSpPr/>
            <p:nvPr/>
          </p:nvSpPr>
          <p:spPr>
            <a:xfrm>
              <a:off x="5303880" y="1352520"/>
              <a:ext cx="3823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u="sng">
                  <a:solidFill>
                    <a:srgbClr val="002060"/>
                  </a:solidFill>
                  <a:uFillTx/>
                  <a:latin typeface="Courier New"/>
                  <a:ea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Дуга 12"/>
            <p:cNvSpPr/>
            <p:nvPr/>
          </p:nvSpPr>
          <p:spPr>
            <a:xfrm flipV="1">
              <a:off x="4048200" y="1740960"/>
              <a:ext cx="1763640" cy="593640"/>
            </a:xfrm>
            <a:custGeom>
              <a:avLst/>
              <a:gdLst/>
              <a:ahLst/>
              <a:rect l="l" t="t" r="r" b="b"/>
              <a:pathLst>
                <a:path stroke="0" w="1764013" h="593910">
                  <a:moveTo>
                    <a:pt x="1958" y="316732"/>
                  </a:moveTo>
                  <a:cubicBezTo>
                    <a:pt x="-27467" y="168309"/>
                    <a:pt x="273824" y="35456"/>
                    <a:pt x="706845" y="5915"/>
                  </a:cubicBezTo>
                  <a:cubicBezTo>
                    <a:pt x="818400" y="-1696"/>
                    <a:pt x="933277" y="-1964"/>
                    <a:pt x="1045136" y="5123"/>
                  </a:cubicBezTo>
                  <a:cubicBezTo>
                    <a:pt x="1452751" y="30951"/>
                    <a:pt x="1751844" y="148909"/>
                    <a:pt x="1763656" y="288498"/>
                  </a:cubicBezTo>
                  <a:lnTo>
                    <a:pt x="882007" y="296955"/>
                  </a:lnTo>
                  <a:lnTo>
                    <a:pt x="1958" y="316732"/>
                  </a:lnTo>
                  <a:close/>
                </a:path>
                <a:path fill="none" w="1764013" h="593910">
                  <a:moveTo>
                    <a:pt x="1958" y="316732"/>
                  </a:moveTo>
                  <a:cubicBezTo>
                    <a:pt x="-27467" y="168309"/>
                    <a:pt x="273824" y="35456"/>
                    <a:pt x="706845" y="5915"/>
                  </a:cubicBezTo>
                  <a:cubicBezTo>
                    <a:pt x="818400" y="-1696"/>
                    <a:pt x="933277" y="-1964"/>
                    <a:pt x="1045136" y="5123"/>
                  </a:cubicBezTo>
                  <a:cubicBezTo>
                    <a:pt x="1452751" y="30951"/>
                    <a:pt x="1751844" y="148909"/>
                    <a:pt x="1763656" y="288498"/>
                  </a:cubicBezTo>
                </a:path>
              </a:pathLst>
            </a:custGeom>
            <a:noFill/>
            <a:ln w="28440">
              <a:solidFill>
                <a:srgbClr val="00206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Rectangle 4" descr=""/>
          <p:cNvPicPr/>
          <p:nvPr/>
        </p:nvPicPr>
        <p:blipFill>
          <a:blip r:embed="rId1"/>
          <a:stretch/>
        </p:blipFill>
        <p:spPr>
          <a:xfrm>
            <a:off x="476280" y="938160"/>
            <a:ext cx="7826400" cy="515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0" y="0"/>
            <a:ext cx="9131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13"/>
          <p:cNvGraphicFramePr/>
          <p:nvPr/>
        </p:nvGraphicFramePr>
        <p:xfrm>
          <a:off x="1692360" y="1600200"/>
          <a:ext cx="539424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Объект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1600200"/>
                    <a:ext cx="539424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3" descr=""/>
          <p:cNvPicPr/>
          <p:nvPr/>
        </p:nvPicPr>
        <p:blipFill>
          <a:blip r:embed="rId1"/>
          <a:stretch/>
        </p:blipFill>
        <p:spPr>
          <a:xfrm>
            <a:off x="324000" y="652320"/>
            <a:ext cx="836280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Объект 4"/>
          <p:cNvGraphicFramePr/>
          <p:nvPr/>
        </p:nvGraphicFramePr>
        <p:xfrm>
          <a:off x="2771640" y="735120"/>
          <a:ext cx="5178600" cy="100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735120"/>
                    <a:ext cx="517860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560" y="5158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17440" y="1915920"/>
            <a:ext cx="851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краску большого деревянного куба размером 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 ушел 1 кг краски. Покрашенный куб распилили на кубики размером 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колько ещё килограммов краски необходимо для покраски неокрашенных граней маленьких кубико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"/>
          <p:cNvPicPr/>
          <p:nvPr/>
        </p:nvPicPr>
        <p:blipFill>
          <a:blip r:embed="rId1"/>
          <a:stretch/>
        </p:blipFill>
        <p:spPr>
          <a:xfrm>
            <a:off x="6659640" y="747720"/>
            <a:ext cx="1877760" cy="1481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1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120816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96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получить маленькие кубики, необходимо сделать 2013 параллельных распилов в каждом из трех перпендикулярных направлений. При таком распиле красить надо две грани размером 2014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граней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х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гран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    1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01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уктура зада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их оцени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74800"/>
                <a:gridCol w="1368360"/>
                <a:gridCol w="3384360"/>
                <a:gridCol w="2602080"/>
              </a:tblGrid>
              <a:tr h="1185840">
                <a:tc>
                  <a:txBody>
                    <a:bodyPr lIns="0" rIns="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отв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кода (1, 2, 3 и 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ко один ве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й ответ – 1 бал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ый – 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5680"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ь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ный от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ое число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ечная десятичная дроб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единиц измерения (!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ый ответ – 2 балл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ый – 0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Окружность, проходящая через вершины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мба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пересекает продолжение его стороны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Найдите площадь ромба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B=5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M=6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22936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. 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0040" y="512280"/>
            <a:ext cx="82296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кружность"/>
          <p:cNvGrpSpPr/>
          <p:nvPr/>
        </p:nvGrpSpPr>
        <p:grpSpPr>
          <a:xfrm>
            <a:off x="2917800" y="738360"/>
            <a:ext cx="4318200" cy="4246560"/>
            <a:chOff x="2917800" y="738360"/>
            <a:chExt cx="4318200" cy="4246560"/>
          </a:xfrm>
        </p:grpSpPr>
        <p:sp>
          <p:nvSpPr>
            <p:cNvPr id="129" name="Ромб 4"/>
            <p:cNvSpPr/>
            <p:nvPr/>
          </p:nvSpPr>
          <p:spPr>
            <a:xfrm>
              <a:off x="4873680" y="1154160"/>
              <a:ext cx="2001960" cy="3462480"/>
            </a:xfrm>
            <a:prstGeom prst="diamond">
              <a:avLst/>
            </a:prstGeom>
            <a:noFill/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Овал 5"/>
            <p:cNvSpPr/>
            <p:nvPr/>
          </p:nvSpPr>
          <p:spPr>
            <a:xfrm>
              <a:off x="2917800" y="893880"/>
              <a:ext cx="3984840" cy="3984840"/>
            </a:xfrm>
            <a:prstGeom prst="ellipse">
              <a:avLst/>
            </a:prstGeom>
            <a:noFill/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рямая соединительная линия 6"/>
            <p:cNvSpPr/>
            <p:nvPr/>
          </p:nvSpPr>
          <p:spPr>
            <a:xfrm flipH="1">
              <a:off x="3905280" y="2889360"/>
              <a:ext cx="968400" cy="173052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рямая соединительная линия 7"/>
            <p:cNvSpPr/>
            <p:nvPr/>
          </p:nvSpPr>
          <p:spPr>
            <a:xfrm flipH="1" flipV="1">
              <a:off x="3904920" y="4604040"/>
              <a:ext cx="1970280" cy="10800"/>
            </a:xfrm>
            <a:prstGeom prst="line">
              <a:avLst/>
            </a:prstGeom>
            <a:ln w="2844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8"/>
            <p:cNvSpPr/>
            <p:nvPr/>
          </p:nvSpPr>
          <p:spPr>
            <a:xfrm flipH="1" flipV="1">
              <a:off x="4354560" y="3799080"/>
              <a:ext cx="1519200" cy="814320"/>
            </a:xfrm>
            <a:prstGeom prst="line">
              <a:avLst/>
            </a:prstGeom>
            <a:ln w="12600">
              <a:solidFill>
                <a:srgbClr val="3c8c9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9"/>
            <p:cNvSpPr/>
            <p:nvPr/>
          </p:nvSpPr>
          <p:spPr>
            <a:xfrm>
              <a:off x="5873760" y="1147680"/>
              <a:ext cx="0" cy="345132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рямая соединительная линия 10"/>
            <p:cNvSpPr/>
            <p:nvPr/>
          </p:nvSpPr>
          <p:spPr>
            <a:xfrm flipH="1">
              <a:off x="6356520" y="2041920"/>
              <a:ext cx="126360" cy="7308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ая соединительная линия 11"/>
            <p:cNvSpPr/>
            <p:nvPr/>
          </p:nvSpPr>
          <p:spPr>
            <a:xfrm>
              <a:off x="4827600" y="4538880"/>
              <a:ext cx="0" cy="1476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12"/>
            <p:cNvSpPr/>
            <p:nvPr/>
          </p:nvSpPr>
          <p:spPr>
            <a:xfrm flipH="1">
              <a:off x="5251680" y="360828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13"/>
            <p:cNvSpPr/>
            <p:nvPr/>
          </p:nvSpPr>
          <p:spPr>
            <a:xfrm flipH="1" flipV="1">
              <a:off x="6388560" y="358128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14"/>
            <p:cNvSpPr/>
            <p:nvPr/>
          </p:nvSpPr>
          <p:spPr>
            <a:xfrm flipH="1" flipV="1">
              <a:off x="5251680" y="2087640"/>
              <a:ext cx="128160" cy="73800"/>
            </a:xfrm>
            <a:prstGeom prst="line">
              <a:avLst/>
            </a:prstGeom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оугольник 15"/>
            <p:cNvSpPr/>
            <p:nvPr/>
          </p:nvSpPr>
          <p:spPr>
            <a:xfrm rot="1740000">
              <a:off x="4385880" y="3713040"/>
              <a:ext cx="156960" cy="137880"/>
            </a:xfrm>
            <a:prstGeom prst="rect">
              <a:avLst/>
            </a:pr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Надпись 55"/>
            <p:cNvSpPr/>
            <p:nvPr/>
          </p:nvSpPr>
          <p:spPr>
            <a:xfrm>
              <a:off x="3963960" y="346716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Надпись 56"/>
            <p:cNvSpPr/>
            <p:nvPr/>
          </p:nvSpPr>
          <p:spPr>
            <a:xfrm>
              <a:off x="4203720" y="379908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Надпись 57"/>
            <p:cNvSpPr/>
            <p:nvPr/>
          </p:nvSpPr>
          <p:spPr>
            <a:xfrm>
              <a:off x="4529160" y="257040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Надпись 58"/>
            <p:cNvSpPr/>
            <p:nvPr/>
          </p:nvSpPr>
          <p:spPr>
            <a:xfrm>
              <a:off x="6810840" y="2641680"/>
              <a:ext cx="425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Надпись 59"/>
            <p:cNvSpPr/>
            <p:nvPr/>
          </p:nvSpPr>
          <p:spPr>
            <a:xfrm>
              <a:off x="5743800" y="73836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Надпись 60"/>
            <p:cNvSpPr/>
            <p:nvPr/>
          </p:nvSpPr>
          <p:spPr>
            <a:xfrm>
              <a:off x="3541680" y="4538880"/>
              <a:ext cx="4251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Надпись 61"/>
            <p:cNvSpPr/>
            <p:nvPr/>
          </p:nvSpPr>
          <p:spPr>
            <a:xfrm>
              <a:off x="5743800" y="4572360"/>
              <a:ext cx="4269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Надпись 62"/>
            <p:cNvSpPr/>
            <p:nvPr/>
          </p:nvSpPr>
          <p:spPr>
            <a:xfrm>
              <a:off x="4892760" y="1679760"/>
              <a:ext cx="4269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Courier New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Дуга 24"/>
            <p:cNvSpPr/>
            <p:nvPr/>
          </p:nvSpPr>
          <p:spPr>
            <a:xfrm>
              <a:off x="5581800" y="1465200"/>
              <a:ext cx="314280" cy="284040"/>
            </a:xfrm>
            <a:custGeom>
              <a:avLst/>
              <a:gdLst/>
              <a:ahLst/>
              <a:rect l="l" t="t" r="r" b="b"/>
              <a:pathLst>
                <a:path stroke="0" w="230395" h="208296">
                  <a:moveTo>
                    <a:pt x="209778" y="163604"/>
                  </a:moveTo>
                  <a:cubicBezTo>
                    <a:pt x="183666" y="197555"/>
                    <a:pt x="137811" y="214324"/>
                    <a:pt x="92934" y="206332"/>
                  </a:cubicBezTo>
                  <a:cubicBezTo>
                    <a:pt x="45062" y="197807"/>
                    <a:pt x="8323" y="162942"/>
                    <a:pt x="1224" y="119300"/>
                  </a:cubicBezTo>
                  <a:lnTo>
                    <a:pt x="115198" y="104148"/>
                  </a:lnTo>
                  <a:lnTo>
                    <a:pt x="209778" y="163604"/>
                  </a:lnTo>
                  <a:close/>
                </a:path>
                <a:path fill="none" w="230395" h="208296">
                  <a:moveTo>
                    <a:pt x="209778" y="163604"/>
                  </a:moveTo>
                  <a:cubicBezTo>
                    <a:pt x="183666" y="197555"/>
                    <a:pt x="137811" y="214324"/>
                    <a:pt x="92934" y="206332"/>
                  </a:cubicBezTo>
                  <a:cubicBezTo>
                    <a:pt x="45062" y="197807"/>
                    <a:pt x="8323" y="162942"/>
                    <a:pt x="1224" y="119300"/>
                  </a:cubicBezTo>
                </a:path>
              </a:pathLst>
            </a:cu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Дуга 25"/>
            <p:cNvSpPr/>
            <p:nvPr/>
          </p:nvSpPr>
          <p:spPr>
            <a:xfrm>
              <a:off x="5855040" y="1492200"/>
              <a:ext cx="276120" cy="258480"/>
            </a:xfrm>
            <a:custGeom>
              <a:avLst/>
              <a:gdLst/>
              <a:ahLst/>
              <a:rect l="l" t="t" r="r" b="b"/>
              <a:pathLst>
                <a:path stroke="0" w="202468" h="189678">
                  <a:moveTo>
                    <a:pt x="202324" y="89787"/>
                  </a:moveTo>
                  <a:cubicBezTo>
                    <a:pt x="204738" y="132185"/>
                    <a:pt x="176779" y="170920"/>
                    <a:pt x="133878" y="184612"/>
                  </a:cubicBezTo>
                  <a:cubicBezTo>
                    <a:pt x="93658" y="197448"/>
                    <a:pt x="49162" y="185389"/>
                    <a:pt x="22470" y="154419"/>
                  </a:cubicBezTo>
                  <a:lnTo>
                    <a:pt x="101234" y="94839"/>
                  </a:lnTo>
                  <a:lnTo>
                    <a:pt x="202324" y="89787"/>
                  </a:lnTo>
                  <a:close/>
                </a:path>
                <a:path fill="none" w="202468" h="189678">
                  <a:moveTo>
                    <a:pt x="202324" y="89787"/>
                  </a:moveTo>
                  <a:cubicBezTo>
                    <a:pt x="204738" y="132185"/>
                    <a:pt x="176779" y="170920"/>
                    <a:pt x="133878" y="184612"/>
                  </a:cubicBezTo>
                  <a:cubicBezTo>
                    <a:pt x="93658" y="197448"/>
                    <a:pt x="49162" y="185389"/>
                    <a:pt x="22470" y="154419"/>
                  </a:cubicBezTo>
                </a:path>
              </a:pathLst>
            </a:custGeom>
            <a:noFill/>
            <a:ln w="12600">
              <a:solidFill>
                <a:srgbClr val="3c8c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.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лера выкладывает «домики» из спичек (на рисунке изображены такие домики в два и три этажа). Сколько спичек понадобится Валере, чтобы построить дом из 10 этаже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4932360" y="3716280"/>
            <a:ext cx="3009960" cy="187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182556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01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9520" y="981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479520" y="1006560"/>
            <a:ext cx="8229600" cy="53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м взаимосвязь между количеством спичек и количеством этаж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этаж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+ 2 спич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этаж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+2)+3+4 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этажа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1+2+3+4)+5+6  спи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этажей: (1+2+…+18)+19+20=2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210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2880" y="188640"/>
            <a:ext cx="294948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231920"/>
            <a:ext cx="76867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числи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2 - 5) + 2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.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979640" y="1947960"/>
            <a:ext cx="1104912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Объект 5"/>
          <p:cNvGraphicFramePr/>
          <p:nvPr/>
        </p:nvGraphicFramePr>
        <p:xfrm>
          <a:off x="1258920" y="1846440"/>
          <a:ext cx="696744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846440"/>
                    <a:ext cx="69674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Прямоугольник 8" descr=""/>
          <p:cNvPicPr/>
          <p:nvPr/>
        </p:nvPicPr>
        <p:blipFill>
          <a:blip r:embed="rId3"/>
          <a:stretch/>
        </p:blipFill>
        <p:spPr>
          <a:xfrm>
            <a:off x="1474920" y="3432240"/>
            <a:ext cx="62053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вами четыре двери, на каждой из них написано по одному утверждению. Известно, что за каждой дверью находится либо дракон, либо несметные сокровища (общее число драконов и сокровищ не регламентировано; может быть, там везде драконы, а может, везде сокровища). Что именно находится за дверью, зависит от надписи на ней (за дверью сокровища тогда и только тогда, когда надпись истинна, дракон ‑ тогда и только тогда, когда надпись ложна). Какую дверь (по номеру) нужно открыть, чтобы не попасть в лапы дракона? Если такой двери нет, напишите в ответе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760" y="4071600"/>
            <a:ext cx="8229600" cy="22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3: лож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4: лож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2: лож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рь 1: прав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716040" y="549360"/>
            <a:ext cx="771192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ннисном клубе 189 членов: 8 состоят в клубе меньше трёх лет, 11 моложе 20 лет, 70 носят очки, 140 ‑ мужчины. Какое наименьшее возможное число членов клуба удовлетворяет сразу четырём условиям: состоят в клубе не меньше трёх лет, их возраст не меньше 20 лет, носят очки и являются мужчин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1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6701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еньше трех лет в клубе – 18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раст не меньше 20 лет –    17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очки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7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жчины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 наихудшего вариа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0 – 49 =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– 11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– 8 =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.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07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им выкладывает «домики» из спичек (на рисунке изображены такие домики в два и три этажа). Сколько этажей будет в «домике», построенном из 11 325 спич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4788000" y="2924280"/>
            <a:ext cx="3473280" cy="21603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" descr=""/>
          <p:cNvPicPr/>
          <p:nvPr/>
        </p:nvPicPr>
        <p:blipFill>
          <a:blip r:embed="rId2"/>
          <a:stretch/>
        </p:blipFill>
        <p:spPr>
          <a:xfrm>
            <a:off x="1674720" y="2914560"/>
            <a:ext cx="22687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деи решения некоторых задач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 клас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а говорит правду только один день в недел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жды она сказала: "Я лгу по понедельникам и вторникам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ледующий день она сказала: "Сегодня или четверг, или суббота, или воскресенье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ще на следующий день она сказала: "Я лгу по средам и пятницам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день недели Маша сделала первое свое заявл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ни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четвер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ят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)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28680" y="579600"/>
            <a:ext cx="837072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лагодарю за внимание и интерес к математик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5155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ая запись усло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я лгу по ПН и В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– сегодня или ЧТ, или СБ, или 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– я лгу по СР и 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и 3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е может говорить правду в ЧТ, в СБ и в ВС, так как 1 и 3 будут прав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, заявление 2 всегда лож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бор: правду говорит в ПН, ВТ, СР или ПТ, т.е. четыре вариа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вод: правду говорит во вторник (3-й день), а первое заявление - в воскресе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0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овогоднем празднике дети пытались угадать, сколько подарков в мешке у Деда Мороза. Предлагались следующие вариан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1, 46, 60, 45 и 5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эти варианты были неверные, причем отличались от правильного от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8, 12, 7, 2 и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рядок необязательно соответствует порядку исходных чисел, а также неизвестно: угадываемое число на столько больше или меньше). Сколько подарков в мешке у Деда Мороза? Если возможны несколько вариантов ответов, то в бланке укажите их су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3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еше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ение выдвигать гипотезы, подмечая закономер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ы: 41, 46, 60, 45 и 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я: на 8, 12, 7, 2 и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ажды отличие на 7, но при этом среди предположений нет одинаковых вариа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ой вывод можно с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462960"/>
            <a:ext cx="6858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964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предположений на 7 больше, а другое – на 7 меньше, т.е. разница между ними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ы два вариа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6 и 60, тогда угадываемое число (количество подарков) – 5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1 и 55, угадываемое число – 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отличий приводит только к одному верному от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. 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 соснового бруска 27 кг, а дубового бруска – 45 кг. На весы положили 10 брусков, их общий вес оказался равным 396 кг. Сколько было дубовых брус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: перебор по последней циф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личество дубовых брусков нечетно, то число сосновых брусков должно равняться тр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+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= 81 + 315 = 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личество дубовых брусков четно, то число сосновых брусков должно равняться вось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+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= 216 + 90 ≠ 3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3:14:00Z</dcterms:created>
  <dc:creator>Bernikov</dc:creator>
  <dc:description/>
  <dc:language>en-US</dc:language>
  <cp:lastModifiedBy>Scaner</cp:lastModifiedBy>
  <dcterms:modified xsi:type="dcterms:W3CDTF">2014-12-16T05:09:46Z</dcterms:modified>
  <cp:revision>166</cp:revision>
  <dc:subject/>
  <dc:title>Спецификация  заданий по математике заочного этапа  XIV турнира  им. М.В.Ломоносова</dc:title>
</cp:coreProperties>
</file>