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1A64-E403-4911-943C-E9D3006616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8001-9000-44D2-AE14-56F8D479C9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7C1E-F578-4355-85F0-FEA4804BEA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CB67-2F55-4E4B-BB0B-5E0A2864BF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B8CC-24DA-4F6B-AAE1-4EA04F6DC3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4EC3-3314-40CB-8077-8677D6A94F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C544-F15C-4BA4-A325-805DD64FF4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77E4-E0EE-4189-8AD6-BE8638683F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C163-1E34-4752-A48D-A351E6EF0A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E6E3-D404-4366-827A-DB34895BA2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5231-9193-4712-B36B-C440CA5F17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6AF4-17DE-43EC-9F22-16561F7FE9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04DD-7C58-4565-A5BB-23A0CD15B8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F9F9-2544-4F55-A418-24FB788461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5BC4-AAEE-4835-895D-8A05692A0E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94D1-8974-40DE-BAFA-9C9D1EABF3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71B7-E5A3-4E53-88FE-3DC86F0F5F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F054-E888-4248-B596-E20D34C96A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7350-C7C9-4F72-BC55-414A084FEE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292-2594-4059-8263-4F51FAA6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0D1-27BC-4C94-B360-6CC8A8BA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B1A-A603-4AEE-BF93-87E318DB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2F5-BE0F-49A0-813D-540826B0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E6E-3392-444A-8A53-5152A936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B8F-1B25-43AD-A399-52A66DDC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1B7-6A6D-4E56-9B47-E4445B65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1EB6-9BF3-42D1-AFCB-B439F0CA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051-A7C0-44E0-AA9B-D278D95F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037-4F00-4D0B-8DBA-FB6D83ED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3FB4-D2CC-426C-B18F-8108F5F5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CC6-7E65-4703-83DC-2C2FB168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5153-3F50-401D-88A4-E7303CB34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184464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ХЕМЫ КАК СРЕДСТВА ОРГАНИЗАЦИИ МЫШЛЕН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ПРОЦЕССЕ ОБУЧЕНИЯ МАТЕМА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55680" y="189000"/>
            <a:ext cx="84978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учка и футляр вместе стоят 100 рублей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колько стоит футляр, если он на 80 рублей дешевле ручк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ческая схема задач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9720" y="18648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41360" y="23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231920" y="2575080"/>
            <a:ext cx="72421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тцу 26 лет, сыну 6 лет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ерез сколько лет отец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удет втрое старше сы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ометрическая схема задачи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Объект 1" descr=""/>
          <p:cNvPicPr/>
          <p:nvPr/>
        </p:nvPicPr>
        <p:blipFill>
          <a:blip r:embed="rId1"/>
          <a:stretch/>
        </p:blipFill>
        <p:spPr>
          <a:xfrm>
            <a:off x="1122480" y="2781360"/>
            <a:ext cx="68990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15440"/>
            <a:ext cx="8075520" cy="1068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Задача 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рем братьям вместе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8 лет. Известно, чт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ет младшего брата равны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лет среднего и равны половине лет старшего. Сколько лет каждому брату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"/>
          <p:cNvSpPr/>
          <p:nvPr/>
        </p:nvSpPr>
        <p:spPr>
          <a:xfrm>
            <a:off x="0" y="-100080"/>
            <a:ext cx="237315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Объект 19"/>
          <p:cNvGraphicFramePr/>
          <p:nvPr/>
        </p:nvGraphicFramePr>
        <p:xfrm>
          <a:off x="826920" y="2781360"/>
          <a:ext cx="300240" cy="11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Объект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781360"/>
                    <a:ext cx="30024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Объект 23"/>
          <p:cNvGraphicFramePr/>
          <p:nvPr/>
        </p:nvGraphicFramePr>
        <p:xfrm>
          <a:off x="2987640" y="3524400"/>
          <a:ext cx="441360" cy="11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Объект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3524400"/>
                    <a:ext cx="44136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ометрическая схема задачи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6000" y="114444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-252360" y="-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2952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адача 6 (о косцах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ели косцов надо было скосить два луга, один вдвое больше другого. Половину дня артель косила большой луг. После этого артель разделилась пополам: первая половина осталась на большом лугу и докосила его к вечеру до конца; вторая же половина косила малый луг, на котором к вечеру еще остался участок, скошенный на другой день одним косцом за один день работ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косцов было в арт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ометрическая модель задачи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372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309840" y="3405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1892160" y="2060640"/>
            <a:ext cx="53596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адача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03824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жды Черт предложил Бездельнику зарабо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только ты перейдешь через этот мост, – сказал он, – твои деньги удвоятся. Можешь переходить по нему сколько хочешь раз, но после каждого перехода отдавай мне за это по 24 копей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дельник согласился и... после третьего перехода остался без гроша. Сколько было у него денег снача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хема решения задачи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1914480" y="1413000"/>
            <a:ext cx="5505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Одна из главных задач обучения математике в школе – это научить молодежь думать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. Пой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оссмейстер Пупкин провел сеанс одновременной игры в шахматы на нескольких досках. В первые два часа он выиграл 10% всех партий и 8 партий завершил вничью. В последующие два часа он снова выиграл 10% оставшихся партий, 2 партии проиграл и 7 завершил вничью. Сколько игр было сыг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ебраическое уравнение для решения задачи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868480"/>
            <a:ext cx="822960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-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5" descr=""/>
          <p:cNvPicPr/>
          <p:nvPr/>
        </p:nvPicPr>
        <p:blipFill>
          <a:blip r:embed="rId1"/>
          <a:stretch/>
        </p:blipFill>
        <p:spPr>
          <a:xfrm>
            <a:off x="1619280" y="3429000"/>
            <a:ext cx="609588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а к задаче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Объект 1" descr=""/>
          <p:cNvPicPr/>
          <p:nvPr/>
        </p:nvPicPr>
        <p:blipFill>
          <a:blip r:embed="rId1"/>
          <a:stretch/>
        </p:blipFill>
        <p:spPr>
          <a:xfrm>
            <a:off x="1619280" y="2004840"/>
            <a:ext cx="5905440" cy="37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адача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а парома отчаливают одновременно и встречаются на расстоянии 720 метров от берега. Прибыв к месту назначения, каждый паром стоит 10 минут и отправляется обратно. Паромы вновь встречаются в 400 метрах от другого берега. Чему равна ширина ре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а к задаче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2071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3440" y="33300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ифметическое реше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0 </a:t>
            </a:r>
            <a:r>
              <a:rPr b="0" lang="ru-RU" sz="5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3 – 400 = 1760 (м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Приглашаем принять участие в Турнире им. М.В. Ломоносова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12 ноября - математи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38040" y="189000"/>
            <a:ext cx="84981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искать решение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методика Д.Пой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ь предложенную зад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путь от неизвестных к данным, если нужно, рассмотрев промежуточные задачи (анализ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овать найденную идею решения (синтез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проверить и оценить критически (взгляд назад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ешение задач –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это искусст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аждая решенная мною задача становилась образом, который служил впоследствии для решения других задач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. Декарт «Рассуждения о метод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иды мышления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глядно-действенное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глядно-образное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бстрактно-логическое.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адача 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 фермера имеются куры и кролики. Всего у этих кур и кроликов 50 голов и 140 ног. Сколько кур и сколько кроликов имеет ферме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адача 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ня и арбуз весят столько, сколько 5 ябл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ня весит столько, сколько 4 груш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 груши и дыня вместе весят столько, сколько 3 ябл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руш уравновесят один арбуз, если считать, что одинаковые фрукты имеют одинаковый в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? 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Объект 8"/>
          <p:cNvGraphicFramePr/>
          <p:nvPr/>
        </p:nvGraphicFramePr>
        <p:xfrm>
          <a:off x="1332000" y="1413000"/>
          <a:ext cx="518472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Объект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413000"/>
                    <a:ext cx="518472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3:14:00Z</dcterms:created>
  <dc:creator>Bernikov</dc:creator>
  <dc:description/>
  <dc:language>en-US</dc:language>
  <cp:lastModifiedBy>Scaner</cp:lastModifiedBy>
  <dcterms:modified xsi:type="dcterms:W3CDTF">2014-10-28T04:58:54Z</dcterms:modified>
  <cp:revision>115</cp:revision>
  <dc:subject/>
  <dc:title>Спецификация  заданий по математике заочного этапа  XIV турнира  им. М.В.Ломоносова</dc:title>
</cp:coreProperties>
</file>