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B6A5-DC71-40FA-AB98-02C68F9909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98B3-9DC0-4F0F-A63F-D3E7C7C0F3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1B7E-6213-463F-8B16-39F78C6C81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6808-64E3-4E01-A3F6-BB75DC387B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6571-9368-40BA-A5E6-C059236B71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C901-C0B1-4C14-97FA-18C2ED4DE6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1C13-706C-47D7-A014-C21578B3A2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009A-710A-4A7E-85E3-49EC66C2D1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34A5-D287-4912-842C-2A4A66E53F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D992-8325-4481-84DD-FA7AAC2EA8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E92C-C166-48E9-BA22-9E2AD62C96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6110-E569-4826-8BAA-6BEDC2478C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A3B4-8AC5-498A-9833-A8F416C312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8199-E72B-4003-A790-57272D2629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B6B1-B1D5-485E-8BA4-4CF89FEED6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2B62-2679-4B57-9738-D8EA12645A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74E8-8505-4B2F-BE1B-4E84B35E35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CC76-6338-4C62-8135-3C0058C68D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08C0-4D90-4CDC-AA46-0275C12D6D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F703-C5D3-4D97-8FCC-A4040495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FFF1-86D8-4BC3-907F-16CD9220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DA9B-8F88-4CBC-815A-BF411D4C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719E-0D67-427A-9D63-798A739A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A4C3-505E-49F1-B6AC-6333CFE9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6B8D-E93E-4C7C-BF7A-AF8B8EC8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6619-22FE-4B19-9C6D-07206DB5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CCA5-8AC1-417E-A937-C1B0819E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8C8A-3968-448D-8C87-FD0F6A1D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F921-AD6A-43D7-A378-94A041CD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87D8-C455-4757-83C6-E189048A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C1A8-9B84-4972-8356-8FB3B3A1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B953-E48C-40B3-AC38-8C0EE59CDF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184464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ХЕМЫ КАК СРЕДСТВА ОРГАНИЗАЦИИ МЫШЛЕНИ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ПРОЦЕССЕ ОБУЧЕНИЯ МАТЕМАТ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355680" y="189000"/>
            <a:ext cx="84978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Ручка и футляр вместе стоят 100 рублей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колько стоит футляр, если он на 80 рублей дешевле ручк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ометрическая схема задачи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9720" y="18648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441360" y="236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231920" y="2575080"/>
            <a:ext cx="72421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Отцу 26 лет, сыну 6 лет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Через сколько лет отец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удет втрое старше сын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еометрическая схема задачи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Объект 1" descr=""/>
          <p:cNvPicPr/>
          <p:nvPr/>
        </p:nvPicPr>
        <p:blipFill>
          <a:blip r:embed="rId1"/>
          <a:stretch/>
        </p:blipFill>
        <p:spPr>
          <a:xfrm>
            <a:off x="1122480" y="2781360"/>
            <a:ext cx="6899040" cy="13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415440"/>
            <a:ext cx="8075520" cy="1068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Задача 5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рем братьям вместе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58 лет. Известно, чт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лет младшего брата равны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лет среднего и равны половине лет старшего. Сколько лет каждому брату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0"/>
          <p:cNvSpPr/>
          <p:nvPr/>
        </p:nvSpPr>
        <p:spPr>
          <a:xfrm>
            <a:off x="0" y="-100080"/>
            <a:ext cx="237315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Объект 19"/>
          <p:cNvGraphicFramePr/>
          <p:nvPr/>
        </p:nvGraphicFramePr>
        <p:xfrm>
          <a:off x="826920" y="2781360"/>
          <a:ext cx="300240" cy="11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Объект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781360"/>
                    <a:ext cx="30024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Объект 23"/>
          <p:cNvGraphicFramePr/>
          <p:nvPr/>
        </p:nvGraphicFramePr>
        <p:xfrm>
          <a:off x="2987640" y="3524400"/>
          <a:ext cx="441360" cy="11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Объект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3524400"/>
                    <a:ext cx="44136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еометрическая схема задачи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6000" y="114444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-252360" y="-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2952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Задача 6 (о косцах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тели косцов надо было скосить два луга, один вдвое больше другого. Половину дня артель косила большой луг. После этого артель разделилась пополам: первая половина осталась на большом лугу и докосила его к вечеру до конца; вторая же половина косила малый луг, на котором к вечеру еще остался участок, скошенный на другой день одним косцом за один день работ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косцов было в арте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еометрическая модель задачи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2372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309840" y="3405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1" descr=""/>
          <p:cNvPicPr/>
          <p:nvPr/>
        </p:nvPicPr>
        <p:blipFill>
          <a:blip r:embed="rId1"/>
          <a:stretch/>
        </p:blipFill>
        <p:spPr>
          <a:xfrm>
            <a:off x="1892160" y="2060640"/>
            <a:ext cx="535968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Задача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038240"/>
            <a:ext cx="82296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жды Черт предложил Бездельнику зарабо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только ты перейдешь через этот мост, – сказал он, – твои деньги удвоятся. Можешь переходить по нему сколько хочешь раз, но после каждого перехода отдавай мне за это по 24 копей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дельник согласился и... после третьего перехода остался без гроша. Сколько было у него денег снача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хема решения задачи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1914480" y="1413000"/>
            <a:ext cx="5505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6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Одна из главных задач обучения математике в школе – это научить молодежь думать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. Пой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Задача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оссмейстер Пупкин провел сеанс одновременной игры в шахматы на нескольких досках. В первые два часа он выиграл 10% всех партий и 8 партий завершил вничью. В последующие два часа он снова выиграл 10% оставшихся партий, 2 партии проиграл и 7 завершил вничью. Сколько игр было сыгра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ебраическое уравнение для решения задачи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868480"/>
            <a:ext cx="8229600" cy="31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-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5" descr=""/>
          <p:cNvPicPr/>
          <p:nvPr/>
        </p:nvPicPr>
        <p:blipFill>
          <a:blip r:embed="rId1"/>
          <a:stretch/>
        </p:blipFill>
        <p:spPr>
          <a:xfrm>
            <a:off x="1619280" y="3429000"/>
            <a:ext cx="609588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хема к задаче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Объект 1" descr=""/>
          <p:cNvPicPr/>
          <p:nvPr/>
        </p:nvPicPr>
        <p:blipFill>
          <a:blip r:embed="rId1"/>
          <a:stretch/>
        </p:blipFill>
        <p:spPr>
          <a:xfrm>
            <a:off x="1619280" y="2004840"/>
            <a:ext cx="5905440" cy="37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Задача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ва парома отчаливают одновременно и встречаются на расстоянии 720 метров от берега. Прибыв к месту назначения, каждый паром стоит 10 минут и отправляется обратно. Паромы вновь встречаются в 400 метрах от другого берега. Чему равна ширина ре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хема к задаче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20712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3440" y="33300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рифметическое решени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0 </a:t>
            </a:r>
            <a:r>
              <a:rPr b="0" lang="ru-RU" sz="5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3 – 400 = 1760 (м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Приглашаем принять участие в Турнире им. М.В. Ломоносова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12 ноября - математи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38040" y="189000"/>
            <a:ext cx="84981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искать решение?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методика Д.Пой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ь предложенную зада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ти путь от неизвестных к данным, если нужно, рассмотрев промежуточные задачи (анализ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ализовать найденную идею решения (синтез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 проверить и оценить критически (взгляд назад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Решение задач –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это искусств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Каждая решенная мною задача становилась образом, который служил впоследствии для решения других задач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. Декарт «Рассуждения о метод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иды мышления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глядно-действенное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глядно-образное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бстрактно-логическое.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Задача 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 фермера имеются куры и кролики. Всего у этих кур и кроликов 50 голов и 140 ног. Сколько кур и сколько кроликов имеет фермер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Задача 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ыня и арбуз весят столько, сколько 5 ябл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ыня весит столько, сколько 4 груш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 груши и дыня вместе весят столько, сколько 3 ябло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груш уравновесят один арбуз, если считать, что одинаковые фрукты имеют одинаковый ве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? </a:t>
            </a: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Объект 8"/>
          <p:cNvGraphicFramePr/>
          <p:nvPr/>
        </p:nvGraphicFramePr>
        <p:xfrm>
          <a:off x="1332000" y="1413000"/>
          <a:ext cx="5184720" cy="38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Объект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413000"/>
                    <a:ext cx="518472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3:14:00Z</dcterms:created>
  <dc:creator>Bernikov</dc:creator>
  <dc:description/>
  <dc:language>en-US</dc:language>
  <cp:lastModifiedBy>Scaner</cp:lastModifiedBy>
  <dcterms:modified xsi:type="dcterms:W3CDTF">2014-10-28T04:58:54Z</dcterms:modified>
  <cp:revision>115</cp:revision>
  <dc:subject/>
  <dc:title>Спецификация  заданий по математике заочного этапа  XIV турнира  им. М.В.Ломоносова</dc:title>
</cp:coreProperties>
</file>