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5437-4FB0-4801-8C80-5080F34FF6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00FC-AE01-4075-BE1C-0CF5B9DC85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D3CC-713B-4E69-935E-EF0EA3EA99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AD79-8C36-4AE8-91A4-A8DACA3575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483D-68F9-4CBF-9A1D-60744A85D8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EC1C-5575-440B-940A-5E50E4D6AF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7FE1-2B2F-42B5-AD59-EFD762E122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91A3-9671-4769-948C-1C860CBCA2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E6F9-C695-4FA2-B819-B1C870333B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8D27-AECD-4184-8676-F9D9695FB5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1E07-7872-4AFF-BD55-41BEC108CF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DA75-D335-4E35-905A-17CC017734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4794-BC91-49FC-8573-BA6B0C4DF2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8406-0827-45A4-8C1D-8C7830B241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DDF0-21FF-4E13-91DC-67B07E875F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3FB5-106A-4A17-A781-682DA20DAF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FCFA-6444-4645-B858-5F9B9F099C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3D46-9C37-4A84-A7C6-32057B9B44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99FF-B93C-4DB7-B938-DD6A9B8952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0FFD-40D4-41A7-A3BD-85F535F9F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B7AE-456C-423A-940B-065D130B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4D4C-4B18-4B73-A664-88CBAB405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8A4E-B38E-46C8-A9E1-10EBAD66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7F49-1F32-4F74-97DC-37408C0F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D515-3798-4616-9E03-E55BAF2E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6B61-D2DF-4F54-9171-ABD0DCCF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C800-4641-499C-BD53-00DF686F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367C-9E0A-4235-ABFC-62BC36F2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0612-8A30-42E5-991F-E1667F41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81F1-68F8-402B-B78B-19A4D9A6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F637-EC80-4C75-84F5-1D989C78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A724-F732-44A8-9649-C9A921E661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184464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ХЕМЫ КАК СРЕДСТВА ОРГАНИЗАЦИИ МЫШЛЕНИЯ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ПРОЦЕССЕ ОБУЧЕНИЯ МАТЕМАТИ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355680" y="189000"/>
            <a:ext cx="84978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Задача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учка и футляр вместе стоят 100 рублей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колько стоит футляр, если он на 80 рублей дешевле ручк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метрическая схема задачи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9720" y="18648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441360" y="236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231920" y="2575080"/>
            <a:ext cx="72421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Отцу 26 лет, сыну 6 лет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Через сколько лет отец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будет втрое старше сын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еометрическая схема задачи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Объект 1" descr=""/>
          <p:cNvPicPr/>
          <p:nvPr/>
        </p:nvPicPr>
        <p:blipFill>
          <a:blip r:embed="rId1"/>
          <a:stretch/>
        </p:blipFill>
        <p:spPr>
          <a:xfrm>
            <a:off x="1122480" y="2781360"/>
            <a:ext cx="689904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415440"/>
            <a:ext cx="8075520" cy="1068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Задача 5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рем братьям вместе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58 лет. Известно, чт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лет младшего брата равны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лет среднего и равны половине лет старшего. Сколько лет каждому брату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0"/>
          <p:cNvSpPr/>
          <p:nvPr/>
        </p:nvSpPr>
        <p:spPr>
          <a:xfrm>
            <a:off x="0" y="-100080"/>
            <a:ext cx="237315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Объект 19"/>
          <p:cNvGraphicFramePr/>
          <p:nvPr/>
        </p:nvGraphicFramePr>
        <p:xfrm>
          <a:off x="826920" y="2781360"/>
          <a:ext cx="300240" cy="113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Объект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781360"/>
                    <a:ext cx="300240" cy="11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Объект 23"/>
          <p:cNvGraphicFramePr/>
          <p:nvPr/>
        </p:nvGraphicFramePr>
        <p:xfrm>
          <a:off x="2987640" y="3524400"/>
          <a:ext cx="441360" cy="11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Объект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3524400"/>
                    <a:ext cx="441360" cy="11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еометрическая схема задачи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6000" y="114444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-252360" y="-5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29520" cy="26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Задача 6 (о косцах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тели косцов надо было скосить два луга, один вдвое больше другого. Половину дня артель косила большой луг. После этого артель разделилась пополам: первая половина осталась на большом лугу и докосила его к вечеру до конца; вторая же половина косила малый луг, на котором к вечеру еще остался участок, скошенный на другой день одним косцом за один день работы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косцов было в арте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еометрическая модель задачи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2372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309840" y="3405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1" descr=""/>
          <p:cNvPicPr/>
          <p:nvPr/>
        </p:nvPicPr>
        <p:blipFill>
          <a:blip r:embed="rId1"/>
          <a:stretch/>
        </p:blipFill>
        <p:spPr>
          <a:xfrm>
            <a:off x="1892160" y="2060640"/>
            <a:ext cx="535968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Задача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038240"/>
            <a:ext cx="8229600" cy="51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жды Черт предложил Бездельнику зарабо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только ты перейдешь через этот мост, – сказал он, – твои деньги удвоятся. Можешь переходить по нему сколько хочешь раз, но после каждого перехода отдавай мне за это по 24 копей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дельник согласился и... после третьего перехода остался без гроша. Сколько было у него денег снача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хема решения задачи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1" descr=""/>
          <p:cNvPicPr/>
          <p:nvPr/>
        </p:nvPicPr>
        <p:blipFill>
          <a:blip r:embed="rId1"/>
          <a:stretch/>
        </p:blipFill>
        <p:spPr>
          <a:xfrm>
            <a:off x="1914480" y="1413000"/>
            <a:ext cx="55054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6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«Одна из главных задач обучения математике в школе – это научить молодежь думать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. Пой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Задача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оссмейстер Пупкин провел сеанс одновременной игры в шахматы на нескольких досках. В первые два часа он выиграл 10% всех партий и 8 партий завершил вничью. В последующие два часа он снова выиграл 10% оставшихся партий, 2 партии проиграл и 7 завершил вничью. Сколько игр было сыгра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ебраическое уравнение для решения задачи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868480"/>
            <a:ext cx="8229600" cy="31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0" y="-12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5" descr=""/>
          <p:cNvPicPr/>
          <p:nvPr/>
        </p:nvPicPr>
        <p:blipFill>
          <a:blip r:embed="rId1"/>
          <a:stretch/>
        </p:blipFill>
        <p:spPr>
          <a:xfrm>
            <a:off x="1619280" y="3429000"/>
            <a:ext cx="609588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хема к задаче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Объект 1" descr=""/>
          <p:cNvPicPr/>
          <p:nvPr/>
        </p:nvPicPr>
        <p:blipFill>
          <a:blip r:embed="rId1"/>
          <a:stretch/>
        </p:blipFill>
        <p:spPr>
          <a:xfrm>
            <a:off x="1619280" y="2004840"/>
            <a:ext cx="5905440" cy="37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Задача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ва парома отчаливают одновременно и встречаются на расстоянии 720 метров от берега. Прибыв к месту назначения, каждый паром стоит 10 минут и отправляется обратно. Паромы вновь встречаются в 400 метрах от другого берега. Чему равна ширина ре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хема к задаче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3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20712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3440" y="33300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рифметическое решени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0 </a:t>
            </a:r>
            <a:r>
              <a:rPr b="0" lang="ru-RU" sz="5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3 – 400 = 1760 (м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Приглашаем принять участие в Турнире им. М.В. Ломоносова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12 ноября - математи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338040" y="189000"/>
            <a:ext cx="849816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искать решение?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методика Д.Пой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ять предложенную зада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ти путь от неизвестных к данным, если нужно, рассмотрев промежуточные задачи (анализ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ализовать найденную идею решения (синтез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ение проверить и оценить критически (взгляд назад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Решение задач – 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это искусств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Каждая решенная мною задача становилась образом, который служил впоследствии для решения других задач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. Декарт «Рассуждения о метод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Виды мышления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аглядно-действенное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аглядно-образное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бстрактно-логическое.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Задача 1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 фермера имеются куры и кролики. Всего у этих кур и кроликов 50 голов и 140 ног. Сколько кур и сколько кроликов имеет фермер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Задача 2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ыня и арбуз весят столько, сколько 5 ябло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ыня весит столько, сколько 4 груш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 груши и дыня вместе весят столько, сколько 3 ябло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груш уравновесят один арбуз, если считать, что одинаковые фрукты имеют одинаковый ве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? </a:t>
            </a:r>
            <a:r>
              <a:rPr b="0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Объект 8"/>
          <p:cNvGraphicFramePr/>
          <p:nvPr/>
        </p:nvGraphicFramePr>
        <p:xfrm>
          <a:off x="1332000" y="1413000"/>
          <a:ext cx="5184720" cy="38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Объект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413000"/>
                    <a:ext cx="518472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3:14:00Z</dcterms:created>
  <dc:creator>Bernikov</dc:creator>
  <dc:description/>
  <dc:language>en-US</dc:language>
  <cp:lastModifiedBy>Scaner</cp:lastModifiedBy>
  <dcterms:modified xsi:type="dcterms:W3CDTF">2014-10-28T04:58:54Z</dcterms:modified>
  <cp:revision>115</cp:revision>
  <dc:subject/>
  <dc:title>Спецификация  заданий по математике заочного этапа  XIV турнира  им. М.В.Ломоносова</dc:title>
</cp:coreProperties>
</file>