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DF4-4229-4E0A-BE08-D42807DF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1C3-2B97-40BE-A930-EFFA4A57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2ED-7716-4263-8D1A-9A5B06A3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701-4237-44A0-B694-99884384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236-CAB2-4F8F-B588-090010EC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498-3480-4FCE-902E-82B8C088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DC7-3D93-4952-BA8C-401B3F47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A60-4BAF-4494-8B61-80A82FFC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9FF-268B-444A-941B-1AB33B5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25C-2AA3-4A72-A43F-2A20148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5C3-9542-44F8-8B17-9DD015E8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C8A-ADC9-4486-9F22-6A7B24D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C37C-CCFB-4528-AEC3-243D6FAE84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, заложенное в самой музык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89000"/>
            <a:ext cx="40384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ОЗ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0" y="188640"/>
            <a:ext cx="403848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s://im1-tub-ru.yandex.net/i?id=c3a88af210b3aa6d9ad4960977161129-l&amp;n=13"/>
          <p:cNvPicPr/>
          <p:nvPr/>
        </p:nvPicPr>
        <p:blipFill>
          <a:blip r:embed="rId1"/>
          <a:stretch/>
        </p:blipFill>
        <p:spPr>
          <a:xfrm>
            <a:off x="250920" y="822240"/>
            <a:ext cx="3816360" cy="525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s://im2-tub-ru.yandex.net/i?id=c33629c6bdb74ffaad7cf33ff8f7febf-l&amp;n=13"/>
          <p:cNvPicPr/>
          <p:nvPr/>
        </p:nvPicPr>
        <p:blipFill>
          <a:blip r:embed="rId2"/>
          <a:stretch/>
        </p:blipFill>
        <p:spPr>
          <a:xfrm>
            <a:off x="4788000" y="822240"/>
            <a:ext cx="40082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ёмы развития музы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- повторение музыки с небольшими её измен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АСТ- изменение характера музыки на противопо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ства музыкальной вырази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О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Б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ИС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дион Щед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985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лет «Конёк-Горбун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http://diafilmy.su/uploads/posts/2013-01/1359352125_15.jpg"/>
          <p:cNvPicPr/>
          <p:nvPr/>
        </p:nvPicPr>
        <p:blipFill>
          <a:blip r:embed="rId1"/>
          <a:stretch/>
        </p:blipFill>
        <p:spPr>
          <a:xfrm>
            <a:off x="108000" y="1341360"/>
            <a:ext cx="4248000" cy="3915000"/>
          </a:xfrm>
          <a:prstGeom prst="rect">
            <a:avLst/>
          </a:prstGeom>
          <a:ln w="0">
            <a:noFill/>
          </a:ln>
        </p:spPr>
      </p:pic>
      <p:pic>
        <p:nvPicPr>
          <p:cNvPr id="54" name="Щедрин-ночь.mp3" descr=""/>
          <p:cNvPicPr/>
          <p:nvPr/>
        </p:nvPicPr>
        <p:blipFill>
          <a:blip r:embed="rId2"/>
          <a:stretch/>
        </p:blipFill>
        <p:spPr>
          <a:xfrm>
            <a:off x="3957480" y="4289400"/>
            <a:ext cx="327240" cy="325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s://im2-tub-ru.yandex.net/i?id=0b90fe17e334abe3d54560902df4a2d4&amp;n=33&amp;h=215&amp;w=165"/>
          <p:cNvPicPr/>
          <p:nvPr/>
        </p:nvPicPr>
        <p:blipFill>
          <a:blip r:embed="rId3"/>
          <a:stretch/>
        </p:blipFill>
        <p:spPr>
          <a:xfrm>
            <a:off x="5148360" y="1341360"/>
            <a:ext cx="3240000" cy="3915000"/>
          </a:xfrm>
          <a:prstGeom prst="rect">
            <a:avLst/>
          </a:prstGeom>
          <a:ln w="0">
            <a:noFill/>
          </a:ln>
        </p:spPr>
      </p:pic>
      <p:pic>
        <p:nvPicPr>
          <p:cNvPr id="56" name="Щедрин-царь Горох.mp3" descr=""/>
          <p:cNvPicPr/>
          <p:nvPr/>
        </p:nvPicPr>
        <p:blipFill>
          <a:blip r:embed="rId4"/>
          <a:stretch/>
        </p:blipFill>
        <p:spPr>
          <a:xfrm>
            <a:off x="7953480" y="4809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4694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1120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пание в котл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Щедрин-купание в котлах.mp3" descr=""/>
          <p:cNvPicPr/>
          <p:nvPr/>
        </p:nvPicPr>
        <p:blipFill>
          <a:blip r:embed="rId1"/>
          <a:stretch/>
        </p:blipFill>
        <p:spPr>
          <a:xfrm>
            <a:off x="4267080" y="35575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User\Desktop\купание.jpg"/>
          <p:cNvPicPr/>
          <p:nvPr/>
        </p:nvPicPr>
        <p:blipFill>
          <a:blip r:embed="rId2"/>
          <a:stretch/>
        </p:blipFill>
        <p:spPr>
          <a:xfrm>
            <a:off x="30240" y="1214280"/>
            <a:ext cx="5148360" cy="343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User\Desktop\купание2.jpg"/>
          <p:cNvPicPr/>
          <p:nvPr/>
        </p:nvPicPr>
        <p:blipFill>
          <a:blip r:embed="rId3"/>
          <a:stretch/>
        </p:blipFill>
        <p:spPr>
          <a:xfrm>
            <a:off x="3995640" y="3535200"/>
            <a:ext cx="5148360" cy="3197520"/>
          </a:xfrm>
          <a:prstGeom prst="rect">
            <a:avLst/>
          </a:prstGeom>
          <a:ln w="0">
            <a:noFill/>
          </a:ln>
        </p:spPr>
      </p:pic>
      <p:pic>
        <p:nvPicPr>
          <p:cNvPr id="61" name="Щедрин-купание в котлах.mp3" descr=""/>
          <p:cNvPicPr/>
          <p:nvPr/>
        </p:nvPicPr>
        <p:blipFill>
          <a:blip r:embed="rId4"/>
          <a:stretch/>
        </p:blipFill>
        <p:spPr>
          <a:xfrm>
            <a:off x="8732880" y="6270480"/>
            <a:ext cx="4636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1451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41451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8-01-05T16:08:05Z</dcterms:modified>
  <cp:revision>384</cp:revision>
  <dc:subject/>
  <dc:title>Diapositiva 1</dc:title>
</cp:coreProperties>
</file>