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2F8-F52F-4823-9E5F-E79945BC0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B71D-4236-4B34-92B9-BFB1D0856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29C-685E-48EA-B8DC-5BB64E4DA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6E9-4994-4DC6-932D-3F1021A7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5FB-8B5E-4565-B6AF-E80F825E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846-91A9-495A-A12E-11C3F703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772-3791-429E-AC5E-91B38DE0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C1E-41CD-4693-886E-C552AA3F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843-2096-4306-BA08-3C8FB70B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7E7-F33A-4F44-B10F-14AFC660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7F0-B7D8-4112-B140-698D89BF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3A1-E4DB-4F54-84DC-36C1FCC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67D-E949-44A5-8473-CA97F4B1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EFC-898F-4BCF-8FEB-A1B234E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758-FF9D-4ACC-BE77-E79E3D77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155-C47B-4098-A255-AC08C86D4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Урок геометрии в 8 классе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«Средняя линия треуголь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 flipV="1">
            <a:off x="250920" y="1989000"/>
            <a:ext cx="144144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1692360" y="1989000"/>
            <a:ext cx="28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H="1">
            <a:off x="3132000" y="1989000"/>
            <a:ext cx="144000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250920" y="4869000"/>
            <a:ext cx="288108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71280" y="48625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547640" y="1628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4464000" y="1628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059280" y="5516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851280" y="36385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1547640" y="522288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647640" y="3141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5148360" y="2004840"/>
            <a:ext cx="374472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тырё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, L, M, 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ины сторо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, BC, C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LM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250920" y="1989000"/>
            <a:ext cx="432108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1692360" y="1989000"/>
            <a:ext cx="143964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971640" y="1989000"/>
            <a:ext cx="2160360" cy="144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3132000" y="1989000"/>
            <a:ext cx="719280" cy="180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1763640" y="3789000"/>
            <a:ext cx="2087640" cy="147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971640" y="3429000"/>
            <a:ext cx="792000" cy="180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3024360" y="1628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"/>
          <p:cNvSpPr/>
          <p:nvPr/>
        </p:nvSpPr>
        <p:spPr>
          <a:xfrm flipV="1">
            <a:off x="250920" y="1989000"/>
            <a:ext cx="144144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1692360" y="1989000"/>
            <a:ext cx="28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 flipH="1">
            <a:off x="3132000" y="1989000"/>
            <a:ext cx="144000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1280" y="48625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1547640" y="1628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464000" y="1628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024360" y="48625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290680" y="299088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647640" y="3141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148360" y="2004840"/>
            <a:ext cx="374472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=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=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=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 flipV="1">
            <a:off x="250920" y="1989000"/>
            <a:ext cx="4321080" cy="288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1692360" y="1989000"/>
            <a:ext cx="1439640" cy="288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0"/>
          <p:cNvSpPr/>
          <p:nvPr/>
        </p:nvSpPr>
        <p:spPr>
          <a:xfrm>
            <a:off x="971640" y="3429000"/>
            <a:ext cx="1439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2"/>
          <p:cNvSpPr/>
          <p:nvPr/>
        </p:nvSpPr>
        <p:spPr>
          <a:xfrm>
            <a:off x="1258920" y="270828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3"/>
          <p:cNvSpPr/>
          <p:nvPr/>
        </p:nvSpPr>
        <p:spPr>
          <a:xfrm>
            <a:off x="573120" y="407664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 flipV="1">
            <a:off x="250920" y="1989000"/>
            <a:ext cx="144144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692360" y="1989000"/>
            <a:ext cx="28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 flipH="1">
            <a:off x="3132000" y="1989000"/>
            <a:ext cx="144000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71280" y="48625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1547640" y="1628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4464000" y="1628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3024360" y="48625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3851280" y="32446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547640" y="48625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647640" y="3141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5148360" y="2004840"/>
            <a:ext cx="374472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, L, M, 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ины сторо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, BC, C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6"/>
          <p:cNvSpPr/>
          <p:nvPr/>
        </p:nvSpPr>
        <p:spPr>
          <a:xfrm flipV="1">
            <a:off x="250920" y="1989000"/>
            <a:ext cx="432108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1692360" y="1989000"/>
            <a:ext cx="143964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8"/>
          <p:cNvSpPr/>
          <p:nvPr/>
        </p:nvSpPr>
        <p:spPr>
          <a:xfrm flipV="1">
            <a:off x="971640" y="1989000"/>
            <a:ext cx="2160360" cy="144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3132000" y="1989000"/>
            <a:ext cx="719280" cy="144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0"/>
          <p:cNvSpPr/>
          <p:nvPr/>
        </p:nvSpPr>
        <p:spPr>
          <a:xfrm flipV="1">
            <a:off x="1692360" y="3429000"/>
            <a:ext cx="2158920" cy="144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1"/>
          <p:cNvSpPr/>
          <p:nvPr/>
        </p:nvSpPr>
        <p:spPr>
          <a:xfrm>
            <a:off x="971640" y="3429000"/>
            <a:ext cx="720720" cy="1440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3024360" y="1628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 flipV="1">
            <a:off x="971640" y="1989000"/>
            <a:ext cx="360036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250920" y="2708280"/>
            <a:ext cx="720720" cy="288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 flipH="1">
            <a:off x="3851280" y="1989000"/>
            <a:ext cx="720720" cy="288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8"/>
          <p:cNvSpPr/>
          <p:nvPr/>
        </p:nvSpPr>
        <p:spPr>
          <a:xfrm flipV="1">
            <a:off x="250920" y="4869000"/>
            <a:ext cx="3600360" cy="7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4572000" y="1989000"/>
            <a:ext cx="144000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5292720" y="2708280"/>
            <a:ext cx="719280" cy="288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3851280" y="4869000"/>
            <a:ext cx="1441440" cy="7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250920" y="1989000"/>
            <a:ext cx="43210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971640" y="2708280"/>
            <a:ext cx="28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3851280" y="2708280"/>
            <a:ext cx="216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4572000" y="1989000"/>
            <a:ext cx="72072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2411280" y="3789360"/>
            <a:ext cx="2521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7"/>
          <p:cNvSpPr/>
          <p:nvPr/>
        </p:nvSpPr>
        <p:spPr>
          <a:xfrm>
            <a:off x="250920" y="5589720"/>
            <a:ext cx="5041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179280" y="55832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684360" y="2341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4427640" y="162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70836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12000" y="2414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21964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219564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4932360" y="3638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6300720" y="2998800"/>
            <a:ext cx="26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, DCEF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ёхуго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=CD=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II CD II 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=2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иметр треугольника, образованного средними линиями данного треугольника., равен 14 см. Найти периметр дан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42     В) 7    С) 28  Д)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тороны треугольника равны 6,9,13 м. Найдите стороны треугольника, образованного средними линиями данн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, 3, 3.5     В) 18, 27, 39    С) 12, 18, 26  Д) 3,  4,5,   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иметр равностороннего треугольника равен 24 см. Найдите периметр треугольника, образованного средними линиями дан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48     В) 12    С) 6  Д)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.62, № 564, 566, 56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181440" y="263664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Monotype Corsiva"/>
              </a:rPr>
              <a:t>ЖЕЛАЮ УДАЧИ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ть задачу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325440" y="1413000"/>
            <a:ext cx="3887640" cy="3600360"/>
          </a:xfrm>
          <a:prstGeom prst="triangle">
            <a:avLst>
              <a:gd name="adj" fmla="val 80606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185920" y="2852640"/>
            <a:ext cx="158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08000" y="501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274920" y="10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0360" y="501336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908000" y="2486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708360" y="2492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564000" y="19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9243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7308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556000" y="19098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29080" y="170028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 а)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~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С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140360" y="2492280"/>
            <a:ext cx="453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5"/>
              <p:cNvSpPr txBox="1"/>
              <p:nvPr/>
            </p:nvSpPr>
            <p:spPr>
              <a:xfrm>
                <a:off x="4573440" y="3429000"/>
                <a:ext cx="1582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9"/>
              <p:cNvSpPr txBox="1"/>
              <p:nvPr/>
            </p:nvSpPr>
            <p:spPr>
              <a:xfrm>
                <a:off x="6518160" y="3429000"/>
                <a:ext cx="1582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4"/>
              <p:cNvSpPr txBox="1"/>
              <p:nvPr/>
            </p:nvSpPr>
            <p:spPr>
              <a:xfrm>
                <a:off x="4573440" y="4149720"/>
                <a:ext cx="1285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35"/>
          <p:cNvSpPr/>
          <p:nvPr/>
        </p:nvSpPr>
        <p:spPr>
          <a:xfrm>
            <a:off x="4573440" y="4687920"/>
            <a:ext cx="46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~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K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, 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4444920" y="1360440"/>
            <a:ext cx="3456000" cy="2881440"/>
          </a:xfrm>
          <a:prstGeom prst="triangle">
            <a:avLst>
              <a:gd name="adj" fmla="val 7438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5796000" y="270828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284720" y="4110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840800" y="4110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948360" y="90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435640" y="2486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451640" y="2486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148360" y="3284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372360" y="19162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5"/>
          <p:cNvGrpSpPr/>
          <p:nvPr/>
        </p:nvGrpSpPr>
        <p:grpSpPr>
          <a:xfrm>
            <a:off x="7667640" y="3357360"/>
            <a:ext cx="167760" cy="214920"/>
            <a:chOff x="7667640" y="3357360"/>
            <a:chExt cx="167760" cy="214920"/>
          </a:xfrm>
        </p:grpSpPr>
        <p:sp>
          <p:nvSpPr>
            <p:cNvPr id="79" name="Line 13"/>
            <p:cNvSpPr/>
            <p:nvPr/>
          </p:nvSpPr>
          <p:spPr>
            <a:xfrm flipV="1">
              <a:off x="7685280" y="3466080"/>
              <a:ext cx="1501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V="1">
              <a:off x="7667640" y="3357360"/>
              <a:ext cx="1504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7236000" y="1915920"/>
            <a:ext cx="167760" cy="214920"/>
            <a:chOff x="7236000" y="1915920"/>
            <a:chExt cx="167760" cy="214920"/>
          </a:xfrm>
        </p:grpSpPr>
        <p:sp>
          <p:nvSpPr>
            <p:cNvPr id="82" name="Line 18"/>
            <p:cNvSpPr/>
            <p:nvPr/>
          </p:nvSpPr>
          <p:spPr>
            <a:xfrm flipV="1">
              <a:off x="7253640" y="2024640"/>
              <a:ext cx="1501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7236000" y="1915920"/>
              <a:ext cx="1504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20"/>
          <p:cNvSpPr/>
          <p:nvPr/>
        </p:nvSpPr>
        <p:spPr>
          <a:xfrm>
            <a:off x="250920" y="155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=MB, BN=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233280" y="25480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л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250920" y="4869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редняя линия 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трезок, соединяющий середины двух его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3"/>
          <p:cNvSpPr/>
          <p:nvPr/>
        </p:nvSpPr>
        <p:spPr>
          <a:xfrm>
            <a:off x="5738760" y="2657520"/>
            <a:ext cx="11448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404120" y="2630520"/>
            <a:ext cx="13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указанных треугольников проведена средняя ли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85080" cy="3744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8224560" y="533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7541640" y="532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312320" y="4251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8057880" y="310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202000" y="53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703480" y="53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068440" y="4435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5916600" y="318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754000" y="4435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998440" y="340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627000" y="347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4287600" y="444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717120" y="459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1314000" y="38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913400" y="40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2088720" y="46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ма о средней линии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08000" y="909720"/>
            <a:ext cx="3987720" cy="3570480"/>
            <a:chOff x="108000" y="909720"/>
            <a:chExt cx="3987720" cy="3570480"/>
          </a:xfrm>
        </p:grpSpPr>
        <p:sp>
          <p:nvSpPr>
            <p:cNvPr id="109" name="AutoShape 5"/>
            <p:cNvSpPr/>
            <p:nvPr/>
          </p:nvSpPr>
          <p:spPr>
            <a:xfrm>
              <a:off x="324000" y="1270080"/>
              <a:ext cx="3456000" cy="2881440"/>
            </a:xfrm>
            <a:prstGeom prst="triangle">
              <a:avLst>
                <a:gd name="adj" fmla="val 74389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1619280" y="2710080"/>
              <a:ext cx="17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108000" y="4111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664080" y="4111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2771640" y="90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258920" y="24879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274920" y="24879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971640" y="328644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2195640" y="191808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4"/>
            <p:cNvGrpSpPr/>
            <p:nvPr/>
          </p:nvGrpSpPr>
          <p:grpSpPr>
            <a:xfrm>
              <a:off x="3490920" y="3359160"/>
              <a:ext cx="167760" cy="214920"/>
              <a:chOff x="3490920" y="3359160"/>
              <a:chExt cx="167760" cy="214920"/>
            </a:xfrm>
          </p:grpSpPr>
          <p:sp>
            <p:nvSpPr>
              <p:cNvPr id="119" name="Line 15"/>
              <p:cNvSpPr/>
              <p:nvPr/>
            </p:nvSpPr>
            <p:spPr>
              <a:xfrm flipV="1">
                <a:off x="3508560" y="3467880"/>
                <a:ext cx="15012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 flipV="1">
                <a:off x="3490920" y="3359160"/>
                <a:ext cx="15048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3059280" y="1917720"/>
              <a:ext cx="167760" cy="214920"/>
              <a:chOff x="3059280" y="1917720"/>
              <a:chExt cx="167760" cy="214920"/>
            </a:xfrm>
          </p:grpSpPr>
          <p:sp>
            <p:nvSpPr>
              <p:cNvPr id="122" name="Line 18"/>
              <p:cNvSpPr/>
              <p:nvPr/>
            </p:nvSpPr>
            <p:spPr>
              <a:xfrm flipV="1">
                <a:off x="3076920" y="2026440"/>
                <a:ext cx="15012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 flipV="1">
                <a:off x="3059280" y="1917720"/>
                <a:ext cx="15048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20"/>
          <p:cNvSpPr/>
          <p:nvPr/>
        </p:nvSpPr>
        <p:spPr>
          <a:xfrm>
            <a:off x="4284720" y="14860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6010200" y="1486080"/>
            <a:ext cx="1441080" cy="581400"/>
            <a:chOff x="6010200" y="1486080"/>
            <a:chExt cx="1441080" cy="581400"/>
          </a:xfrm>
        </p:grpSpPr>
        <p:sp>
          <p:nvSpPr>
            <p:cNvPr id="126" name="AutoShape 22"/>
            <p:cNvSpPr/>
            <p:nvPr/>
          </p:nvSpPr>
          <p:spPr>
            <a:xfrm>
              <a:off x="6010200" y="1701720"/>
              <a:ext cx="205560" cy="215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6215760" y="1486080"/>
              <a:ext cx="123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5"/>
          <p:cNvSpPr/>
          <p:nvPr/>
        </p:nvSpPr>
        <p:spPr>
          <a:xfrm>
            <a:off x="414036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4284720" y="2637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AC,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>
            <a:off x="7020000" y="274788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7091280" y="2747880"/>
            <a:ext cx="18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4284720" y="32860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529272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5292720" y="3279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5292720" y="3551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08720" y="32860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4211640" y="39304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223920" y="4643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2577960" y="4559400"/>
            <a:ext cx="1285920" cy="398880"/>
            <a:chOff x="2577960" y="4559400"/>
            <a:chExt cx="1285920" cy="398880"/>
          </a:xfrm>
        </p:grpSpPr>
        <p:sp>
          <p:nvSpPr>
            <p:cNvPr id="140" name="AutoShape 37"/>
            <p:cNvSpPr/>
            <p:nvPr/>
          </p:nvSpPr>
          <p:spPr>
            <a:xfrm>
              <a:off x="2577960" y="4703760"/>
              <a:ext cx="133560" cy="142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8"/>
            <p:cNvSpPr/>
            <p:nvPr/>
          </p:nvSpPr>
          <p:spPr>
            <a:xfrm>
              <a:off x="2628720" y="455940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40"/>
          <p:cNvSpPr/>
          <p:nvPr/>
        </p:nvSpPr>
        <p:spPr>
          <a:xfrm>
            <a:off x="3276720" y="45752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=MB, BN=N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5773680" y="4788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5707080" y="44607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5740560" y="47689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70640" y="4788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6404040" y="44607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400800" y="47689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6151680" y="4610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00760" y="460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7085160" y="478800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7018200" y="44607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7015320" y="47480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4"/>
          <p:cNvSpPr/>
          <p:nvPr/>
        </p:nvSpPr>
        <p:spPr>
          <a:xfrm>
            <a:off x="2050920" y="5041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5"/>
          <p:cNvGrpSpPr/>
          <p:nvPr/>
        </p:nvGrpSpPr>
        <p:grpSpPr>
          <a:xfrm>
            <a:off x="3790800" y="5041800"/>
            <a:ext cx="1285920" cy="398880"/>
            <a:chOff x="3790800" y="5041800"/>
            <a:chExt cx="1285920" cy="398880"/>
          </a:xfrm>
        </p:grpSpPr>
        <p:sp>
          <p:nvSpPr>
            <p:cNvPr id="156" name="AutoShape 66"/>
            <p:cNvSpPr/>
            <p:nvPr/>
          </p:nvSpPr>
          <p:spPr>
            <a:xfrm>
              <a:off x="3790800" y="5186160"/>
              <a:ext cx="133560" cy="142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7"/>
            <p:cNvSpPr/>
            <p:nvPr/>
          </p:nvSpPr>
          <p:spPr>
            <a:xfrm>
              <a:off x="3841560" y="504180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8"/>
          <p:cNvGrpSpPr/>
          <p:nvPr/>
        </p:nvGrpSpPr>
        <p:grpSpPr>
          <a:xfrm>
            <a:off x="4726080" y="5041800"/>
            <a:ext cx="1285920" cy="398880"/>
            <a:chOff x="4726080" y="5041800"/>
            <a:chExt cx="1285920" cy="398880"/>
          </a:xfrm>
        </p:grpSpPr>
        <p:sp>
          <p:nvSpPr>
            <p:cNvPr id="159" name="AutoShape 69"/>
            <p:cNvSpPr/>
            <p:nvPr/>
          </p:nvSpPr>
          <p:spPr>
            <a:xfrm>
              <a:off x="4726080" y="5186160"/>
              <a:ext cx="133560" cy="142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0"/>
            <p:cNvSpPr/>
            <p:nvPr/>
          </p:nvSpPr>
          <p:spPr>
            <a:xfrm>
              <a:off x="4776840" y="504180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71"/>
          <p:cNvSpPr/>
          <p:nvPr/>
        </p:nvSpPr>
        <p:spPr>
          <a:xfrm>
            <a:off x="4427640" y="5041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2"/>
          <p:cNvSpPr/>
          <p:nvPr/>
        </p:nvSpPr>
        <p:spPr>
          <a:xfrm>
            <a:off x="5435640" y="50338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знаку подобия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4"/>
          <p:cNvSpPr/>
          <p:nvPr/>
        </p:nvSpPr>
        <p:spPr>
          <a:xfrm>
            <a:off x="320760" y="59166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5"/>
          <p:cNvSpPr/>
          <p:nvPr/>
        </p:nvSpPr>
        <p:spPr>
          <a:xfrm>
            <a:off x="25416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6"/>
          <p:cNvSpPr/>
          <p:nvPr/>
        </p:nvSpPr>
        <p:spPr>
          <a:xfrm>
            <a:off x="250920" y="5897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65088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8"/>
          <p:cNvSpPr/>
          <p:nvPr/>
        </p:nvSpPr>
        <p:spPr>
          <a:xfrm>
            <a:off x="934920" y="591660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9"/>
          <p:cNvSpPr/>
          <p:nvPr/>
        </p:nvSpPr>
        <p:spPr>
          <a:xfrm>
            <a:off x="868320" y="5589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0"/>
          <p:cNvSpPr/>
          <p:nvPr/>
        </p:nvSpPr>
        <p:spPr>
          <a:xfrm>
            <a:off x="865080" y="587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1"/>
          <p:cNvSpPr/>
          <p:nvPr/>
        </p:nvSpPr>
        <p:spPr>
          <a:xfrm>
            <a:off x="179280" y="6237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N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енные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N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2"/>
          <p:cNvSpPr/>
          <p:nvPr/>
        </p:nvSpPr>
        <p:spPr>
          <a:xfrm>
            <a:off x="1187280" y="57038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3"/>
          <p:cNvSpPr/>
          <p:nvPr/>
        </p:nvSpPr>
        <p:spPr>
          <a:xfrm>
            <a:off x="1474920" y="57164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4"/>
          <p:cNvSpPr/>
          <p:nvPr/>
        </p:nvSpPr>
        <p:spPr>
          <a:xfrm>
            <a:off x="2195640" y="5892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5"/>
          <p:cNvSpPr/>
          <p:nvPr/>
        </p:nvSpPr>
        <p:spPr>
          <a:xfrm>
            <a:off x="2195640" y="5599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6"/>
          <p:cNvSpPr/>
          <p:nvPr/>
        </p:nvSpPr>
        <p:spPr>
          <a:xfrm>
            <a:off x="2195640" y="58705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7"/>
          <p:cNvSpPr/>
          <p:nvPr/>
        </p:nvSpPr>
        <p:spPr>
          <a:xfrm>
            <a:off x="2411280" y="5699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0"/>
          <p:cNvGrpSpPr/>
          <p:nvPr/>
        </p:nvGrpSpPr>
        <p:grpSpPr>
          <a:xfrm>
            <a:off x="4545000" y="6308640"/>
            <a:ext cx="97560" cy="216000"/>
            <a:chOff x="4545000" y="6308640"/>
            <a:chExt cx="97560" cy="216000"/>
          </a:xfrm>
        </p:grpSpPr>
        <p:sp>
          <p:nvSpPr>
            <p:cNvPr id="178" name="Line 98"/>
            <p:cNvSpPr/>
            <p:nvPr/>
          </p:nvSpPr>
          <p:spPr>
            <a:xfrm>
              <a:off x="4545000" y="6308640"/>
              <a:ext cx="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9"/>
            <p:cNvSpPr/>
            <p:nvPr/>
          </p:nvSpPr>
          <p:spPr>
            <a:xfrm>
              <a:off x="4640400" y="6308640"/>
              <a:ext cx="216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611280" y="1268280"/>
            <a:ext cx="4248000" cy="2881440"/>
          </a:xfrm>
          <a:prstGeom prst="triangle">
            <a:avLst>
              <a:gd name="adj" fmla="val 3258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 flipH="1">
            <a:off x="2698920" y="2708280"/>
            <a:ext cx="720720" cy="144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2604600" y="1844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H="1">
            <a:off x="4065120" y="3306600"/>
            <a:ext cx="7308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 flipH="1">
            <a:off x="169020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H="1">
            <a:off x="176328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363348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H="1">
            <a:off x="370656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6656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78800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835280" y="907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5542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341964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5292720" y="1557360"/>
            <a:ext cx="360036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K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2411280" y="1822320"/>
            <a:ext cx="5761080" cy="2881440"/>
          </a:xfrm>
          <a:prstGeom prst="triangle">
            <a:avLst>
              <a:gd name="adj" fmla="val 2515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3132000" y="3263760"/>
            <a:ext cx="2880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5292720" y="3263760"/>
            <a:ext cx="719280" cy="1440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132000" y="3263760"/>
            <a:ext cx="2160720" cy="14400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12400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70692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817236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77164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08472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5148360" y="4703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250920" y="544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10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, ВС=14см, АС=1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250920" y="59961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периметр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1"/>
          <p:cNvSpPr/>
          <p:nvPr/>
        </p:nvSpPr>
        <p:spPr>
          <a:xfrm>
            <a:off x="2411280" y="4705200"/>
            <a:ext cx="57610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2"/>
          <p:cNvSpPr/>
          <p:nvPr/>
        </p:nvSpPr>
        <p:spPr>
          <a:xfrm flipH="1">
            <a:off x="2411280" y="1844640"/>
            <a:ext cx="1440000" cy="2879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5"/>
          <p:cNvGrpSpPr/>
          <p:nvPr/>
        </p:nvGrpSpPr>
        <p:grpSpPr>
          <a:xfrm>
            <a:off x="6372360" y="4581360"/>
            <a:ext cx="210960" cy="227160"/>
            <a:chOff x="6372360" y="4581360"/>
            <a:chExt cx="210960" cy="227160"/>
          </a:xfrm>
        </p:grpSpPr>
        <p:sp>
          <p:nvSpPr>
            <p:cNvPr id="211" name="Line 26"/>
            <p:cNvSpPr/>
            <p:nvPr/>
          </p:nvSpPr>
          <p:spPr>
            <a:xfrm>
              <a:off x="6372360" y="4592520"/>
              <a:ext cx="7272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6443640" y="458784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>
              <a:off x="6510240" y="458136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9"/>
          <p:cNvGrpSpPr/>
          <p:nvPr/>
        </p:nvGrpSpPr>
        <p:grpSpPr>
          <a:xfrm>
            <a:off x="3708360" y="4586400"/>
            <a:ext cx="210960" cy="226440"/>
            <a:chOff x="3708360" y="4586400"/>
            <a:chExt cx="210960" cy="226440"/>
          </a:xfrm>
        </p:grpSpPr>
        <p:sp>
          <p:nvSpPr>
            <p:cNvPr id="215" name="Line 30"/>
            <p:cNvSpPr/>
            <p:nvPr/>
          </p:nvSpPr>
          <p:spPr>
            <a:xfrm>
              <a:off x="3708360" y="4597200"/>
              <a:ext cx="7272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3779640" y="459252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3846240" y="458640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2700360" y="3838680"/>
            <a:ext cx="241920" cy="72360"/>
            <a:chOff x="2700360" y="3838680"/>
            <a:chExt cx="241920" cy="72360"/>
          </a:xfrm>
        </p:grpSpPr>
        <p:sp>
          <p:nvSpPr>
            <p:cNvPr id="219" name="Line 20"/>
            <p:cNvSpPr/>
            <p:nvPr/>
          </p:nvSpPr>
          <p:spPr>
            <a:xfrm>
              <a:off x="2700360" y="391104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2769840" y="383868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5"/>
          <p:cNvGrpSpPr/>
          <p:nvPr/>
        </p:nvGrpSpPr>
        <p:grpSpPr>
          <a:xfrm>
            <a:off x="3370320" y="2543040"/>
            <a:ext cx="241920" cy="72360"/>
            <a:chOff x="3370320" y="2543040"/>
            <a:chExt cx="241920" cy="72360"/>
          </a:xfrm>
        </p:grpSpPr>
        <p:sp>
          <p:nvSpPr>
            <p:cNvPr id="222" name="Line 56"/>
            <p:cNvSpPr/>
            <p:nvPr/>
          </p:nvSpPr>
          <p:spPr>
            <a:xfrm>
              <a:off x="3370320" y="261540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7"/>
            <p:cNvSpPr/>
            <p:nvPr/>
          </p:nvSpPr>
          <p:spPr>
            <a:xfrm>
              <a:off x="3439800" y="254304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63"/>
          <p:cNvSpPr/>
          <p:nvPr/>
        </p:nvSpPr>
        <p:spPr>
          <a:xfrm>
            <a:off x="3870360" y="1835280"/>
            <a:ext cx="4321080" cy="28796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 flipH="1">
            <a:off x="7019640" y="3911760"/>
            <a:ext cx="14292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4716360" y="2398680"/>
            <a:ext cx="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4716000" y="2349360"/>
            <a:ext cx="14292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2411280" y="1822320"/>
            <a:ext cx="5761080" cy="2881440"/>
          </a:xfrm>
          <a:prstGeom prst="triangle">
            <a:avLst>
              <a:gd name="adj" fmla="val 2515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132000" y="3263760"/>
            <a:ext cx="288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292720" y="3263760"/>
            <a:ext cx="719280" cy="14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132000" y="3263760"/>
            <a:ext cx="2160720" cy="14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V="1">
            <a:off x="4211640" y="3263760"/>
            <a:ext cx="36036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572000" y="3263760"/>
            <a:ext cx="1079640" cy="71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4211640" y="3983040"/>
            <a:ext cx="14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12400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70692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8172360" y="4630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77164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084720" y="30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5148360" y="4703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924360" y="391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4427640" y="2903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5580000" y="391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2"/>
          <p:cNvGrpSpPr/>
          <p:nvPr/>
        </p:nvGrpSpPr>
        <p:grpSpPr>
          <a:xfrm>
            <a:off x="2700360" y="3838680"/>
            <a:ext cx="241920" cy="72360"/>
            <a:chOff x="2700360" y="3838680"/>
            <a:chExt cx="241920" cy="72360"/>
          </a:xfrm>
        </p:grpSpPr>
        <p:sp>
          <p:nvSpPr>
            <p:cNvPr id="246" name="Line 20"/>
            <p:cNvSpPr/>
            <p:nvPr/>
          </p:nvSpPr>
          <p:spPr>
            <a:xfrm>
              <a:off x="2700360" y="391104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2769840" y="383868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27"/>
          <p:cNvSpPr/>
          <p:nvPr/>
        </p:nvSpPr>
        <p:spPr>
          <a:xfrm>
            <a:off x="4716360" y="2398680"/>
            <a:ext cx="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 flipH="1">
            <a:off x="4716000" y="2349360"/>
            <a:ext cx="14292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 flipH="1">
            <a:off x="7019640" y="3911760"/>
            <a:ext cx="14292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3"/>
          <p:cNvGrpSpPr/>
          <p:nvPr/>
        </p:nvGrpSpPr>
        <p:grpSpPr>
          <a:xfrm>
            <a:off x="6372360" y="4581360"/>
            <a:ext cx="210960" cy="227160"/>
            <a:chOff x="6372360" y="4581360"/>
            <a:chExt cx="210960" cy="227160"/>
          </a:xfrm>
        </p:grpSpPr>
        <p:sp>
          <p:nvSpPr>
            <p:cNvPr id="252" name="Line 30"/>
            <p:cNvSpPr/>
            <p:nvPr/>
          </p:nvSpPr>
          <p:spPr>
            <a:xfrm>
              <a:off x="6372360" y="4592520"/>
              <a:ext cx="7272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6443640" y="458784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2"/>
            <p:cNvSpPr/>
            <p:nvPr/>
          </p:nvSpPr>
          <p:spPr>
            <a:xfrm>
              <a:off x="6510240" y="4581360"/>
              <a:ext cx="7308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3708360" y="4586400"/>
            <a:ext cx="210960" cy="226440"/>
            <a:chOff x="3708360" y="4586400"/>
            <a:chExt cx="210960" cy="226440"/>
          </a:xfrm>
        </p:grpSpPr>
        <p:sp>
          <p:nvSpPr>
            <p:cNvPr id="256" name="Line 35"/>
            <p:cNvSpPr/>
            <p:nvPr/>
          </p:nvSpPr>
          <p:spPr>
            <a:xfrm>
              <a:off x="3708360" y="4597200"/>
              <a:ext cx="7272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6"/>
            <p:cNvSpPr/>
            <p:nvPr/>
          </p:nvSpPr>
          <p:spPr>
            <a:xfrm>
              <a:off x="3779640" y="459252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7"/>
            <p:cNvSpPr/>
            <p:nvPr/>
          </p:nvSpPr>
          <p:spPr>
            <a:xfrm>
              <a:off x="3846240" y="4586400"/>
              <a:ext cx="730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1"/>
          <p:cNvGrpSpPr/>
          <p:nvPr/>
        </p:nvGrpSpPr>
        <p:grpSpPr>
          <a:xfrm>
            <a:off x="3677760" y="3178800"/>
            <a:ext cx="286200" cy="169200"/>
            <a:chOff x="3677760" y="3178800"/>
            <a:chExt cx="286200" cy="169200"/>
          </a:xfrm>
        </p:grpSpPr>
        <p:sp>
          <p:nvSpPr>
            <p:cNvPr id="260" name="Arc 39"/>
            <p:cNvSpPr/>
            <p:nvPr/>
          </p:nvSpPr>
          <p:spPr>
            <a:xfrm rot="2585400">
              <a:off x="3700440" y="3205440"/>
              <a:ext cx="123480" cy="115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rc 40"/>
            <p:cNvSpPr/>
            <p:nvPr/>
          </p:nvSpPr>
          <p:spPr>
            <a:xfrm rot="2585400">
              <a:off x="3817440" y="3205080"/>
              <a:ext cx="123480" cy="115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2"/>
          <p:cNvGrpSpPr/>
          <p:nvPr/>
        </p:nvGrpSpPr>
        <p:grpSpPr>
          <a:xfrm>
            <a:off x="5115960" y="3178800"/>
            <a:ext cx="286200" cy="169200"/>
            <a:chOff x="5115960" y="3178800"/>
            <a:chExt cx="286200" cy="169200"/>
          </a:xfrm>
        </p:grpSpPr>
        <p:sp>
          <p:nvSpPr>
            <p:cNvPr id="263" name="Arc 43"/>
            <p:cNvSpPr/>
            <p:nvPr/>
          </p:nvSpPr>
          <p:spPr>
            <a:xfrm rot="2585400">
              <a:off x="5138640" y="3205440"/>
              <a:ext cx="123480" cy="115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44"/>
            <p:cNvSpPr/>
            <p:nvPr/>
          </p:nvSpPr>
          <p:spPr>
            <a:xfrm rot="2585400">
              <a:off x="5255640" y="3205080"/>
              <a:ext cx="123480" cy="115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rc 47"/>
          <p:cNvSpPr/>
          <p:nvPr/>
        </p:nvSpPr>
        <p:spPr>
          <a:xfrm rot="5200200">
            <a:off x="4493520" y="4118040"/>
            <a:ext cx="139680" cy="158760"/>
          </a:xfrm>
          <a:custGeom>
            <a:avLst/>
            <a:gdLst>
              <a:gd name="textAreaLeft" fmla="*/ 0 w 139680"/>
              <a:gd name="textAreaRight" fmla="*/ 140040 w 1396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48"/>
          <p:cNvSpPr/>
          <p:nvPr/>
        </p:nvSpPr>
        <p:spPr>
          <a:xfrm rot="5200200">
            <a:off x="3644280" y="3542040"/>
            <a:ext cx="139680" cy="158760"/>
          </a:xfrm>
          <a:custGeom>
            <a:avLst/>
            <a:gdLst>
              <a:gd name="textAreaLeft" fmla="*/ 0 w 139680"/>
              <a:gd name="textAreaRight" fmla="*/ 140040 w 1396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5"/>
          <p:cNvGrpSpPr/>
          <p:nvPr/>
        </p:nvGrpSpPr>
        <p:grpSpPr>
          <a:xfrm>
            <a:off x="5372280" y="4093920"/>
            <a:ext cx="270000" cy="387720"/>
            <a:chOff x="5372280" y="4093920"/>
            <a:chExt cx="270000" cy="387720"/>
          </a:xfrm>
        </p:grpSpPr>
        <p:grpSp>
          <p:nvGrpSpPr>
            <p:cNvPr id="268" name="Group 49"/>
            <p:cNvGrpSpPr/>
            <p:nvPr/>
          </p:nvGrpSpPr>
          <p:grpSpPr>
            <a:xfrm>
              <a:off x="5372280" y="4206240"/>
              <a:ext cx="216000" cy="275400"/>
              <a:chOff x="5372280" y="4206240"/>
              <a:chExt cx="216000" cy="275400"/>
            </a:xfrm>
          </p:grpSpPr>
          <p:sp>
            <p:nvSpPr>
              <p:cNvPr id="269" name="Arc 50"/>
              <p:cNvSpPr/>
              <p:nvPr/>
            </p:nvSpPr>
            <p:spPr>
              <a:xfrm rot="9716400">
                <a:off x="5444640" y="422244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rc 51"/>
              <p:cNvSpPr/>
              <p:nvPr/>
            </p:nvSpPr>
            <p:spPr>
              <a:xfrm rot="9716400">
                <a:off x="5389200" y="433512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52"/>
            <p:cNvGrpSpPr/>
            <p:nvPr/>
          </p:nvGrpSpPr>
          <p:grpSpPr>
            <a:xfrm>
              <a:off x="5426280" y="4093920"/>
              <a:ext cx="216000" cy="275760"/>
              <a:chOff x="5426280" y="4093920"/>
              <a:chExt cx="216000" cy="275760"/>
            </a:xfrm>
          </p:grpSpPr>
          <p:sp>
            <p:nvSpPr>
              <p:cNvPr id="272" name="Arc 53"/>
              <p:cNvSpPr/>
              <p:nvPr/>
            </p:nvSpPr>
            <p:spPr>
              <a:xfrm rot="9716400">
                <a:off x="5498640" y="411012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rc 54"/>
              <p:cNvSpPr/>
              <p:nvPr/>
            </p:nvSpPr>
            <p:spPr>
              <a:xfrm rot="9716400">
                <a:off x="5443200" y="422316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Group 56"/>
          <p:cNvGrpSpPr/>
          <p:nvPr/>
        </p:nvGrpSpPr>
        <p:grpSpPr>
          <a:xfrm>
            <a:off x="5709960" y="3413520"/>
            <a:ext cx="270360" cy="387000"/>
            <a:chOff x="5709960" y="3413520"/>
            <a:chExt cx="270360" cy="387000"/>
          </a:xfrm>
        </p:grpSpPr>
        <p:grpSp>
          <p:nvGrpSpPr>
            <p:cNvPr id="275" name="Group 57"/>
            <p:cNvGrpSpPr/>
            <p:nvPr/>
          </p:nvGrpSpPr>
          <p:grpSpPr>
            <a:xfrm>
              <a:off x="5709960" y="3525480"/>
              <a:ext cx="216360" cy="275040"/>
              <a:chOff x="5709960" y="3525480"/>
              <a:chExt cx="216360" cy="275040"/>
            </a:xfrm>
          </p:grpSpPr>
          <p:sp>
            <p:nvSpPr>
              <p:cNvPr id="276" name="Arc 58"/>
              <p:cNvSpPr/>
              <p:nvPr/>
            </p:nvSpPr>
            <p:spPr>
              <a:xfrm rot="9716400">
                <a:off x="5782680" y="354168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rc 59"/>
              <p:cNvSpPr/>
              <p:nvPr/>
            </p:nvSpPr>
            <p:spPr>
              <a:xfrm rot="9716400">
                <a:off x="5726880" y="365400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0"/>
            <p:cNvGrpSpPr/>
            <p:nvPr/>
          </p:nvGrpSpPr>
          <p:grpSpPr>
            <a:xfrm>
              <a:off x="5764320" y="3413520"/>
              <a:ext cx="216000" cy="275400"/>
              <a:chOff x="5764320" y="3413520"/>
              <a:chExt cx="216000" cy="275400"/>
            </a:xfrm>
          </p:grpSpPr>
          <p:sp>
            <p:nvSpPr>
              <p:cNvPr id="279" name="Arc 61"/>
              <p:cNvSpPr/>
              <p:nvPr/>
            </p:nvSpPr>
            <p:spPr>
              <a:xfrm rot="9716400">
                <a:off x="5836680" y="342972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rc 62"/>
              <p:cNvSpPr/>
              <p:nvPr/>
            </p:nvSpPr>
            <p:spPr>
              <a:xfrm rot="9716400">
                <a:off x="5781240" y="3542400"/>
                <a:ext cx="126360" cy="129960"/>
              </a:xfrm>
              <a:custGeom>
                <a:avLst/>
                <a:gdLst>
                  <a:gd name="textAreaLeft" fmla="*/ 0 w 126360"/>
                  <a:gd name="textAreaRight" fmla="*/ 126360 w 126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63"/>
          <p:cNvGrpSpPr/>
          <p:nvPr/>
        </p:nvGrpSpPr>
        <p:grpSpPr>
          <a:xfrm>
            <a:off x="3370320" y="2543040"/>
            <a:ext cx="241920" cy="72360"/>
            <a:chOff x="3370320" y="2543040"/>
            <a:chExt cx="241920" cy="72360"/>
          </a:xfrm>
        </p:grpSpPr>
        <p:sp>
          <p:nvSpPr>
            <p:cNvPr id="282" name="Line 64"/>
            <p:cNvSpPr/>
            <p:nvPr/>
          </p:nvSpPr>
          <p:spPr>
            <a:xfrm>
              <a:off x="3370320" y="2615400"/>
              <a:ext cx="17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5"/>
            <p:cNvSpPr/>
            <p:nvPr/>
          </p:nvSpPr>
          <p:spPr>
            <a:xfrm>
              <a:off x="3439800" y="2543040"/>
              <a:ext cx="172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66"/>
          <p:cNvSpPr/>
          <p:nvPr/>
        </p:nvSpPr>
        <p:spPr>
          <a:xfrm>
            <a:off x="250920" y="544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10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, ВС=14см, АС=1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250920" y="59961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периметр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Q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611280" y="1268280"/>
            <a:ext cx="4248000" cy="2881440"/>
          </a:xfrm>
          <a:prstGeom prst="triangle">
            <a:avLst>
              <a:gd name="adj" fmla="val 3258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H="1">
            <a:off x="2698920" y="2708280"/>
            <a:ext cx="720720" cy="144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2604600" y="1844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4065120" y="3306600"/>
            <a:ext cx="73080" cy="14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169020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H="1">
            <a:off x="176328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363348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 flipH="1">
            <a:off x="3706560" y="4076640"/>
            <a:ext cx="7308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6656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478800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1835280" y="907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25542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1964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5292720" y="1557360"/>
            <a:ext cx="3600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K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3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2:34:01Z</dcterms:created>
  <dc:creator>Учитель</dc:creator>
  <dc:description/>
  <dc:language>en-US</dc:language>
  <cp:lastModifiedBy>User</cp:lastModifiedBy>
  <cp:lastPrinted>2013-02-06T23:59:17Z</cp:lastPrinted>
  <dcterms:modified xsi:type="dcterms:W3CDTF">2013-02-07T00:19:48Z</dcterms:modified>
  <cp:revision>42</cp:revision>
  <dc:subject/>
  <dc:title>Урок «Измерительные работы на местности»</dc:title>
</cp:coreProperties>
</file>