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A6E-C6E9-456D-9F4F-7198F682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D6B-AD0F-405F-9E96-FE93830A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FF2-5E46-4A58-BD5D-54B92CF3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D49-4BFE-4E4A-9B36-2A573801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9FC-D88D-4896-A3D0-1CB58E11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4476-F7AA-40C2-8843-E84CC97A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62A8-0C12-4E35-9C4C-A5E6EBAC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951B-660E-45E4-89EF-146B9F1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7C0F-07AD-473A-94B4-5DA7DB20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EFE8-E49E-4488-8D47-B45A1A56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C7B7-4F8A-47F5-9EBD-EF869B59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B53-C61E-45BE-BC65-C299355F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1EF-27E2-4DAD-A1CE-D7D0C0C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D084-94AB-4333-BE23-E77A6ED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E386-25C4-4201-9A37-E54348BC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3855-D558-434B-A537-FC06E905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420A-5125-4FF4-9DB4-DE7AE721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98F-2DB9-4CDB-8E6F-2F8C3F29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7CE-09F0-4EB2-95C0-91C9E3BF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4B4-C678-45F2-A7C2-C88106D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4DE-94E5-4FE7-9B5F-AD27EAB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BC7-B3AE-41DF-BFF4-8AD266F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639-827A-46C1-A74B-54E47ED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530-4FD2-416B-9675-1C18839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F810-B829-447B-BEF3-5C34C6BADC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EC64-A141-42DD-A714-FB140F7B6F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12" descr=""/>
          <p:cNvPicPr/>
          <p:nvPr/>
        </p:nvPicPr>
        <p:blipFill>
          <a:blip r:embed="rId1"/>
          <a:stretch/>
        </p:blipFill>
        <p:spPr>
          <a:xfrm>
            <a:off x="3273480" y="255600"/>
            <a:ext cx="5383080" cy="1019160"/>
          </a:xfrm>
          <a:prstGeom prst="rect">
            <a:avLst/>
          </a:prstGeom>
          <a:ln w="0">
            <a:noFill/>
          </a:ln>
        </p:spPr>
      </p:pic>
      <p:pic>
        <p:nvPicPr>
          <p:cNvPr id="152" name="WordArt 13" descr=""/>
          <p:cNvPicPr/>
          <p:nvPr/>
        </p:nvPicPr>
        <p:blipFill>
          <a:blip r:embed="rId2"/>
          <a:stretch/>
        </p:blipFill>
        <p:spPr>
          <a:xfrm>
            <a:off x="390600" y="4286160"/>
            <a:ext cx="7619760" cy="889200"/>
          </a:xfrm>
          <a:prstGeom prst="rect">
            <a:avLst/>
          </a:prstGeom>
          <a:ln w="0">
            <a:noFill/>
          </a:ln>
        </p:spPr>
      </p:pic>
      <p:sp>
        <p:nvSpPr>
          <p:cNvPr id="153" name="Лента лицом вниз 8"/>
          <p:cNvSpPr/>
          <p:nvPr/>
        </p:nvSpPr>
        <p:spPr>
          <a:xfrm>
            <a:off x="142920" y="2286000"/>
            <a:ext cx="8858160" cy="1500120"/>
          </a:xfrm>
          <a:custGeom>
            <a:avLst/>
            <a:gdLst>
              <a:gd name="textAreaLeft" fmla="*/ 2214360 w 8858160"/>
              <a:gd name="textAreaRight" fmla="*/ 6643800 w 8858160"/>
              <a:gd name="textAreaTop" fmla="*/ 24984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ce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Числовые суевер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14200" y="2786040"/>
            <a:ext cx="3286080" cy="25718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не изменяется при возведении ее в любую степ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 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  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11" descr="H:\Неделя математики 2017г\tsifry-v-kartinkah-1.jpg"/>
          <p:cNvPicPr/>
          <p:nvPr/>
        </p:nvPicPr>
        <p:blipFill>
          <a:blip r:embed="rId1"/>
          <a:srcRect l="0" t="0" r="50007" b="52702"/>
          <a:stretch/>
        </p:blipFill>
        <p:spPr>
          <a:xfrm>
            <a:off x="928800" y="142920"/>
            <a:ext cx="2093760" cy="2143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4286160" y="214200"/>
            <a:ext cx="4429080" cy="27147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714840" y="3071880"/>
            <a:ext cx="4572000" cy="228600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4429080" y="4057560"/>
                <a:ext cx="22860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286160" y="333000"/>
            <a:ext cx="435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натуральное число можно представить в вид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ы предшествовавше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и единиц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=1+1,   3=2+1,   4=3+1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Стрелка вправо с вырезом 19"/>
          <p:cNvSpPr/>
          <p:nvPr/>
        </p:nvSpPr>
        <p:spPr>
          <a:xfrm>
            <a:off x="3143160" y="114300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Стрелка вправо с вырезом 20"/>
          <p:cNvSpPr/>
          <p:nvPr/>
        </p:nvSpPr>
        <p:spPr>
          <a:xfrm rot="5400000">
            <a:off x="1706400" y="2293920"/>
            <a:ext cx="500040" cy="483840"/>
          </a:xfrm>
          <a:custGeom>
            <a:avLst/>
            <a:gdLst>
              <a:gd name="textAreaLeft" fmla="*/ 120960 w 500040"/>
              <a:gd name="textAreaRight" fmla="*/ 379080 w 500040"/>
              <a:gd name="textAreaTop" fmla="*/ 120960 h 483840"/>
              <a:gd name="textAreaBottom" fmla="*/ 362880 h 483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143" y="5400"/>
                </a:lnTo>
                <a:lnTo>
                  <a:pt x="11143" y="0"/>
                </a:lnTo>
                <a:lnTo>
                  <a:pt x="21600" y="10800"/>
                </a:lnTo>
                <a:lnTo>
                  <a:pt x="11143" y="21600"/>
                </a:lnTo>
                <a:lnTo>
                  <a:pt x="11143" y="16200"/>
                </a:lnTo>
                <a:lnTo>
                  <a:pt x="0" y="16200"/>
                </a:lnTo>
                <a:lnTo>
                  <a:pt x="52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Стрелка вправо с вырезом 21"/>
          <p:cNvSpPr/>
          <p:nvPr/>
        </p:nvSpPr>
        <p:spPr>
          <a:xfrm rot="2236800">
            <a:off x="2975040" y="2317680"/>
            <a:ext cx="979560" cy="486000"/>
          </a:xfrm>
          <a:custGeom>
            <a:avLst/>
            <a:gdLst>
              <a:gd name="textAreaLeft" fmla="*/ 121320 w 979560"/>
              <a:gd name="textAreaRight" fmla="*/ 858240 w 979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44" y="5400"/>
                </a:lnTo>
                <a:lnTo>
                  <a:pt x="16244" y="0"/>
                </a:lnTo>
                <a:lnTo>
                  <a:pt x="21600" y="10800"/>
                </a:lnTo>
                <a:lnTo>
                  <a:pt x="16244" y="21600"/>
                </a:lnTo>
                <a:lnTo>
                  <a:pt x="16244" y="16200"/>
                </a:lnTo>
                <a:lnTo>
                  <a:pt x="0" y="16200"/>
                </a:lnTo>
                <a:lnTo>
                  <a:pt x="267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734640" y="3146400"/>
            <a:ext cx="456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можно представ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все десять циф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928960" y="5788080"/>
            <a:ext cx="48578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 – божественное чис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42560" y="2786040"/>
            <a:ext cx="4357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овицы  и поговор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Два сапога па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За двумя зайцами погонишься, ни одного не поймаеш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429080" y="214200"/>
            <a:ext cx="4357800" cy="46436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Стрелка вправо с вырезом 19"/>
          <p:cNvSpPr/>
          <p:nvPr/>
        </p:nvSpPr>
        <p:spPr>
          <a:xfrm>
            <a:off x="3000240" y="1143000"/>
            <a:ext cx="642960" cy="484200"/>
          </a:xfrm>
          <a:custGeom>
            <a:avLst/>
            <a:gdLst>
              <a:gd name="textAreaLeft" fmla="*/ 120960 w 642960"/>
              <a:gd name="textAreaRight" fmla="*/ 522000 w 6429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67" y="5400"/>
                </a:lnTo>
                <a:lnTo>
                  <a:pt x="13467" y="0"/>
                </a:lnTo>
                <a:lnTo>
                  <a:pt x="21600" y="10800"/>
                </a:lnTo>
                <a:lnTo>
                  <a:pt x="13467" y="21600"/>
                </a:lnTo>
                <a:lnTo>
                  <a:pt x="13467" y="16200"/>
                </a:lnTo>
                <a:lnTo>
                  <a:pt x="0" y="16200"/>
                </a:lnTo>
                <a:lnTo>
                  <a:pt x="40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4500720" y="4932360"/>
            <a:ext cx="407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 –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духочувственное число, храбро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3" descr="H:\Неделя математики 2017г\tsifry-v-kartinkah-1.jpg"/>
          <p:cNvPicPr/>
          <p:nvPr/>
        </p:nvPicPr>
        <p:blipFill>
          <a:blip r:embed="rId1"/>
          <a:srcRect l="48544" t="8184" r="0" b="54048"/>
          <a:stretch/>
        </p:blipFill>
        <p:spPr>
          <a:xfrm>
            <a:off x="500040" y="214200"/>
            <a:ext cx="2519280" cy="24289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4429080" y="308520"/>
            <a:ext cx="428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пяти двоек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 действий мож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любое числ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 до 9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2+2-2-2: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2+2+2-2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2+2-2: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2*2*2-2*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2+2+2-2: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2+2+2 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143000" y="857160"/>
            <a:ext cx="6429240" cy="54295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3" descr="H:\Неделя математики 2017г\tsifry-v-kartinkah-1.jpg"/>
          <p:cNvPicPr/>
          <p:nvPr/>
        </p:nvPicPr>
        <p:blipFill>
          <a:blip r:embed="rId1"/>
          <a:srcRect l="48544" t="8184" r="0" b="54048"/>
          <a:stretch/>
        </p:blipFill>
        <p:spPr>
          <a:xfrm>
            <a:off x="0" y="0"/>
            <a:ext cx="111132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357200" y="928800"/>
          <a:ext cx="6096240" cy="5303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13840" y="3357360"/>
            <a:ext cx="3714840" cy="18572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четырех троек можно записать все числа от 1 до 1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786120" y="214200"/>
            <a:ext cx="4714920" cy="17859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число, равное сумме предыдущих ему чисел в натуральном ряду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+2=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Стрелка вправо с вырезом 19"/>
          <p:cNvSpPr/>
          <p:nvPr/>
        </p:nvSpPr>
        <p:spPr>
          <a:xfrm>
            <a:off x="3286080" y="1143000"/>
            <a:ext cx="642960" cy="484200"/>
          </a:xfrm>
          <a:custGeom>
            <a:avLst/>
            <a:gdLst>
              <a:gd name="textAreaLeft" fmla="*/ 120960 w 642960"/>
              <a:gd name="textAreaRight" fmla="*/ 522000 w 6429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67" y="5400"/>
                </a:lnTo>
                <a:lnTo>
                  <a:pt x="13467" y="0"/>
                </a:lnTo>
                <a:lnTo>
                  <a:pt x="21600" y="10800"/>
                </a:lnTo>
                <a:lnTo>
                  <a:pt x="13467" y="21600"/>
                </a:lnTo>
                <a:lnTo>
                  <a:pt x="13467" y="16200"/>
                </a:lnTo>
                <a:lnTo>
                  <a:pt x="0" y="16200"/>
                </a:lnTo>
                <a:lnTo>
                  <a:pt x="40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2" descr="H:\Неделя математики 2017г\tsifry-v-kartinkah-1.jpg"/>
          <p:cNvPicPr/>
          <p:nvPr/>
        </p:nvPicPr>
        <p:blipFill>
          <a:blip r:embed="rId1"/>
          <a:srcRect l="0" t="47305" r="52919" b="0"/>
          <a:stretch/>
        </p:blipFill>
        <p:spPr>
          <a:xfrm>
            <a:off x="928800" y="214200"/>
            <a:ext cx="2071440" cy="25084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4071960" y="2143080"/>
            <a:ext cx="4714920" cy="342900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4000680" y="2143080"/>
                <a:ext cx="1942920" cy="355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6429240" y="2000160"/>
                <a:ext cx="20718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9" name="Rectangle 17"/>
          <p:cNvSpPr/>
          <p:nvPr/>
        </p:nvSpPr>
        <p:spPr>
          <a:xfrm>
            <a:off x="1928880" y="5716440"/>
            <a:ext cx="6143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3 - символ совершен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Стрелка вправо с вырезом 16"/>
          <p:cNvSpPr/>
          <p:nvPr/>
        </p:nvSpPr>
        <p:spPr>
          <a:xfrm rot="5400000">
            <a:off x="1796040" y="2804400"/>
            <a:ext cx="492120" cy="484200"/>
          </a:xfrm>
          <a:custGeom>
            <a:avLst/>
            <a:gdLst>
              <a:gd name="textAreaLeft" fmla="*/ 120960 w 492120"/>
              <a:gd name="textAreaRight" fmla="*/ 371160 w 492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974" y="5400"/>
                </a:lnTo>
                <a:lnTo>
                  <a:pt x="10974" y="0"/>
                </a:lnTo>
                <a:lnTo>
                  <a:pt x="21600" y="10800"/>
                </a:lnTo>
                <a:lnTo>
                  <a:pt x="10974" y="21600"/>
                </a:lnTo>
                <a:lnTo>
                  <a:pt x="10974" y="16200"/>
                </a:lnTo>
                <a:lnTo>
                  <a:pt x="0" y="16200"/>
                </a:lnTo>
                <a:lnTo>
                  <a:pt x="531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Стрелка вправо с вырезом 17"/>
          <p:cNvSpPr/>
          <p:nvPr/>
        </p:nvSpPr>
        <p:spPr>
          <a:xfrm>
            <a:off x="3286080" y="4643280"/>
            <a:ext cx="642960" cy="484200"/>
          </a:xfrm>
          <a:custGeom>
            <a:avLst/>
            <a:gdLst>
              <a:gd name="textAreaLeft" fmla="*/ 120960 w 642960"/>
              <a:gd name="textAreaRight" fmla="*/ 522000 w 6429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67" y="5400"/>
                </a:lnTo>
                <a:lnTo>
                  <a:pt x="13467" y="0"/>
                </a:lnTo>
                <a:lnTo>
                  <a:pt x="21600" y="10800"/>
                </a:lnTo>
                <a:lnTo>
                  <a:pt x="13467" y="21600"/>
                </a:lnTo>
                <a:lnTo>
                  <a:pt x="13467" y="16200"/>
                </a:lnTo>
                <a:lnTo>
                  <a:pt x="0" y="16200"/>
                </a:lnTo>
                <a:lnTo>
                  <a:pt x="40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71880" y="213840"/>
            <a:ext cx="56433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овицы и поговор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рядом лучше, чем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але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одной плит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а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утся - обед пригора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воих попотеешь - з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еш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удиться 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н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оворил с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тр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б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езет д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знавай друга 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я - узнавай 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щанног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жду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двое бранятся, тут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т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уй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горшк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ш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троиц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2" descr="H:\Неделя математики 2017г\tsifry-v-kartinkah-1.jpg"/>
          <p:cNvPicPr/>
          <p:nvPr/>
        </p:nvPicPr>
        <p:blipFill>
          <a:blip r:embed="rId1"/>
          <a:srcRect l="0" t="47305" r="52919" b="0"/>
          <a:stretch/>
        </p:blipFill>
        <p:spPr>
          <a:xfrm>
            <a:off x="857160" y="214200"/>
            <a:ext cx="2071800" cy="25084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7"/>
          <p:cNvSpPr/>
          <p:nvPr/>
        </p:nvSpPr>
        <p:spPr>
          <a:xfrm>
            <a:off x="285840" y="3646800"/>
            <a:ext cx="2714400" cy="9471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3 - символ совершен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3143160"/>
            <a:ext cx="3929040" cy="25718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уммы четырех чисел 1, 2, 3 и 4 непосредственно получаются все числа первого десят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071960" y="714240"/>
            <a:ext cx="3500280" cy="15717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Стрелка вправо с вырезом 19"/>
          <p:cNvSpPr/>
          <p:nvPr/>
        </p:nvSpPr>
        <p:spPr>
          <a:xfrm>
            <a:off x="3286080" y="1143000"/>
            <a:ext cx="642960" cy="484200"/>
          </a:xfrm>
          <a:custGeom>
            <a:avLst/>
            <a:gdLst>
              <a:gd name="textAreaLeft" fmla="*/ 120960 w 642960"/>
              <a:gd name="textAreaRight" fmla="*/ 522000 w 6429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67" y="5400"/>
                </a:lnTo>
                <a:lnTo>
                  <a:pt x="13467" y="0"/>
                </a:lnTo>
                <a:lnTo>
                  <a:pt x="21600" y="10800"/>
                </a:lnTo>
                <a:lnTo>
                  <a:pt x="13467" y="21600"/>
                </a:lnTo>
                <a:lnTo>
                  <a:pt x="13467" y="16200"/>
                </a:lnTo>
                <a:lnTo>
                  <a:pt x="0" y="16200"/>
                </a:lnTo>
                <a:lnTo>
                  <a:pt x="40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071960" y="2786040"/>
            <a:ext cx="4714920" cy="1500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071960" y="4788000"/>
            <a:ext cx="4286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4 - символ сил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Стрелка вправо с вырезом 16"/>
          <p:cNvSpPr/>
          <p:nvPr/>
        </p:nvSpPr>
        <p:spPr>
          <a:xfrm rot="5400000">
            <a:off x="1781640" y="2575800"/>
            <a:ext cx="492120" cy="484200"/>
          </a:xfrm>
          <a:custGeom>
            <a:avLst/>
            <a:gdLst>
              <a:gd name="textAreaLeft" fmla="*/ 120960 w 492120"/>
              <a:gd name="textAreaRight" fmla="*/ 371160 w 492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974" y="5400"/>
                </a:lnTo>
                <a:lnTo>
                  <a:pt x="10974" y="0"/>
                </a:lnTo>
                <a:lnTo>
                  <a:pt x="21600" y="10800"/>
                </a:lnTo>
                <a:lnTo>
                  <a:pt x="10974" y="21600"/>
                </a:lnTo>
                <a:lnTo>
                  <a:pt x="10974" y="16200"/>
                </a:lnTo>
                <a:lnTo>
                  <a:pt x="0" y="16200"/>
                </a:lnTo>
                <a:lnTo>
                  <a:pt x="531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Стрелка вправо с вырезом 17"/>
          <p:cNvSpPr/>
          <p:nvPr/>
        </p:nvSpPr>
        <p:spPr>
          <a:xfrm rot="1870200">
            <a:off x="2977920" y="2307960"/>
            <a:ext cx="1047600" cy="484200"/>
          </a:xfrm>
          <a:custGeom>
            <a:avLst/>
            <a:gdLst>
              <a:gd name="textAreaLeft" fmla="*/ 120960 w 1047600"/>
              <a:gd name="textAreaRight" fmla="*/ 926640 w 104760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09" y="5400"/>
                </a:lnTo>
                <a:lnTo>
                  <a:pt x="16609" y="0"/>
                </a:lnTo>
                <a:lnTo>
                  <a:pt x="21600" y="10800"/>
                </a:lnTo>
                <a:lnTo>
                  <a:pt x="16609" y="21600"/>
                </a:lnTo>
                <a:lnTo>
                  <a:pt x="16609" y="16200"/>
                </a:lnTo>
                <a:lnTo>
                  <a:pt x="0" y="16200"/>
                </a:lnTo>
                <a:lnTo>
                  <a:pt x="249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4" descr="H:\Неделя математики 2017г\tsifry-v-kartinkah-1.jpg"/>
          <p:cNvPicPr/>
          <p:nvPr/>
        </p:nvPicPr>
        <p:blipFill>
          <a:blip r:embed="rId1"/>
          <a:srcRect l="47088" t="45959" r="0" b="0"/>
          <a:stretch/>
        </p:blipFill>
        <p:spPr>
          <a:xfrm>
            <a:off x="820800" y="142920"/>
            <a:ext cx="2198520" cy="2428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4071960" y="2935080"/>
            <a:ext cx="471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44 : 44                              6 = ( 4 + 4 ) : 4 +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4 : 4 + 4 : 4                       7 = 4 + 4 – 4 :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= ( 4 + 4 + 4 ) : 4                  8 = 4 * 4 – 4 –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= 4 + 4 ( 4 – 4 )                    9 = 4 + 4 + 4 :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= ( 4 * 4 + 4 ) : 4                 10 = ( 44 – 4 ) :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071960" y="790920"/>
            <a:ext cx="357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лавных стихии – вода, воздух, земля и ого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071880" y="571320"/>
            <a:ext cx="564336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овицы и поговорк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Конь о четырех ногах, да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то спотыкае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Четыре полы, а бока гол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Как дважды два – четыр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У меня молодца четыре отца, пятый батюш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Шуми, деревня: четыре двора, двое ворот, одна труб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Четыре угла дому на строение, четыре времени году на соверш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Picture 4" descr="H:\Неделя математики 2017г\tsifry-v-kartinkah-1.jpg"/>
          <p:cNvPicPr/>
          <p:nvPr/>
        </p:nvPicPr>
        <p:blipFill>
          <a:blip r:embed="rId1"/>
          <a:srcRect l="47088" t="45959" r="0" b="0"/>
          <a:stretch/>
        </p:blipFill>
        <p:spPr>
          <a:xfrm>
            <a:off x="142920" y="1428840"/>
            <a:ext cx="2643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77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77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214200" y="4500720"/>
            <a:ext cx="4714920" cy="18572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числа 5 равен сумме квадратов чисел 3 и 4, то ес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5072040" y="2499840"/>
            <a:ext cx="3929040" cy="36435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я умножаюсь само на себя, то на последнем месте получается 6, поэтому в древности меня называли круговым числом или символом течения врем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786200" y="214200"/>
            <a:ext cx="2000520" cy="5000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*6=3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214200" y="2500200"/>
            <a:ext cx="4714920" cy="185760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3143160" y="790200"/>
            <a:ext cx="3214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5 и 6 – символы течения времен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4214880" y="8586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7" name="Picture 2" descr="H:\Неделя математики 2017г\1073131.jpg"/>
          <p:cNvPicPr/>
          <p:nvPr/>
        </p:nvPicPr>
        <p:blipFill>
          <a:blip r:embed="rId1"/>
          <a:srcRect l="5881" t="52893" r="50007" b="0"/>
          <a:stretch/>
        </p:blipFill>
        <p:spPr>
          <a:xfrm>
            <a:off x="6929280" y="0"/>
            <a:ext cx="2214720" cy="2333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H:\Неделя математики 2017г\1073131.jpg"/>
          <p:cNvPicPr/>
          <p:nvPr/>
        </p:nvPicPr>
        <p:blipFill>
          <a:blip r:embed="rId2"/>
          <a:srcRect l="0" t="0" r="47347" b="47601"/>
          <a:stretch/>
        </p:blipFill>
        <p:spPr>
          <a:xfrm>
            <a:off x="214200" y="0"/>
            <a:ext cx="2400480" cy="23572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2714760" y="214200"/>
            <a:ext cx="2000160" cy="5000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*5=2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14200" y="2508120"/>
            <a:ext cx="46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порождение четн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четного чис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=2+3, и поэтому есть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имвол правосудия, союз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14200" y="457344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3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786200" y="1857240"/>
            <a:ext cx="3857760" cy="47865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овицы и поговор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571680" y="1857240"/>
            <a:ext cx="3929040" cy="47865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овицы и поговор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Picture 3" descr="H:\Неделя математики 2017г\1073131.jpg"/>
          <p:cNvPicPr/>
          <p:nvPr/>
        </p:nvPicPr>
        <p:blipFill>
          <a:blip r:embed="rId1"/>
          <a:srcRect l="0" t="0" r="47347" b="47601"/>
          <a:stretch/>
        </p:blipFill>
        <p:spPr>
          <a:xfrm>
            <a:off x="1714680" y="142920"/>
            <a:ext cx="1643040" cy="1612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H:\Неделя математики 2017г\1073131.jpg"/>
          <p:cNvPicPr/>
          <p:nvPr/>
        </p:nvPicPr>
        <p:blipFill>
          <a:blip r:embed="rId2"/>
          <a:srcRect l="5881" t="52893" r="50007" b="0"/>
          <a:stretch/>
        </p:blipFill>
        <p:spPr>
          <a:xfrm>
            <a:off x="5715000" y="142920"/>
            <a:ext cx="1571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1928880" y="5645160"/>
            <a:ext cx="5072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7 –священное чис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 rot="1870200">
            <a:off x="2477880" y="2950920"/>
            <a:ext cx="1047600" cy="484200"/>
          </a:xfrm>
          <a:custGeom>
            <a:avLst/>
            <a:gdLst>
              <a:gd name="textAreaLeft" fmla="*/ 120960 w 1047600"/>
              <a:gd name="textAreaRight" fmla="*/ 926640 w 104760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09" y="5400"/>
                </a:lnTo>
                <a:lnTo>
                  <a:pt x="16609" y="0"/>
                </a:lnTo>
                <a:lnTo>
                  <a:pt x="21600" y="10800"/>
                </a:lnTo>
                <a:lnTo>
                  <a:pt x="16609" y="21600"/>
                </a:lnTo>
                <a:lnTo>
                  <a:pt x="16609" y="16200"/>
                </a:lnTo>
                <a:lnTo>
                  <a:pt x="0" y="16200"/>
                </a:lnTo>
                <a:lnTo>
                  <a:pt x="249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Стрелка вправо с вырезом 9"/>
          <p:cNvSpPr/>
          <p:nvPr/>
        </p:nvSpPr>
        <p:spPr>
          <a:xfrm>
            <a:off x="2500200" y="1357200"/>
            <a:ext cx="1047960" cy="484200"/>
          </a:xfrm>
          <a:custGeom>
            <a:avLst/>
            <a:gdLst>
              <a:gd name="textAreaLeft" fmla="*/ 120960 w 1047960"/>
              <a:gd name="textAreaRight" fmla="*/ 927000 w 10479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09" y="5400"/>
                </a:lnTo>
                <a:lnTo>
                  <a:pt x="16609" y="0"/>
                </a:lnTo>
                <a:lnTo>
                  <a:pt x="21600" y="10800"/>
                </a:lnTo>
                <a:lnTo>
                  <a:pt x="16609" y="21600"/>
                </a:lnTo>
                <a:lnTo>
                  <a:pt x="16609" y="16200"/>
                </a:lnTo>
                <a:lnTo>
                  <a:pt x="0" y="16200"/>
                </a:lnTo>
                <a:lnTo>
                  <a:pt x="249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Стрелка вправо с вырезом 11"/>
          <p:cNvSpPr/>
          <p:nvPr/>
        </p:nvSpPr>
        <p:spPr>
          <a:xfrm>
            <a:off x="2500200" y="428760"/>
            <a:ext cx="1047960" cy="484200"/>
          </a:xfrm>
          <a:custGeom>
            <a:avLst/>
            <a:gdLst>
              <a:gd name="textAreaLeft" fmla="*/ 120960 w 1047960"/>
              <a:gd name="textAreaRight" fmla="*/ 927000 w 10479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09" y="5400"/>
                </a:lnTo>
                <a:lnTo>
                  <a:pt x="16609" y="0"/>
                </a:lnTo>
                <a:lnTo>
                  <a:pt x="21600" y="10800"/>
                </a:lnTo>
                <a:lnTo>
                  <a:pt x="16609" y="21600"/>
                </a:lnTo>
                <a:lnTo>
                  <a:pt x="16609" y="16200"/>
                </a:lnTo>
                <a:lnTo>
                  <a:pt x="0" y="16200"/>
                </a:lnTo>
                <a:lnTo>
                  <a:pt x="249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714840" y="216000"/>
            <a:ext cx="3571920" cy="5205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7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бесных т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3714840" y="1287360"/>
            <a:ext cx="3571920" cy="5205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7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удес св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3714840" y="2217960"/>
            <a:ext cx="3571920" cy="9471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7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читаемых мудрец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Стрелка вправо с вырезом 16"/>
          <p:cNvSpPr/>
          <p:nvPr/>
        </p:nvSpPr>
        <p:spPr>
          <a:xfrm>
            <a:off x="2571840" y="2214720"/>
            <a:ext cx="1047600" cy="484200"/>
          </a:xfrm>
          <a:custGeom>
            <a:avLst/>
            <a:gdLst>
              <a:gd name="textAreaLeft" fmla="*/ 120960 w 1047600"/>
              <a:gd name="textAreaRight" fmla="*/ 926640 w 104760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09" y="5400"/>
                </a:lnTo>
                <a:lnTo>
                  <a:pt x="16609" y="0"/>
                </a:lnTo>
                <a:lnTo>
                  <a:pt x="21600" y="10800"/>
                </a:lnTo>
                <a:lnTo>
                  <a:pt x="16609" y="21600"/>
                </a:lnTo>
                <a:lnTo>
                  <a:pt x="16609" y="16200"/>
                </a:lnTo>
                <a:lnTo>
                  <a:pt x="0" y="16200"/>
                </a:lnTo>
                <a:lnTo>
                  <a:pt x="249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3714840" y="3360960"/>
            <a:ext cx="3571920" cy="9471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ка Нил имеет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кав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3714840" y="4575240"/>
            <a:ext cx="3571920" cy="9471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им стоит на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олм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Стрелка вправо с вырезом 19"/>
          <p:cNvSpPr/>
          <p:nvPr/>
        </p:nvSpPr>
        <p:spPr>
          <a:xfrm rot="3211800">
            <a:off x="1776960" y="3731400"/>
            <a:ext cx="2060280" cy="484200"/>
          </a:xfrm>
          <a:custGeom>
            <a:avLst/>
            <a:gdLst>
              <a:gd name="textAreaLeft" fmla="*/ 146880 w 2060280"/>
              <a:gd name="textAreaRight" fmla="*/ 1913400 w 2060280"/>
              <a:gd name="textAreaTop" fmla="*/ 95040 h 484200"/>
              <a:gd name="textAreaBottom" fmla="*/ 3891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4237"/>
                </a:moveTo>
                <a:lnTo>
                  <a:pt x="19062" y="4237"/>
                </a:lnTo>
                <a:lnTo>
                  <a:pt x="19062" y="0"/>
                </a:lnTo>
                <a:lnTo>
                  <a:pt x="21600" y="10800"/>
                </a:lnTo>
                <a:lnTo>
                  <a:pt x="19062" y="21600"/>
                </a:lnTo>
                <a:lnTo>
                  <a:pt x="19062" y="17363"/>
                </a:lnTo>
                <a:lnTo>
                  <a:pt x="0" y="17363"/>
                </a:lnTo>
                <a:lnTo>
                  <a:pt x="1542" y="10800"/>
                </a:lnTo>
                <a:lnTo>
                  <a:pt x="0" y="4237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500040" y="3862800"/>
            <a:ext cx="1928880" cy="137376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 счастья на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бе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Стрелка вправо с вырезом 21"/>
          <p:cNvSpPr/>
          <p:nvPr/>
        </p:nvSpPr>
        <p:spPr>
          <a:xfrm rot="5400000">
            <a:off x="1098720" y="3186720"/>
            <a:ext cx="714240" cy="484200"/>
          </a:xfrm>
          <a:custGeom>
            <a:avLst/>
            <a:gdLst>
              <a:gd name="textAreaLeft" fmla="*/ 120960 w 714240"/>
              <a:gd name="textAreaRight" fmla="*/ 593280 w 7142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280" y="5400"/>
                </a:lnTo>
                <a:lnTo>
                  <a:pt x="14280" y="0"/>
                </a:lnTo>
                <a:lnTo>
                  <a:pt x="21600" y="10800"/>
                </a:lnTo>
                <a:lnTo>
                  <a:pt x="14280" y="21600"/>
                </a:lnTo>
                <a:lnTo>
                  <a:pt x="14280" y="16200"/>
                </a:lnTo>
                <a:lnTo>
                  <a:pt x="0" y="16200"/>
                </a:lnTo>
                <a:lnTo>
                  <a:pt x="36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5" name="Рисунок 22" descr="http://cstor.nn2.ru/forum/data/forum/images/2015-09/129598466-1507583_93771nothumb500.jpg"/>
          <p:cNvPicPr/>
          <p:nvPr/>
        </p:nvPicPr>
        <p:blipFill>
          <a:blip r:embed="rId1"/>
          <a:stretch/>
        </p:blipFill>
        <p:spPr>
          <a:xfrm>
            <a:off x="500040" y="142920"/>
            <a:ext cx="1943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00040" y="356760"/>
            <a:ext cx="7215120" cy="571500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Число, выраженное десятичным знаком, прочтёт и немец, и русский, и араб, и янки одинако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. Менделе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66"/>
                </a:solidFill>
                <a:uFillTx/>
                <a:latin typeface="Comic Sans MS"/>
              </a:rPr>
              <a:t>Повестка дня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Тайна  чисе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Суеверия, связанные с числами первого деся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Пословицы и поговорки с именами  числительны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499840" y="142560"/>
            <a:ext cx="5286600" cy="64292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словицы и поговор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любимого дружка семь верст не околиц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семь верст киселя хлеб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семью печат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к – от семи неду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с сошкой, а семеро с ложк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дьмая вода на кисе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еро одного не жду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еро по лав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ь бед - один от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Рисунок 11" descr="http://cstor.nn2.ru/forum/data/forum/images/2015-09/129598466-1507583_93771nothumb500.jpg"/>
          <p:cNvPicPr/>
          <p:nvPr/>
        </p:nvPicPr>
        <p:blipFill>
          <a:blip r:embed="rId1"/>
          <a:stretch/>
        </p:blipFill>
        <p:spPr>
          <a:xfrm>
            <a:off x="428760" y="1857240"/>
            <a:ext cx="2143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42920" y="2428920"/>
            <a:ext cx="3929040" cy="35719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исло 8 будем умножать на числа натурального ряда от 1 до 5, то получим в произведении такие числа, сумма цифр которых все время будет уменьша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500720" y="2714760"/>
            <a:ext cx="3786120" cy="27860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4000680" y="574920"/>
            <a:ext cx="28573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8 - симво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убы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4429080" y="2585880"/>
            <a:ext cx="45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*1=8             8+0=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*2=16           1+6=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*3=24           2+4=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*4=32           3+2=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*5=40           4+0=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9" name="Picture 2" descr="H:\Неделя математики 2017г\1073131.jpg"/>
          <p:cNvPicPr/>
          <p:nvPr/>
        </p:nvPicPr>
        <p:blipFill>
          <a:blip r:embed="rId1"/>
          <a:srcRect l="51427" t="55771" r="0" b="0"/>
          <a:stretch/>
        </p:blipFill>
        <p:spPr>
          <a:xfrm>
            <a:off x="357120" y="142920"/>
            <a:ext cx="24386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42920" y="2642760"/>
            <a:ext cx="3929040" cy="24289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множить все числа от 1 до 10 на 9, то всегда получим число, сумма цифр которого есть 9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4357800" y="2714760"/>
            <a:ext cx="3786120" cy="214308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4000680" y="579240"/>
            <a:ext cx="28573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9 –число премудрости, символ постоян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7" name="Рисунок 10" descr="http://previews.123rf.com/images/kesu87/kesu871208/kesu87120801197/14864668-Beautiful-spring-number-9-Stock-Photo.jpg"/>
          <p:cNvPicPr/>
          <p:nvPr/>
        </p:nvPicPr>
        <p:blipFill>
          <a:blip r:embed="rId1"/>
          <a:stretch/>
        </p:blipFill>
        <p:spPr>
          <a:xfrm>
            <a:off x="928800" y="142920"/>
            <a:ext cx="208584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"/>
          <p:cNvSpPr/>
          <p:nvPr/>
        </p:nvSpPr>
        <p:spPr>
          <a:xfrm>
            <a:off x="4429080" y="2722320"/>
            <a:ext cx="378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*1=9              9+0=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*2=18            1+8=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*3=27            2+7=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*4=36            3+6=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4286160" y="32040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3" name="Рисунок 10" descr="http://previews.123rf.com/images/kesu87/kesu871208/kesu87120801197/14864668-Beautiful-spring-number-9-Stock-Photo.jpg"/>
          <p:cNvPicPr/>
          <p:nvPr/>
        </p:nvPicPr>
        <p:blipFill>
          <a:blip r:embed="rId1"/>
          <a:stretch/>
        </p:blipFill>
        <p:spPr>
          <a:xfrm>
            <a:off x="214200" y="1643040"/>
            <a:ext cx="2786040" cy="28576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2928960" y="142920"/>
            <a:ext cx="5000760" cy="642924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овицы  и поговор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Девять человек все равно, что десят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За тридевять земель, в тридевятом царств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Уступив один раз, девять окажешься в выигрыш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Охотника девятая заря корм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Как у кошки, девять жизн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Всем по семь, хозяину -восемь, хозяйке -девять, что честно дел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9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9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8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56800" y="142560"/>
            <a:ext cx="7388280" cy="566748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4700"/>
                </a:solidFill>
                <a:latin typeface="Times New Roman"/>
                <a:ea typeface="Times New Roman"/>
              </a:rPr>
              <a:t>1 – БОЖЕСТВЕННОЕ ЧИС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 – ДУХОЧУВСТВЕННОЕ, ХРАБРОЕ ЧИС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imes New Roman"/>
                <a:ea typeface="Times New Roman"/>
              </a:rPr>
              <a:t>3 – СИМВОЛ СОВЕРШЕН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 – СИМВОЛ СИ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5 – СИМВОЛ ПРАВОСУД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6 – СИМВОЛ ТЕЧЕНИЯ ВРЕМ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7 – СВЯЩЕННОЕ ЧИС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СИМВОЛ УБЫ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9 – ЧИСЛО ПРЕМУДР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е числа главные!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е числа нужны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 конкур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Разминка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 конкур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Музыкальный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372" name="6-конечная звезда 3"/>
          <p:cNvSpPr/>
          <p:nvPr/>
        </p:nvSpPr>
        <p:spPr>
          <a:xfrm>
            <a:off x="2000160" y="2143080"/>
            <a:ext cx="785880" cy="714600"/>
          </a:xfrm>
          <a:prstGeom prst="pie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6-конечная звезда 4"/>
          <p:cNvSpPr/>
          <p:nvPr/>
        </p:nvSpPr>
        <p:spPr>
          <a:xfrm>
            <a:off x="3000240" y="2143080"/>
            <a:ext cx="785880" cy="714600"/>
          </a:xfrm>
          <a:prstGeom prst="pie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6-конечная звезда 5"/>
          <p:cNvSpPr/>
          <p:nvPr/>
        </p:nvSpPr>
        <p:spPr>
          <a:xfrm>
            <a:off x="4000680" y="2143080"/>
            <a:ext cx="785520" cy="714600"/>
          </a:xfrm>
          <a:prstGeom prst="pie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6-конечная звезда 7"/>
          <p:cNvSpPr/>
          <p:nvPr/>
        </p:nvSpPr>
        <p:spPr>
          <a:xfrm>
            <a:off x="5072040" y="2143080"/>
            <a:ext cx="785880" cy="714600"/>
          </a:xfrm>
          <a:prstGeom prst="pie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6-конечная звезда 8"/>
          <p:cNvSpPr/>
          <p:nvPr/>
        </p:nvSpPr>
        <p:spPr>
          <a:xfrm>
            <a:off x="6143760" y="2143080"/>
            <a:ext cx="785520" cy="714600"/>
          </a:xfrm>
          <a:prstGeom prst="pie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 конкур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Переставляшки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 конкур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Сама внимательность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user\Pictures\Проект\slide-10-728 (1).jpg"/>
          <p:cNvPicPr/>
          <p:nvPr/>
        </p:nvPicPr>
        <p:blipFill>
          <a:blip r:embed="rId2"/>
          <a:srcRect l="3125" t="7289" r="4688" b="114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 конкур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Геометрический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 конкур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Математические слова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4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7 конкур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Найди ошибки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!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5" descr="http://biblio-vidnoe.ru/upload/medialibrary/fcd/aewgmyyyzztntjofhrsntd1.jpg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user\Pictures\Проект\slide-11-728 (1).jpg"/>
          <p:cNvPicPr/>
          <p:nvPr/>
        </p:nvPicPr>
        <p:blipFill>
          <a:blip r:embed="rId2"/>
          <a:srcRect l="2341" t="7289" r="1563" b="1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user\Pictures\Проект\slide-14-728 (1).jpg"/>
          <p:cNvPicPr/>
          <p:nvPr/>
        </p:nvPicPr>
        <p:blipFill>
          <a:blip r:embed="rId2"/>
          <a:srcRect l="2341" t="7289" r="3125" b="8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44"/>
          <p:cNvSpPr/>
          <p:nvPr/>
        </p:nvSpPr>
        <p:spPr>
          <a:xfrm>
            <a:off x="755640" y="1268280"/>
            <a:ext cx="144000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5"/>
          <p:cNvSpPr/>
          <p:nvPr/>
        </p:nvSpPr>
        <p:spPr>
          <a:xfrm>
            <a:off x="971640" y="1484280"/>
            <a:ext cx="100800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46"/>
          <p:cNvSpPr/>
          <p:nvPr/>
        </p:nvSpPr>
        <p:spPr>
          <a:xfrm>
            <a:off x="971640" y="148428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47"/>
          <p:cNvSpPr/>
          <p:nvPr/>
        </p:nvSpPr>
        <p:spPr>
          <a:xfrm flipV="1">
            <a:off x="971640" y="1484280"/>
            <a:ext cx="1008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76"/>
          <p:cNvSpPr/>
          <p:nvPr/>
        </p:nvSpPr>
        <p:spPr>
          <a:xfrm>
            <a:off x="2556000" y="1268280"/>
            <a:ext cx="143964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7"/>
          <p:cNvSpPr/>
          <p:nvPr/>
        </p:nvSpPr>
        <p:spPr>
          <a:xfrm>
            <a:off x="2771640" y="1484280"/>
            <a:ext cx="100836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78"/>
          <p:cNvSpPr/>
          <p:nvPr/>
        </p:nvSpPr>
        <p:spPr>
          <a:xfrm>
            <a:off x="2771640" y="148428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79"/>
          <p:cNvSpPr/>
          <p:nvPr/>
        </p:nvSpPr>
        <p:spPr>
          <a:xfrm flipV="1">
            <a:off x="2771640" y="1484280"/>
            <a:ext cx="10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80"/>
          <p:cNvSpPr/>
          <p:nvPr/>
        </p:nvSpPr>
        <p:spPr>
          <a:xfrm>
            <a:off x="4284720" y="1339920"/>
            <a:ext cx="143964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81"/>
          <p:cNvSpPr/>
          <p:nvPr/>
        </p:nvSpPr>
        <p:spPr>
          <a:xfrm>
            <a:off x="4500720" y="1555920"/>
            <a:ext cx="100800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82"/>
          <p:cNvSpPr/>
          <p:nvPr/>
        </p:nvSpPr>
        <p:spPr>
          <a:xfrm>
            <a:off x="4500720" y="15559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83"/>
          <p:cNvSpPr/>
          <p:nvPr/>
        </p:nvSpPr>
        <p:spPr>
          <a:xfrm flipV="1">
            <a:off x="4500720" y="155556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84"/>
          <p:cNvSpPr/>
          <p:nvPr/>
        </p:nvSpPr>
        <p:spPr>
          <a:xfrm>
            <a:off x="6012000" y="1339920"/>
            <a:ext cx="143964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85"/>
          <p:cNvSpPr/>
          <p:nvPr/>
        </p:nvSpPr>
        <p:spPr>
          <a:xfrm>
            <a:off x="6227640" y="1555920"/>
            <a:ext cx="100836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6"/>
          <p:cNvSpPr/>
          <p:nvPr/>
        </p:nvSpPr>
        <p:spPr>
          <a:xfrm>
            <a:off x="6227640" y="15559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87"/>
          <p:cNvSpPr/>
          <p:nvPr/>
        </p:nvSpPr>
        <p:spPr>
          <a:xfrm flipV="1">
            <a:off x="6227640" y="1555560"/>
            <a:ext cx="1008360" cy="115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88"/>
          <p:cNvSpPr/>
          <p:nvPr/>
        </p:nvSpPr>
        <p:spPr>
          <a:xfrm>
            <a:off x="826920" y="3500280"/>
            <a:ext cx="144000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89"/>
          <p:cNvSpPr/>
          <p:nvPr/>
        </p:nvSpPr>
        <p:spPr>
          <a:xfrm>
            <a:off x="1042920" y="3716280"/>
            <a:ext cx="100800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90"/>
          <p:cNvSpPr/>
          <p:nvPr/>
        </p:nvSpPr>
        <p:spPr>
          <a:xfrm>
            <a:off x="1042920" y="371628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91"/>
          <p:cNvSpPr/>
          <p:nvPr/>
        </p:nvSpPr>
        <p:spPr>
          <a:xfrm flipV="1">
            <a:off x="1042920" y="3716280"/>
            <a:ext cx="1008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92"/>
          <p:cNvSpPr/>
          <p:nvPr/>
        </p:nvSpPr>
        <p:spPr>
          <a:xfrm>
            <a:off x="2556000" y="3500280"/>
            <a:ext cx="143964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93"/>
          <p:cNvSpPr/>
          <p:nvPr/>
        </p:nvSpPr>
        <p:spPr>
          <a:xfrm>
            <a:off x="2771640" y="3716280"/>
            <a:ext cx="100836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94"/>
          <p:cNvSpPr/>
          <p:nvPr/>
        </p:nvSpPr>
        <p:spPr>
          <a:xfrm>
            <a:off x="2771640" y="371628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95"/>
          <p:cNvSpPr/>
          <p:nvPr/>
        </p:nvSpPr>
        <p:spPr>
          <a:xfrm flipV="1">
            <a:off x="2771640" y="3716280"/>
            <a:ext cx="1008360" cy="11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96"/>
          <p:cNvSpPr/>
          <p:nvPr/>
        </p:nvSpPr>
        <p:spPr>
          <a:xfrm>
            <a:off x="4284720" y="3500280"/>
            <a:ext cx="143964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7"/>
          <p:cNvSpPr/>
          <p:nvPr/>
        </p:nvSpPr>
        <p:spPr>
          <a:xfrm>
            <a:off x="4500720" y="3716280"/>
            <a:ext cx="100800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98"/>
          <p:cNvSpPr/>
          <p:nvPr/>
        </p:nvSpPr>
        <p:spPr>
          <a:xfrm>
            <a:off x="4500720" y="371628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99"/>
          <p:cNvSpPr/>
          <p:nvPr/>
        </p:nvSpPr>
        <p:spPr>
          <a:xfrm flipV="1">
            <a:off x="4500720" y="3716280"/>
            <a:ext cx="1008000" cy="11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100"/>
          <p:cNvSpPr/>
          <p:nvPr/>
        </p:nvSpPr>
        <p:spPr>
          <a:xfrm>
            <a:off x="6012000" y="3500280"/>
            <a:ext cx="143964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01"/>
          <p:cNvSpPr/>
          <p:nvPr/>
        </p:nvSpPr>
        <p:spPr>
          <a:xfrm>
            <a:off x="6227640" y="3716280"/>
            <a:ext cx="100836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02"/>
          <p:cNvSpPr/>
          <p:nvPr/>
        </p:nvSpPr>
        <p:spPr>
          <a:xfrm>
            <a:off x="6227640" y="3716280"/>
            <a:ext cx="1008360" cy="1150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03"/>
          <p:cNvSpPr/>
          <p:nvPr/>
        </p:nvSpPr>
        <p:spPr>
          <a:xfrm flipV="1">
            <a:off x="6227640" y="3716280"/>
            <a:ext cx="1008360" cy="11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104"/>
          <p:cNvSpPr/>
          <p:nvPr/>
        </p:nvSpPr>
        <p:spPr>
          <a:xfrm>
            <a:off x="3419640" y="5084640"/>
            <a:ext cx="143964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05"/>
          <p:cNvSpPr/>
          <p:nvPr/>
        </p:nvSpPr>
        <p:spPr>
          <a:xfrm>
            <a:off x="3635280" y="5300640"/>
            <a:ext cx="1008000" cy="1150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06"/>
          <p:cNvSpPr/>
          <p:nvPr/>
        </p:nvSpPr>
        <p:spPr>
          <a:xfrm>
            <a:off x="3635280" y="530064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07"/>
          <p:cNvSpPr/>
          <p:nvPr/>
        </p:nvSpPr>
        <p:spPr>
          <a:xfrm flipV="1">
            <a:off x="3635280" y="5300640"/>
            <a:ext cx="1008000" cy="11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ГИЧЕСКИЙ КВАДР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09"/>
          <p:cNvSpPr/>
          <p:nvPr/>
        </p:nvSpPr>
        <p:spPr>
          <a:xfrm>
            <a:off x="2771640" y="148428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10"/>
          <p:cNvSpPr/>
          <p:nvPr/>
        </p:nvSpPr>
        <p:spPr>
          <a:xfrm>
            <a:off x="971640" y="1484280"/>
            <a:ext cx="0" cy="11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111"/>
          <p:cNvSpPr/>
          <p:nvPr/>
        </p:nvSpPr>
        <p:spPr>
          <a:xfrm flipH="1">
            <a:off x="2771280" y="1484280"/>
            <a:ext cx="1008360" cy="11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2771640" y="263700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113"/>
          <p:cNvSpPr/>
          <p:nvPr/>
        </p:nvSpPr>
        <p:spPr>
          <a:xfrm>
            <a:off x="4500720" y="15559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5003280" y="1555920"/>
            <a:ext cx="505080" cy="57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115"/>
          <p:cNvSpPr/>
          <p:nvPr/>
        </p:nvSpPr>
        <p:spPr>
          <a:xfrm>
            <a:off x="5003640" y="2131920"/>
            <a:ext cx="505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116"/>
          <p:cNvSpPr/>
          <p:nvPr/>
        </p:nvSpPr>
        <p:spPr>
          <a:xfrm>
            <a:off x="4500720" y="270828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118"/>
          <p:cNvSpPr/>
          <p:nvPr/>
        </p:nvSpPr>
        <p:spPr>
          <a:xfrm>
            <a:off x="6227640" y="1555920"/>
            <a:ext cx="505080" cy="57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19"/>
          <p:cNvSpPr/>
          <p:nvPr/>
        </p:nvSpPr>
        <p:spPr>
          <a:xfrm>
            <a:off x="6227640" y="371628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20"/>
          <p:cNvSpPr/>
          <p:nvPr/>
        </p:nvSpPr>
        <p:spPr>
          <a:xfrm>
            <a:off x="6227640" y="4869000"/>
            <a:ext cx="936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21"/>
          <p:cNvSpPr/>
          <p:nvPr/>
        </p:nvSpPr>
        <p:spPr>
          <a:xfrm>
            <a:off x="4500720" y="371628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22"/>
          <p:cNvSpPr/>
          <p:nvPr/>
        </p:nvSpPr>
        <p:spPr>
          <a:xfrm>
            <a:off x="3635280" y="5300640"/>
            <a:ext cx="505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23"/>
          <p:cNvSpPr/>
          <p:nvPr/>
        </p:nvSpPr>
        <p:spPr>
          <a:xfrm>
            <a:off x="3635280" y="5300640"/>
            <a:ext cx="936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124"/>
          <p:cNvSpPr/>
          <p:nvPr/>
        </p:nvSpPr>
        <p:spPr>
          <a:xfrm>
            <a:off x="2771640" y="486900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25"/>
          <p:cNvSpPr/>
          <p:nvPr/>
        </p:nvSpPr>
        <p:spPr>
          <a:xfrm>
            <a:off x="3276720" y="4292640"/>
            <a:ext cx="5032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26"/>
          <p:cNvSpPr/>
          <p:nvPr/>
        </p:nvSpPr>
        <p:spPr>
          <a:xfrm flipH="1">
            <a:off x="1547640" y="3716280"/>
            <a:ext cx="5032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28"/>
          <p:cNvSpPr/>
          <p:nvPr/>
        </p:nvSpPr>
        <p:spPr>
          <a:xfrm>
            <a:off x="1547640" y="4292640"/>
            <a:ext cx="5032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29"/>
          <p:cNvSpPr/>
          <p:nvPr/>
        </p:nvSpPr>
        <p:spPr>
          <a:xfrm>
            <a:off x="1042920" y="4869000"/>
            <a:ext cx="936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ение Пифагорейцев о числ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2" descr="https://im0-tub-ru.yandex.net/i?id=8182e1b2b194f7affc532c80fb7be6d2&amp;n=33&amp;h=215&amp;w=142"/>
          <p:cNvPicPr/>
          <p:nvPr/>
        </p:nvPicPr>
        <p:blipFill>
          <a:blip r:embed="rId1"/>
          <a:stretch/>
        </p:blipFill>
        <p:spPr>
          <a:xfrm>
            <a:off x="214200" y="1571760"/>
            <a:ext cx="2286000" cy="34448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2786040" y="1164240"/>
            <a:ext cx="600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 явлению природы,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вещи можно  поставить 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числ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Пифагора наш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между длинами стру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ами) и музыкальными тон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рачивание струн в отношен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1, 3: 2, 4: 3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ло известные в музык интервалы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ву, квинту, кварт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214200" y="214200"/>
          <a:ext cx="6786720" cy="3000600"/>
        </p:xfrm>
        <a:graphic>
          <a:graphicData uri="http://schemas.openxmlformats.org/drawingml/2006/table">
            <a:tbl>
              <a:tblPr/>
              <a:tblGrid>
                <a:gridCol w="1130400"/>
                <a:gridCol w="1131840"/>
                <a:gridCol w="1130400"/>
                <a:gridCol w="1130400"/>
                <a:gridCol w="1131840"/>
                <a:gridCol w="1131840"/>
              </a:tblGrid>
              <a:tr h="5000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-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-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-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-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-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-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-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Box 11"/>
          <p:cNvSpPr/>
          <p:nvPr/>
        </p:nvSpPr>
        <p:spPr>
          <a:xfrm>
            <a:off x="214200" y="328608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Б а р м а т о в   А л е к с а н д 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2+1+2+4+1+4+7+6  + 1+2+5+2+3+1+5+4+2=52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2286000" y="4857840"/>
            <a:ext cx="3929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omic Sans MS"/>
              <a:buAutoNum type="arabicPlain" startAt="5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5+2=7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7 – мое число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1" descr="H:\Неделя математики 2017г\tsifry-v-kartinkah-1.jpg"/>
          <p:cNvPicPr/>
          <p:nvPr/>
        </p:nvPicPr>
        <p:blipFill>
          <a:blip r:embed="rId1"/>
          <a:srcRect l="0" t="0" r="50007" b="52702"/>
          <a:stretch/>
        </p:blipFill>
        <p:spPr>
          <a:xfrm>
            <a:off x="142920" y="1500120"/>
            <a:ext cx="3421080" cy="3500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3429000" y="357120"/>
            <a:ext cx="45007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овицы и поговор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 поле не во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 море не рыба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им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ыстрелом двух зайцев пристрели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меро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го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не жду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мь раз отмерь, 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раз отреж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458600" y="-153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4466160" y="275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5:14:47Z</dcterms:created>
  <dc:creator>1</dc:creator>
  <dc:description/>
  <dc:language>en-US</dc:language>
  <cp:lastModifiedBy>User</cp:lastModifiedBy>
  <dcterms:modified xsi:type="dcterms:W3CDTF">2017-01-20T16:00:12Z</dcterms:modified>
  <cp:revision>43</cp:revision>
  <dc:subject/>
  <dc:title>Слайд 1</dc:title>
</cp:coreProperties>
</file>