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gif" ContentType="image/gif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65FB-38B5-48CF-8825-209327C1E7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3EA-9BB5-4B98-94E9-8EEE458B44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9E52-8F98-44E1-95A5-FAFAF5849C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2D87-CAC4-46AA-9A53-5235E13F64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CF49-C039-4592-BF40-EAD4F589F1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CA7-A8C8-4D25-83F6-D4022360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9A1-81F3-44E1-B7F6-EFB4374B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250-515D-4F2D-AE26-02D1B735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746-3BF4-45A1-9784-7E5CAC3F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C00-B819-49AE-A036-69DB5692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116-9EAF-4929-A382-A336EF01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73A-D52C-423A-B882-6A57330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13B-EB26-46F1-9241-A484589F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A7F-C501-4D7E-B6E0-FA352C9F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407-4325-4C94-831E-CE6A094B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482-0034-4C1B-BA02-A0CC42B7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F28-964B-4371-83C1-07499E27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11EE-3B29-40CA-B227-E0C826944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611280" y="112536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ОБРАЗЕ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ИНФОРМАЦИОННОГО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40360" y="237960"/>
            <a:ext cx="2746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003640" y="691920"/>
            <a:ext cx="388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двенадцать лет участвовал в спектаклях гастролировавшей в Казани труппы в качестве статиста. Неуемная тяга к театру приводила его в различные актерские труппы, с которыми он кочевал по городам Поволжья, Кавказа, Средней Азии, работая то грузчиком, то крючником на пристани, часто голодая и ночуя на скамейк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C:\Documents and Settings\Администратор\Мои документы\Лариса\Шаляпин фото\fedor_shalyapin_molodoj.jpg"/>
          <p:cNvPicPr/>
          <p:nvPr/>
        </p:nvPicPr>
        <p:blipFill>
          <a:blip r:embed="rId2"/>
          <a:stretch/>
        </p:blipFill>
        <p:spPr>
          <a:xfrm>
            <a:off x="611280" y="1628640"/>
            <a:ext cx="3600360" cy="4781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618840"/>
            <a:ext cx="2963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50560" y="1773360"/>
            <a:ext cx="8713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сем юным он нанимается в увеселительный хор Серебрякова, где происходит его встреча с Максимом Горьким. Горького в хор на тот момент приняли, а Шаляпина нет. Не познакомившись друг с другом, они расстаются. Однако позднее в Нижнем Новгороде в 1900 году они подружатся на всю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Объект 2"/>
          <p:cNvSpPr/>
          <p:nvPr/>
        </p:nvSpPr>
        <p:spPr>
          <a:xfrm>
            <a:off x="250920" y="4005360"/>
            <a:ext cx="8713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упление в 1889 году в драматическую труппу В. Б. Серебрякова Шаляпин считал началом своей артистической карьеры . Вначале на должность стати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3035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6480" y="1440"/>
            <a:ext cx="913284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564000" y="2852640"/>
            <a:ext cx="5400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9 марта 1890 года состоялось первое сольное выступление Шаляпина — партия Зарецкого в опере «Евгений Онегин», в постановке Казанского общества любителей сценического искусства. Весь май и начало июня 1890 года Шаляпин — хорист опереточной антрепризы В. Б. Серебря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:\Documents and Settings\Администратор\Мои документы\Лариса\Шаляпин фото\836645511_tonnel.gif"/>
          <p:cNvPicPr/>
          <p:nvPr/>
        </p:nvPicPr>
        <p:blipFill>
          <a:blip r:embed="rId2"/>
          <a:stretch/>
        </p:blipFill>
        <p:spPr>
          <a:xfrm>
            <a:off x="324000" y="2421000"/>
            <a:ext cx="2950920" cy="4133880"/>
          </a:xfrm>
          <a:prstGeom prst="rect">
            <a:avLst/>
          </a:prstGeom>
          <a:ln w="0">
            <a:noFill/>
          </a:ln>
        </p:spPr>
      </p:pic>
      <p:sp>
        <p:nvSpPr>
          <p:cNvPr id="92" name="Объект 2"/>
          <p:cNvSpPr/>
          <p:nvPr/>
        </p:nvSpPr>
        <p:spPr>
          <a:xfrm>
            <a:off x="636480" y="1341360"/>
            <a:ext cx="85075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 сентябр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84 года состоялось первое выступление Шаляпина в качестве статиста в опере “Жизнь за царя” в городском театр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560" y="162828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ентябре 1890 года Шаляпин прибывает из Казани в Уфу и начинает работать в хоре опереточной труппы под руководством С. Я. Семёнова-Самарск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ршенно случайно пришлось из хориста преобразиться в солиста, заменив в опере Монюшко «Галька» заболевшего арти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Объект 2"/>
          <p:cNvSpPr/>
          <p:nvPr/>
        </p:nvSpPr>
        <p:spPr>
          <a:xfrm>
            <a:off x="347760" y="4653000"/>
            <a:ext cx="87962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дебют выдвинул 17-летнего Шаляпина, которому изредка стали поручать небольшие оперные партии, например, Фернандо в «Трубадуре». В следующем году Шаляпин выступил в партии Неизвестного в «Аскольдовой могиле» Верстовск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73400" y="4219560"/>
            <a:ext cx="3106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490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50560" y="1628640"/>
            <a:ext cx="865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ем молодой певец перебрался в Тифлис, где брал бесплатные уроки пения у известного певца Д. Усатова, выступал в любительских и ученических концерт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324000" y="4076640"/>
            <a:ext cx="8505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93 году он перебрался в Москву, а в 1894 году — в Санкт-Петербург, где пел в спектаклях, проходивших в петербургском загородном саду «Аркадия», а зимой 1894—1895 гг. — в оперном товариществе в Панаевском театр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00440" y="4362480"/>
            <a:ext cx="3609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39640" y="1412640"/>
            <a:ext cx="8002800" cy="52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красный голос начинающего артиста и в особенности выразительная музыкальная декламация в связи с правдивой игрой обратили на него внимание критики и публики. В 1895 году Шаляпин был принят дирекцией Санкт-Петербургских Императорских театров в состав оперной труппы: он поступил на сцену Мариинского театра и с успехом пел партии Мефистофеля («Фауст») и Руслана («Руслан и Людмила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9280" y="555480"/>
            <a:ext cx="3540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91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54000" y="620640"/>
            <a:ext cx="4419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естный меценат С. И. Мамонтов, державший в то время оперный театр в Москве, первый заметив в Шаляпине дарование из ряда вон выходящее, уговорил его перейти в свою частную труппу. Здесь в 1896—1899 гг. Шаляпин развился в художественном смысле и развернул свой сценический талант, выступив в целом ряде ролей. Благодаря его тонкому пониманию русской музыки вообще и новейшей в частности, он совершенно индивидуально, но вместе с тем глубоко правдиво создал целый ряд образов в русских операх.</a:t>
            </a:r>
            <a:br>
              <a:rPr sz="24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Documents and Settings\Администратор\Мои документы\Лариса\Шаляпин фото\у мамонт сальери.jpg"/>
          <p:cNvPicPr/>
          <p:nvPr/>
        </p:nvPicPr>
        <p:blipFill>
          <a:blip r:embed="rId2"/>
          <a:stretch/>
        </p:blipFill>
        <p:spPr>
          <a:xfrm>
            <a:off x="378000" y="2133720"/>
            <a:ext cx="3873240" cy="3157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324000" y="5661000"/>
            <a:ext cx="42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оли Сальери в опере Н. А. Римского-Корсакова «Моцарт и Сальер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24000" y="128520"/>
            <a:ext cx="2962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8360" y="4652640"/>
            <a:ext cx="34560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ван Сусан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«Жизни за царя» М. И. Глинки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:\Documents and Settings\Администратор\Мои документы\Лариса\Шаляпин фото\0_7451_e148d11a_XL.jpg"/>
          <p:cNvPicPr/>
          <p:nvPr/>
        </p:nvPicPr>
        <p:blipFill>
          <a:blip r:embed="rId2"/>
          <a:stretch/>
        </p:blipFill>
        <p:spPr>
          <a:xfrm>
            <a:off x="4211640" y="692280"/>
            <a:ext cx="4443480" cy="5817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13040" y="128520"/>
            <a:ext cx="3173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356000" y="5445000"/>
            <a:ext cx="45468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рис Годунов в одноименной опер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. П. Мусорг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C:\Documents and Settings\Администратор\Мои документы\Лариса\Шаляпин фото\в роли Бориса Годунова.jpg"/>
          <p:cNvPicPr/>
          <p:nvPr/>
        </p:nvPicPr>
        <p:blipFill>
          <a:blip r:embed="rId2"/>
          <a:stretch/>
        </p:blipFill>
        <p:spPr>
          <a:xfrm>
            <a:off x="5292720" y="333360"/>
            <a:ext cx="3168720" cy="4919760"/>
          </a:xfrm>
          <a:prstGeom prst="rect">
            <a:avLst/>
          </a:prstGeom>
          <a:ln w="0">
            <a:noFill/>
          </a:ln>
        </p:spPr>
      </p:pic>
      <p:sp>
        <p:nvSpPr>
          <p:cNvPr id="116" name="Объект 2"/>
          <p:cNvSpPr/>
          <p:nvPr/>
        </p:nvSpPr>
        <p:spPr>
          <a:xfrm>
            <a:off x="250920" y="1341360"/>
            <a:ext cx="43275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 же время он много работал и над ролями в иностранных операх. Так, например, роль Мефистофеля в «Фаусте» Гуно в его передаче получила поразительно яркое, сильное и своеобразное освещение. За эти годы Шаляпин приобрёл громкую извест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3106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84000" y="1483920"/>
            <a:ext cx="806436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 своей первой женой Фёдор Шаляпин познакомился в Нижнем Новгороде,  и они поженились в 1896 году. Это была итальянская актриса по имени Иола Торнаги, родившаяся в городе Монца (недалеко от Мила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Объект 2"/>
          <p:cNvSpPr/>
          <p:nvPr/>
        </p:nvSpPr>
        <p:spPr>
          <a:xfrm>
            <a:off x="3635280" y="3141720"/>
            <a:ext cx="543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у Шаляпина в этом браке родилось шестеро детей: Игорь (умер в возрасте 4 лет), Борис, Фёдор, Татьяна, Ирина, Лидия. Фёдор и Татьяна были близнец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Documents and Settings\Администратор\Мои документы\Лариса\Шаляпин фото\1897 с и.и. торнаги.jpg"/>
          <p:cNvPicPr/>
          <p:nvPr/>
        </p:nvPicPr>
        <p:blipFill>
          <a:blip r:embed="rId2"/>
          <a:stretch/>
        </p:blipFill>
        <p:spPr>
          <a:xfrm>
            <a:off x="755640" y="3284640"/>
            <a:ext cx="2389320" cy="2977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28680" y="36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283680" cy="6969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50920" y="98100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Жизнь Федора Иванович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Шаляп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248000" y="2703600"/>
            <a:ext cx="48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ца 5 «А»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ОУ лицея № 2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ванова  М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музы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расова Надежд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.Иванов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кабрь, 2017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C:\Documents and Settings\Администратор\Мои документы\Лариса\Шаляпин фото\1 shalapin_fedor.jpg"/>
          <p:cNvPicPr/>
          <p:nvPr/>
        </p:nvPicPr>
        <p:blipFill>
          <a:blip r:embed="rId2"/>
          <a:stretch/>
        </p:blipFill>
        <p:spPr>
          <a:xfrm>
            <a:off x="695160" y="2938320"/>
            <a:ext cx="2797200" cy="3900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2962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3280" y="126828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ола Торнаги скончалась в 1965 году в возрасте 92 лет. Долгое время она жила в России и только в конце 1950-х годов, по приглашению сына Фёдора, переехала в Р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Администратор\Мои документы\Лариса\Шаляпин фото\1934 б. шал портрет и. торнаги.jpg"/>
          <p:cNvPicPr/>
          <p:nvPr/>
        </p:nvPicPr>
        <p:blipFill>
          <a:blip r:embed="rId2"/>
          <a:stretch/>
        </p:blipFill>
        <p:spPr>
          <a:xfrm>
            <a:off x="695160" y="1557360"/>
            <a:ext cx="3273480" cy="4392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725400" y="61516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 Торнаги. Худ. Б. Шаляп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3178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003280" y="765000"/>
            <a:ext cx="3961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ын Ф. Шаляпина Борис с детства хотел стать певцом, но отец настаивал, чтобы он стал художником, чтобы сын всю жизнь не стоял в его тени, тем более, что с раннего возраста Борис проявил интерес к рисованию, рисуя без удержу на всем и везде. Сам Федор Иванович неплохо рисовал и даже занимался скульпту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C:\Documents and Settings\Администратор\Мои документы\Downloads\с борисом.jpg"/>
          <p:cNvPicPr/>
          <p:nvPr/>
        </p:nvPicPr>
        <p:blipFill>
          <a:blip r:embed="rId2"/>
          <a:stretch/>
        </p:blipFill>
        <p:spPr>
          <a:xfrm>
            <a:off x="1042920" y="1844640"/>
            <a:ext cx="2881440" cy="37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3467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43280" y="1052640"/>
            <a:ext cx="433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19 г. Борис приехал в Петроград и поступил в академическую мастерскую В.И. Шухае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20-1923 гг. учился в Москве в Государственных свободных творческих мастерских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23 г. поступил на скульптурный факультет Высших художественно-технических мастерских, посещал мастерскую С.Т. Коненкова на Красной Пресн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684360" y="6308640"/>
            <a:ext cx="33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трет отца. Худ. Б. Шаляп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C:\Documents and Settings\Администратор\Мои документы\Лариса\Шаляпин фото\1934 авт. Борис Шаляпин.jpg"/>
          <p:cNvPicPr/>
          <p:nvPr/>
        </p:nvPicPr>
        <p:blipFill>
          <a:blip r:embed="rId2"/>
          <a:stretch/>
        </p:blipFill>
        <p:spPr>
          <a:xfrm>
            <a:off x="971640" y="2492280"/>
            <a:ext cx="2676600" cy="340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2962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11280" y="1699920"/>
            <a:ext cx="792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ехав из Москвы в 1925 году, Борис Шаляпин приехал на родину спустя 35 лет – в апреле 1960-м году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бъект 2"/>
          <p:cNvSpPr/>
          <p:nvPr/>
        </p:nvSpPr>
        <p:spPr>
          <a:xfrm>
            <a:off x="250920" y="3573360"/>
            <a:ext cx="856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я уже семью, Фёдор Иванович Шаляпин сближается с Марией Валентиновной Петцольд (урождённая Элухен, в первом браке — Петцольд, 1882—1964), у которой было двое своих детей от первого бра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3106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716000" y="1557360"/>
            <a:ext cx="4319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них рождаются трое дочерей: Марфа (1910—2003), Марина (1912—2009) и Дасия (1921—1977). Дочь Шаляпина Марина (Марина Фёдоровна Шаляпина-Фредди), прожила больше всех его детей и скончалась на 98-ом году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C:\Documents and Settings\Администратор\Мои документы\Downloads\eade8f5d8064837a805c685c66a.jpg"/>
          <p:cNvPicPr/>
          <p:nvPr/>
        </p:nvPicPr>
        <p:blipFill>
          <a:blip r:embed="rId2"/>
          <a:stretch/>
        </p:blipFill>
        <p:spPr>
          <a:xfrm>
            <a:off x="539640" y="1628640"/>
            <a:ext cx="380376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2819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859280" y="764640"/>
            <a:ext cx="4284720" cy="594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ктически у Шаляпина появилась вторая семья. Первый брак был не расторгнут, а второй не зарегистрирован и считался недействительным. Получилось, что у Шаляпина в старой столице была одна семья, а в новой — другая: одна семья не ездила в Петербург, а другая в Москву. Официально брак Марии Валентиновны с Шаляпиным был оформлен в 1927 году уже в Пари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C:\Documents and Settings\Администратор\Мои документы\Лариса\Шаляпин фото\сдоч. Мариной.jpg"/>
          <p:cNvPicPr/>
          <p:nvPr/>
        </p:nvPicPr>
        <p:blipFill>
          <a:blip r:embed="rId2"/>
          <a:stretch/>
        </p:blipFill>
        <p:spPr>
          <a:xfrm>
            <a:off x="395280" y="2637000"/>
            <a:ext cx="3700440" cy="29606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755640" y="616104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очерью Мари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900000" y="1844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ина - мисс Россия. 1931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3680" y="330120"/>
            <a:ext cx="332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13920" y="1268280"/>
            <a:ext cx="7929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1899 года он снова на службе в Императорской русской опере в Москве (Большой театр), где пользовался громадным успехом. Он был высоко оценен в Милане, где выступил в театре «La Scala» в заглавной роли Мефистофеля. Гастроли Шаляпина в Петербурге на Мариинской сцене составляли своего рода события в петербургском музыкально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бъект 2"/>
          <p:cNvSpPr/>
          <p:nvPr/>
        </p:nvSpPr>
        <p:spPr>
          <a:xfrm>
            <a:off x="539640" y="4005360"/>
            <a:ext cx="82184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15 году состоялся дебют в кино, главная роль (царь Иоанн Грозный) в исторической кинодраме «Царь Иван Васильевич Грозный» (по драме Льва Мея «Псковитянка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1918 года — художественный руководитель Мариинского театра. Получил звание Народного артиста Республ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474480"/>
            <a:ext cx="3105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716000" y="1052280"/>
            <a:ext cx="4319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его репертуар входило до 400 песен, романсов и других жанров камерно-вокальной музыки. В число шедевров вошли: «Пророк» Римского-Корсакова, «Два гренадера» Роберта  Шумана, «Блоха», «Забытый», «Трепак» Мусоргского, «Ночной смотр» Глинки, «Двойник» Ф. Шуберта. А также русские народные песни «Прощай, радость», «Не велят Маше за реченьку ходить», «Из-за острова на стреже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орческий путь Федора Шаляпина глубоко народен, так как истоки его – это сама русская пес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C:\Documents and Settings\Администратор\Мои документы\Лариса\Шаляпин фото\шаляпин.jpg"/>
          <p:cNvPicPr/>
          <p:nvPr/>
        </p:nvPicPr>
        <p:blipFill>
          <a:blip r:embed="rId2"/>
          <a:stretch/>
        </p:blipFill>
        <p:spPr>
          <a:xfrm>
            <a:off x="826920" y="2205000"/>
            <a:ext cx="30974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2746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115640" y="1441080"/>
            <a:ext cx="7777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й 1922 Шаляпин не вернулся из зарубежных гастролей, хотя долго считал свое невозвращение временным. Значительную роль в случившемся сыграло домашнее окружение. Забота о детях, страх оставить их без средств существования заставляли Шаляпина соглашаться на бесконечные гастро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бъект 2"/>
          <p:cNvSpPr/>
          <p:nvPr/>
        </p:nvSpPr>
        <p:spPr>
          <a:xfrm>
            <a:off x="324000" y="3716280"/>
            <a:ext cx="8826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чужбине певец пользовался неизменным успехом, гастролируя почти во всех странах мира (Англия, Америка, Канада, Китай, Япония, Гавайские острова). С 1930 Шаляпин выступал в труппе «Русская опера», спектакли которой славились высоким уровнем постановочн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2746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-30240" y="-19080"/>
            <a:ext cx="9174240" cy="687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665600" y="477360"/>
            <a:ext cx="44690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-30-х им было сделано около 300 грамзаписей. «Люблю граммофонные записи..., - признавался Шаляпин, - Меня волнует и творчески возбуждает мысль, что микрофон символизирует собой не какую-то конкретную публику, а миллионы слушателей». Певец был очень требователен к записям, среди его любимых запись «Элегии» Массне, русских народных песен, которые он включал в программы своих концертов на протяжении всей творческой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Documents and Settings\Администратор\Мои документы\Лариса\Шаляпин фото\55139065_SHalyapin7.jpg"/>
          <p:cNvPicPr/>
          <p:nvPr/>
        </p:nvPicPr>
        <p:blipFill>
          <a:blip r:embed="rId2"/>
          <a:stretch/>
        </p:blipFill>
        <p:spPr>
          <a:xfrm>
            <a:off x="971640" y="2205000"/>
            <a:ext cx="2841480" cy="361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283680" cy="695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Documents and Settings\Администратор\Мои документы\Лариса\Анимекартинки\muzyka-57.gif"/>
          <p:cNvPicPr/>
          <p:nvPr/>
        </p:nvPicPr>
        <p:blipFill>
          <a:blip r:embed="rId2"/>
          <a:stretch/>
        </p:blipFill>
        <p:spPr>
          <a:xfrm>
            <a:off x="108000" y="2614680"/>
            <a:ext cx="1857240" cy="1728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1"/>
          <p:cNvSpPr/>
          <p:nvPr/>
        </p:nvSpPr>
        <p:spPr>
          <a:xfrm>
            <a:off x="2158920" y="1163520"/>
            <a:ext cx="6985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изучить историю и биографию выдающегося пев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4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4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ной деятельности: информацио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4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4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аботы: индивидуаль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4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4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работы: изучение литературы, анализ материа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4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4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редставления результатов: презент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Заголовок 1" descr=""/>
          <p:cNvPicPr/>
          <p:nvPr/>
        </p:nvPicPr>
        <p:blipFill>
          <a:blip r:embed="rId3"/>
          <a:stretch/>
        </p:blipFill>
        <p:spPr>
          <a:xfrm>
            <a:off x="3376440" y="182520"/>
            <a:ext cx="5774040" cy="11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2746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258560" y="1496880"/>
            <a:ext cx="7427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азавшись в эмиграции уже на склоне лет, Шаляпин тосковал по России, потерял жизнерадостность и оптимизм, не пел новых оперных партий, часто болел. В мае 1937 врачи поставили ему диагноз - лейкемия, через год он скончал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бъект 2"/>
          <p:cNvSpPr/>
          <p:nvPr/>
        </p:nvSpPr>
        <p:spPr>
          <a:xfrm>
            <a:off x="324000" y="3716280"/>
            <a:ext cx="835164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 конца своей жизни Шаляпин оставался русским гражданином, он не принял иностранного подданства, мечтал быть похороненным на родине. Его желание исполнилось: прах певца был перевезен в Москву, и 29.10.1984 г. захоронен 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22600" y="333360"/>
            <a:ext cx="5698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2674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5" descr=""/>
          <p:cNvPicPr/>
          <p:nvPr/>
        </p:nvPicPr>
        <p:blipFill>
          <a:blip r:embed="rId2"/>
          <a:stretch/>
        </p:blipFill>
        <p:spPr>
          <a:xfrm>
            <a:off x="536400" y="3011400"/>
            <a:ext cx="851544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Администратор\Мои документы\Лариса\Шаляпин фото\казань отель.jpg"/>
          <p:cNvPicPr/>
          <p:nvPr/>
        </p:nvPicPr>
        <p:blipFill>
          <a:blip r:embed="rId2"/>
          <a:stretch/>
        </p:blipFill>
        <p:spPr>
          <a:xfrm>
            <a:off x="1332000" y="1773360"/>
            <a:ext cx="5976720" cy="36543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2556000" y="5661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тиница «Шаляпин» в Каз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-1584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68360" y="48528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-музей Ф.И. Шаляп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858920" y="1484280"/>
            <a:ext cx="403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-музей Ф.И. Шаляпина - последний адрес Ф.И. Шаляпина в России и первый в России музей, посвященный его творчеству (открыт 11 апреля 1975 года).    Здесь, в Санкт-Петербурге, на Аптекарском острове, в доме №2б по Пермской (ныне Графтио) улице великий певец прожил с 1914 по 1922 год, отсюда летом 1922 года выехал за границу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10" descr="C:\Documents and Settings\Администратор\Мои документы\Downloads\музей в СПб.jpg"/>
          <p:cNvPicPr/>
          <p:nvPr/>
        </p:nvPicPr>
        <p:blipFill>
          <a:blip r:embed="rId2"/>
          <a:stretch/>
        </p:blipFill>
        <p:spPr>
          <a:xfrm>
            <a:off x="539640" y="2421000"/>
            <a:ext cx="374184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3683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C:\Documents and Settings\Администратор\Мои документы\Downloads\photo_4-4708.jpg"/>
          <p:cNvPicPr/>
          <p:nvPr/>
        </p:nvPicPr>
        <p:blipFill>
          <a:blip r:embed="rId2"/>
          <a:stretch/>
        </p:blipFill>
        <p:spPr>
          <a:xfrm>
            <a:off x="1144440" y="1413000"/>
            <a:ext cx="6596280" cy="4844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Администратор\Мои документы\Downloads\photo_0589d973e4.jpeg"/>
          <p:cNvPicPr/>
          <p:nvPr/>
        </p:nvPicPr>
        <p:blipFill>
          <a:blip r:embed="rId3"/>
          <a:stretch/>
        </p:blipFill>
        <p:spPr>
          <a:xfrm>
            <a:off x="754200" y="1550880"/>
            <a:ext cx="7635600" cy="50515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3683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920" y="-36360"/>
            <a:ext cx="9199440" cy="689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Администратор\Мои документы\Downloads\22171654.1.jpg"/>
          <p:cNvPicPr/>
          <p:nvPr/>
        </p:nvPicPr>
        <p:blipFill>
          <a:blip r:embed="rId2"/>
          <a:stretch/>
        </p:blipFill>
        <p:spPr>
          <a:xfrm>
            <a:off x="971640" y="1557360"/>
            <a:ext cx="67215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www.hrono.ru/img/skulptur/shaljapin_trubec.jpg"/>
          <p:cNvPicPr/>
          <p:nvPr/>
        </p:nvPicPr>
        <p:blipFill>
          <a:blip r:embed="rId3"/>
          <a:stretch/>
        </p:blipFill>
        <p:spPr>
          <a:xfrm>
            <a:off x="2627280" y="1052640"/>
            <a:ext cx="3713040" cy="45147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2771640" y="5732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бецкой П. П. Федор Шаляп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611280" y="263700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 только тот, кто позабыт… Шаляпин никогда не умрет. Ибо он , этот чудо – артист с истинно сказочным дарованием, незабываем. Он был великим историческим художником, разнесшим по всей земле русское оперное искусство. Для будущих поколений он будет легенд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2987640" y="1052640"/>
            <a:ext cx="334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Заголовок 1"/>
          <p:cNvSpPr/>
          <p:nvPr/>
        </p:nvSpPr>
        <p:spPr>
          <a:xfrm>
            <a:off x="539640" y="1052640"/>
            <a:ext cx="7993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и на используемый материа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7"/>
          <p:cNvSpPr/>
          <p:nvPr/>
        </p:nvSpPr>
        <p:spPr>
          <a:xfrm>
            <a:off x="395280" y="2690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ru.wikipedia.org/wiki/%D0%A8%D0%B0%D0%BB%D1%8F%D0%BF%D0%B8%D0%BD,_%D0%A4%D1%91%D0%B4%D0%BE%D1%80_%D0%98%D0%B2%D0%B0%D0%BD%D0%BE%D0%B2%D0%B8%D1%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rpheusmusic.ru/publ/124-1-0-2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o-name.ru/biography/fedor-shaljapin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ibliotekar.ru/shalyapin/index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eople.su/1234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283680" cy="6958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1042920" y="263700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 ли, что Шаляпин никогда не умре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1677600"/>
            <a:ext cx="166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95280" y="152856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ёдор Иванович Шаляпин — русский оперный и камерный певец (высокий бас), в разное время солист Большого и Мариинского театров, а также театра Метрополитен Опера, первый народный артист Республики (1918), в 1918—1921 годах — художественный руководитель Мариинского театра. Имеет репутацию артиста, соединившего в своём творчестве «прирожденную музыкальность, яркие вокальные данные, необыкновенное актерское мастерство». Занимался также живописью, графикой и скульптурой. Оказал большое влияние на мировое оперное искусст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3376440" y="396720"/>
            <a:ext cx="5774040" cy="115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427280" y="620280"/>
            <a:ext cx="4537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ёдор Шаляпин родился 13 февраля 1873 года в городе Казани. Отец Иван Яковлевич Шаляпин (1838-1901) и мать Евдокия Михайловна Шаляпина, урожденная Прозорова (1845-1891) были выходцами из государственных крестьян Вятской губернии, но в момент рождения сына отец уже работал помощником писаря Ильинского волостного правления Казанского уезда. Он хотел и сына пристроить к какому-то делу – если не к писарскому, то хотя бы к надежному ремеслу. Но судьба распорядилась иначе – Федору Шаляпину было суждено стать оперным певцом, славу которого еще никому не удалось затм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6093000"/>
            <a:ext cx="30243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ец Ф. Шаляп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Администратор\Мои документы\Лариса\Шаляпин фото\отей И. Я. Шаляпин.jpg"/>
          <p:cNvPicPr/>
          <p:nvPr/>
        </p:nvPicPr>
        <p:blipFill>
          <a:blip r:embed="rId2"/>
          <a:stretch/>
        </p:blipFill>
        <p:spPr>
          <a:xfrm>
            <a:off x="611280" y="1628640"/>
            <a:ext cx="318132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240" y="155700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042560" y="5589720"/>
            <a:ext cx="77151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 , во флигеле котор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лся Ф. Шаляп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Documents and Settings\Администратор\Мои документы\Downloads\дом с флигел где род шал.jpg"/>
          <p:cNvPicPr/>
          <p:nvPr/>
        </p:nvPicPr>
        <p:blipFill>
          <a:blip r:embed="rId2"/>
          <a:stretch/>
        </p:blipFill>
        <p:spPr>
          <a:xfrm>
            <a:off x="1619280" y="1220760"/>
            <a:ext cx="6330960" cy="422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258560" y="1197000"/>
            <a:ext cx="7705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дора рано отдали учиться ремеслу у сапожника, а затем у токаря. Вскоре семье Шаляпиных удалось устроить Федю в городское четырехклассное училище, которое он окончил с похвальной грамо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179280" y="2852640"/>
            <a:ext cx="87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85 году Шаляпин с отличием оканчивает 6-е городское начальное училищ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Отец устраивает Федора на работу писцом в ссудную кассу банкирской конторы “Л.А.Печенкина и К°”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ъект 2"/>
          <p:cNvSpPr/>
          <p:nvPr/>
        </p:nvSpPr>
        <p:spPr>
          <a:xfrm>
            <a:off x="324000" y="4076640"/>
            <a:ext cx="8362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в детском возрасте у Федора обнаружился красивый голос (дискант), и он часто подпевал матери, «подлаживая голоса». С девяти лет пел в церковных хорах, пытался научиться играть на скрипке, много читал, но вынужден был работать учеником сапожника, токаря, столяра, переплетчика, переписч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30240" y="0"/>
            <a:ext cx="9145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56000" y="821880"/>
            <a:ext cx="3035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3789360"/>
            <a:ext cx="84960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83 году он в первый раз попал в театр. В тот знаменательный день давали «Русскую свадьбу» П. П. Сухонина. Посещение театра решило судьбу Федора Ивановича Шаляпина. Он стремился попасть сюда едва ли не на каждый спектак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Documents and Settings\Администратор\Мои документы\Downloads\dns_44.jpg"/>
          <p:cNvPicPr/>
          <p:nvPr/>
        </p:nvPicPr>
        <p:blipFill>
          <a:blip r:embed="rId2"/>
          <a:stretch/>
        </p:blipFill>
        <p:spPr>
          <a:xfrm>
            <a:off x="1979640" y="765000"/>
            <a:ext cx="4681440" cy="2816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1:07:10Z</dcterms:created>
  <dc:creator>Пользователь</dc:creator>
  <dc:description/>
  <dc:language>en-US</dc:language>
  <cp:lastModifiedBy>admin</cp:lastModifiedBy>
  <dcterms:modified xsi:type="dcterms:W3CDTF">2017-08-08T10:59:09Z</dcterms:modified>
  <cp:revision>98</cp:revision>
  <dc:subject/>
  <dc:title>Презентация PowerPoint</dc:title>
</cp:coreProperties>
</file>