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DC44-D222-4A23-8E5A-E45C6CB4C6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8B68-2153-4355-95EE-ABC6A508E7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342E-E1B6-4049-BE9F-A80CA7C7D3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2EAE-4DCA-4E01-8E73-98A2D25A62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92B1-76D2-4588-B49F-8F251565C0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9B02-BF7F-47F4-9F7D-57DBAAB230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47FB-F31B-4F00-96E0-CFF84843EE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47E9-5662-4B96-A13D-47B87C881C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B177-A5CD-4448-BEF7-F20424338F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85EB-C878-41B3-A7FA-C8D2B20FBD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1913-36A6-43B1-A096-0E4DB84C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4E8-B1CB-447D-AACA-7380DD19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483D-FF9D-445C-B3EE-11898E84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2D43-5AF7-46D8-A04B-DA5830A8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86CA-BC30-48B6-B1E2-3691F538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3FD0-CCDC-4BC4-AFBD-DB4FA84C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6467-51BE-452B-8413-EA693E9E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480B-09D3-48A3-B022-11523008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1297-4774-49CE-BE1C-6C2CB87C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81FA-E8DB-4EFE-A0CD-C870641E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8AE8-8848-4BB9-A9CB-76841B68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83B-7CE4-4E0F-A955-EBBFD6E7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DC6A-8883-4853-9884-AB399D6E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6674-E5B4-4A02-9447-624CA188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6382-B077-47E6-AEA8-B6CD3696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5861-A2C9-40B3-819A-BD1409B7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CCDD-630A-4434-8664-C09A77C7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B20AE-2B0A-4EB9-892F-EE35E652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E0F39-C4D7-43A6-8064-69480110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562D5-01ED-4165-AF11-8A3AB94E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7A016-5F86-4615-BCB3-41C18BAD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7D339-7EB6-4793-9F96-128918CE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7D68-2F1E-4AE5-AEB3-7B0EB9CC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602BA-74A3-44C0-8224-71209544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D7BB2-DFFA-4D23-B71D-2FBE48AD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7393A-2B29-4281-871A-5874FFDE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3BA89-70DC-48D8-AEF2-62B7922C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F4AC2-EDD3-49E4-B768-14781D5D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C948F-77D1-43F5-B035-20D6A6A7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F1A0D-A8CE-4760-AC5D-2CD72066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CBB44-5BAC-4E0A-AD45-95D435FB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4E6CA-349A-4A37-9688-B210229A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9D184-B84C-4423-A483-363BF807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EEAF-1D40-443C-9805-4F4AC836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17D61-8EE8-4632-AF5D-D82EECD3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3A52B-BE0E-41DB-9625-B95024C5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2E76C-93FF-4193-B099-2EF68397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2B65B-2C9D-43E8-8F96-426EBDA8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BE4CC-9A11-4BCD-AB8A-1ECD51BA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D9495-732C-4186-B29D-8716D486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23CFE-F69F-42DB-B8B0-BC1DDC9E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D989B-20BF-48DF-9898-5260E292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A7C52-2798-4125-8384-563E0390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DF854-C677-4F01-878A-A30BC86D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E97D-687D-4F81-845F-9A036731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1660B-ED97-4411-928A-21624347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2F514-E896-46B6-8DFA-C9226FC0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1034C-7BBD-4677-A24D-A68A7421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AB05B-BDD1-460B-96D8-CE62565D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3AC99-1001-44A6-8682-47E2A02E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E50A3-853C-4A04-9F23-9AB24807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9B0AD-209F-41B5-83DD-6C0D0FBA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EEA74-05C9-435A-9F0B-53683061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15D7C-6A6F-4A5C-8DF0-086EDEC0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1520E-0A3E-480A-974C-F42B5B71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B245-336C-49B3-96E2-DDA78829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87C9A-D2B3-4BA0-99E8-7CDB2B45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BA53E-7520-429B-8ACA-7D19CA46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80126-39AE-4EA1-8A5B-EA8381CC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AFD70-0971-40B9-AAAB-DDD9F12B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2FC6D-B76B-4464-A151-76FADAE8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686A8-D62E-41CB-AF32-B91A4FFC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26E01-750B-4EF9-B1C6-09403430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332F6-D830-462E-AD0C-2A755C15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77F88-B322-4F94-9DCB-F6FDAD47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CE915-CB58-469D-87A4-9DF75517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9A8B-85D7-406B-AAAD-B84996DA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58973-01C7-4940-A2C3-D01606E0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70FF1-DE5C-406E-A513-E8361477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15F6D-CE24-4D0D-A7E7-0796D2E8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45012-15CB-46FC-98AF-0EEAF344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7D0A2-C73A-4515-8121-94F4FCE3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F8024-DF83-4588-80CA-465C48D1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411FC-050E-42F5-8582-8FC60742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8A2D8-37AC-427F-B1D3-525C1FDA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EF442-EAEE-4561-A18B-833DA83C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8D7F7-4FD9-4E24-8E27-150EF8B1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387F-1D31-427F-A09D-A27C86B0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5DD57-D221-440A-B6A2-9F0CC539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EDBCA-1219-4E06-8CD4-E75930FE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1B219-7BF8-4A87-B28E-6C1E6D91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BE1B6-01C4-49C9-AE50-861E5932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E352E-7CA3-4856-84A5-E4BF8E00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939D-58FD-416A-9417-1A44FFDD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99C5-9BBA-4A66-8F18-9EBB231699A3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9641-E919-4370-BD71-616A7D8A08E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55DC-463F-4AB6-A960-9E5CB9C07023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6727-204F-4152-926C-4C7E9B9DDE5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7915-85B7-4FBC-805B-EE71A792A12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5D90-9CEF-4BC9-AEFA-745FE9C1783A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2267-A43D-4D9F-A3BD-3F9989DC298A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1" lang="ru-RU" sz="8000" spc="-1" strike="noStrike">
                <a:solidFill>
                  <a:srgbClr val="572314"/>
                </a:solidFill>
                <a:latin typeface="Corbel"/>
              </a:rPr>
              <a:t>Тема: «Как рождаются герои»</a:t>
            </a:r>
            <a:endParaRPr b="0" lang="en-US" sz="8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71680" y="1643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648320" y="1600200"/>
            <a:ext cx="128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5"/>
          <p:cNvPicPr/>
          <p:nvPr/>
        </p:nvPicPr>
        <p:blipFill>
          <a:blip r:embed="rId1"/>
          <a:stretch/>
        </p:blipFill>
        <p:spPr>
          <a:xfrm>
            <a:off x="2133720" y="174600"/>
            <a:ext cx="487656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6"/>
          <p:cNvPicPr/>
          <p:nvPr/>
        </p:nvPicPr>
        <p:blipFill>
          <a:blip r:embed="rId1"/>
          <a:stretch/>
        </p:blipFill>
        <p:spPr>
          <a:xfrm>
            <a:off x="1258920" y="549360"/>
            <a:ext cx="6913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" descr="7"/>
          <p:cNvPicPr/>
          <p:nvPr/>
        </p:nvPicPr>
        <p:blipFill>
          <a:blip r:embed="rId1"/>
          <a:stretch/>
        </p:blipFill>
        <p:spPr>
          <a:xfrm>
            <a:off x="2216160" y="135000"/>
            <a:ext cx="471168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Не давши слова – крепись, а давши – держись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Будь своему слову хозяин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4" descr="22 августа 1908 года родился Леонид Пантелеев (Алексей Иванович Еремеев)"/>
          <p:cNvPicPr/>
          <p:nvPr/>
        </p:nvPicPr>
        <p:blipFill>
          <a:blip r:embed="rId1"/>
          <a:stretch/>
        </p:blipFill>
        <p:spPr>
          <a:xfrm>
            <a:off x="0" y="1557360"/>
            <a:ext cx="3600360" cy="47512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5003280" y="1523880"/>
            <a:ext cx="414036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1105"/>
                </a:solidFill>
                <a:latin typeface="Corbel"/>
              </a:rPr>
              <a:t>Ведь ты  Человек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1105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d1105"/>
                </a:solidFill>
                <a:latin typeface="Corbel"/>
              </a:rPr>
              <a:t>Ты  сильный и смелый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1105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d1105"/>
                </a:solidFill>
                <a:latin typeface="Corbel"/>
              </a:rPr>
              <a:t>Своими руками Судьб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1105"/>
                </a:solidFill>
                <a:latin typeface="Corbel"/>
              </a:rPr>
              <a:t>свою дела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1105"/>
                </a:solidFill>
                <a:latin typeface="Corbel"/>
              </a:rPr>
              <a:t>Иди против ветра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1105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d1105"/>
                </a:solidFill>
                <a:latin typeface="Corbel"/>
              </a:rPr>
              <a:t>На месте не сто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1105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d1105"/>
                </a:solidFill>
                <a:latin typeface="Corbel"/>
              </a:rPr>
              <a:t>Пойми: не бывает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1105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d1105"/>
                </a:solidFill>
                <a:latin typeface="Corbel"/>
              </a:rPr>
              <a:t>Дороги просто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0" y="78552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онид Пантелеев    «Честное слово»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7" descr="Panteleev_L"/>
          <p:cNvPicPr/>
          <p:nvPr/>
        </p:nvPicPr>
        <p:blipFill>
          <a:blip r:embed="rId1"/>
          <a:stretch/>
        </p:blipFill>
        <p:spPr>
          <a:xfrm>
            <a:off x="4143240" y="785880"/>
            <a:ext cx="4678560" cy="5100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Честный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d1105"/>
                </a:solidFill>
                <a:latin typeface="Corbel"/>
              </a:rPr>
              <a:t>- </a:t>
            </a:r>
            <a:r>
              <a:rPr b="0" lang="ru-RU" sz="3200" spc="-1" strike="noStrike">
                <a:solidFill>
                  <a:srgbClr val="0d1105"/>
                </a:solidFill>
                <a:latin typeface="Corbel"/>
              </a:rPr>
              <a:t> правдивый, прямой и добросовестный, свободный от всякого лукавства.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1105"/>
                </a:solidFill>
                <a:latin typeface="Corbel"/>
              </a:rPr>
              <a:t>                      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Д.Н. Ушак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Честный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проникнутый искренностью и прямотой, добросовестны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С.Н. Ожег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Честь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достойные уважения и гордости моральные качества человек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орошая репутация, доброе им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чет и уважени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Corbel"/>
              </a:rPr>
              <a:t>Словарная рабо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СТОРОЖКА –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мещение для сторож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БЕЗУТЕШНО –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е находя утешения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ЧАСОВОЙ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–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оеннослужащий, стоящий на посту, на часах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КАРАУЛ –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оинское подразделение, несущее охрану кого-чего-либо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rcRect l="0" t="0" r="0" b="35906"/>
          <a:stretch/>
        </p:blipFill>
        <p:spPr>
          <a:xfrm>
            <a:off x="1928880" y="1071720"/>
            <a:ext cx="6000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1798560" y="500040"/>
            <a:ext cx="677232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rcRect l="8788" t="4998" r="14479" b="8423"/>
          <a:stretch/>
        </p:blipFill>
        <p:spPr>
          <a:xfrm>
            <a:off x="2928960" y="285840"/>
            <a:ext cx="4941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4"/>
          <p:cNvPicPr/>
          <p:nvPr/>
        </p:nvPicPr>
        <p:blipFill>
          <a:blip r:embed="rId1"/>
          <a:stretch/>
        </p:blipFill>
        <p:spPr>
          <a:xfrm>
            <a:off x="2195640" y="146160"/>
            <a:ext cx="4752720" cy="65656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8:57:32Z</dcterms:created>
  <dc:creator>айрат</dc:creator>
  <dc:description/>
  <dc:language>en-US</dc:language>
  <cp:lastModifiedBy>User</cp:lastModifiedBy>
  <dcterms:modified xsi:type="dcterms:W3CDTF">2015-03-17T13:08:34Z</dcterms:modified>
  <cp:revision>32</cp:revision>
  <dc:subject/>
  <dc:title>Слайд 1</dc:title>
</cp:coreProperties>
</file>