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B07-F09E-4C92-A8FF-282937C9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267-99A2-46CF-8C41-1CD7891E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285-A7B8-4CCC-B2B9-D83B23C2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B94-AC0B-43F4-AA55-BC076F08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1D9F-8967-4DB4-8253-EB19A665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1311-F7C7-459E-81EB-CB2D52CC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CEE3-7206-416C-BA25-A973782C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052F-15F8-499D-A9BD-1C4544A3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EDE6-8AE2-460B-A864-39B35166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5A84-D127-4510-BE59-30D1A8AB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E0A8-104B-4227-A42D-B1D3433B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996-7F46-4E0F-82BB-C3CF50F9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0CD2-93B1-46CC-8962-5C15F5F0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C383-90C8-4BA1-81A4-EEC9F3E6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E14E-45CF-4AFD-B760-AE181CC7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3795-C0D3-4ABA-AB0A-9B2F0B42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F564-0459-4604-BDFE-54C307AF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8E4-4342-4F33-B158-BCDDF161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517-328F-4049-8C3F-CEBAC742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BDA-B124-4FB0-A6F2-6CE773AF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92D7-38F1-4537-A9F5-C6A1A0AB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C8A-116B-4759-80A8-D181DDB2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6B3-884D-4A64-83D8-35285B60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AF1-A8C6-45C7-B0A4-1850EA0E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42D0-1DF5-4F03-B2F5-7BA469B196A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F638-2480-46B3-91A0-27C39BC0471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дносемянные сочные плод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95280" y="4581000"/>
            <a:ext cx="398304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— внеплодник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— межплодник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 — внутриплодн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1800360" cy="1923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1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9436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рисовать строение плода сливы в разрез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рисовать семянку подсолнеч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ить на вопрос: 1. Сколько семян в этих плодах?  2.Какой из этих плодов сочный, а какой сухой? По какому признаку вы это определил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ногосемянные сочные пл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2541600" cy="2173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2587680" cy="2044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3"/>
          <a:stretch/>
        </p:blipFill>
        <p:spPr>
          <a:xfrm>
            <a:off x="2843280" y="4149720"/>
            <a:ext cx="2757600" cy="18781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781920" y="38606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на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5087520" y="371628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меране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3546360" y="6093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г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лоды сух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Picture 5" descr=""/>
          <p:cNvPicPr/>
          <p:nvPr/>
        </p:nvPicPr>
        <p:blipFill>
          <a:blip r:embed="rId1"/>
          <a:srcRect l="0" t="10230" r="0" b="11276"/>
          <a:stretch/>
        </p:blipFill>
        <p:spPr>
          <a:xfrm>
            <a:off x="971640" y="1419120"/>
            <a:ext cx="2685960" cy="17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2"/>
          <a:srcRect l="14207" t="0" r="0" b="8901"/>
          <a:stretch/>
        </p:blipFill>
        <p:spPr>
          <a:xfrm>
            <a:off x="5705640" y="1268280"/>
            <a:ext cx="2489040" cy="19796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3"/>
          <a:srcRect l="0" t="11696" r="6895" b="0"/>
          <a:stretch/>
        </p:blipFill>
        <p:spPr>
          <a:xfrm>
            <a:off x="492120" y="4121280"/>
            <a:ext cx="2770200" cy="19191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"/>
          <p:cNvPicPr/>
          <p:nvPr/>
        </p:nvPicPr>
        <p:blipFill>
          <a:blip r:embed="rId4"/>
          <a:srcRect l="0" t="7765" r="11342" b="7461"/>
          <a:stretch/>
        </p:blipFill>
        <p:spPr>
          <a:xfrm>
            <a:off x="5724360" y="4094280"/>
            <a:ext cx="2764080" cy="184284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9"/>
          <p:cNvSpPr/>
          <p:nvPr/>
        </p:nvSpPr>
        <p:spPr>
          <a:xfrm>
            <a:off x="2100600" y="342900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елуд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1947960" y="62373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ылат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6321240" y="35002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обо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6840360" y="623736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мя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дносемянные сухие пл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Picture 5" descr=""/>
          <p:cNvPicPr/>
          <p:nvPr/>
        </p:nvPicPr>
        <p:blipFill>
          <a:blip r:embed="rId1"/>
          <a:stretch/>
        </p:blipFill>
        <p:spPr>
          <a:xfrm>
            <a:off x="5508720" y="1700280"/>
            <a:ext cx="2516040" cy="16844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2470320" cy="1849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3"/>
          <a:stretch/>
        </p:blipFill>
        <p:spPr>
          <a:xfrm>
            <a:off x="5508720" y="3925800"/>
            <a:ext cx="2950920" cy="19749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4"/>
          <a:stretch/>
        </p:blipFill>
        <p:spPr>
          <a:xfrm>
            <a:off x="900000" y="1773360"/>
            <a:ext cx="2340000" cy="164916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8"/>
          <p:cNvSpPr/>
          <p:nvPr/>
        </p:nvSpPr>
        <p:spPr>
          <a:xfrm>
            <a:off x="1364760" y="6237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ех Фунду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577440" y="350028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мянка подсолнечн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5891760" y="342900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ылатка кле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6330960" y="609300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ернов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ногосемянные сухие плод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1"/>
          <a:stretch/>
        </p:blipFill>
        <p:spPr>
          <a:xfrm>
            <a:off x="1838160" y="1601640"/>
            <a:ext cx="5029200" cy="33339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6"/>
          <p:cNvSpPr/>
          <p:nvPr/>
        </p:nvSpPr>
        <p:spPr>
          <a:xfrm>
            <a:off x="1979640" y="5157720"/>
            <a:ext cx="609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- листовка; 2 - многолистовка; 3 - боб; 4 - стручочек; 5 - стручок; 6 - коробочка (а - белены б - мака в - дурм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йдите лишнее изображени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Picture 8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2095200" cy="1565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2066760" cy="1793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"/>
          <p:cNvPicPr/>
          <p:nvPr/>
        </p:nvPicPr>
        <p:blipFill>
          <a:blip r:embed="rId3"/>
          <a:stretch/>
        </p:blipFill>
        <p:spPr>
          <a:xfrm>
            <a:off x="1093680" y="4299120"/>
            <a:ext cx="2973600" cy="1736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"/>
          <p:cNvPicPr/>
          <p:nvPr/>
        </p:nvPicPr>
        <p:blipFill>
          <a:blip r:embed="rId4"/>
          <a:stretch/>
        </p:blipFill>
        <p:spPr>
          <a:xfrm>
            <a:off x="5508720" y="4149720"/>
            <a:ext cx="2313000" cy="16207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2"/>
          <p:cNvSpPr/>
          <p:nvPr/>
        </p:nvSpPr>
        <p:spPr>
          <a:xfrm>
            <a:off x="2460960" y="328464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елуд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6105600" y="587700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обо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2178000" y="6093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г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Rectangle 15"/>
          <p:cNvSpPr/>
          <p:nvPr/>
        </p:nvSpPr>
        <p:spPr>
          <a:xfrm>
            <a:off x="6190920" y="350028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мя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йдите лишнее изображ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6" name="Picture 8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2320920" cy="1625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5602320" y="1600200"/>
            <a:ext cx="1778040" cy="16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"/>
          <p:cNvPicPr/>
          <p:nvPr/>
        </p:nvPicPr>
        <p:blipFill>
          <a:blip r:embed="rId3"/>
          <a:stretch/>
        </p:blipFill>
        <p:spPr>
          <a:xfrm>
            <a:off x="1093680" y="4249800"/>
            <a:ext cx="2610000" cy="1523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"/>
          <p:cNvPicPr/>
          <p:nvPr/>
        </p:nvPicPr>
        <p:blipFill>
          <a:blip r:embed="rId4"/>
          <a:stretch/>
        </p:blipFill>
        <p:spPr>
          <a:xfrm>
            <a:off x="5861160" y="4302000"/>
            <a:ext cx="2097000" cy="18306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2"/>
          <p:cNvSpPr/>
          <p:nvPr/>
        </p:nvSpPr>
        <p:spPr>
          <a:xfrm>
            <a:off x="1352520" y="33577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обо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6182640" y="63086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на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14"/>
          <p:cNvSpPr/>
          <p:nvPr/>
        </p:nvSpPr>
        <p:spPr>
          <a:xfrm>
            <a:off x="1962000" y="595008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г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5909040" y="34290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стя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оплод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ычно под соплодием понимают сросшиеся в единое целое несколько или даже много плодов , возникших из отдельных цветков . Классический пример такого типа соплодия - соплодие ананаса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оплод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763560" y="831960"/>
            <a:ext cx="2295720" cy="30337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5940360" y="617400"/>
            <a:ext cx="2551320" cy="338472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7"/>
          <p:cNvSpPr/>
          <p:nvPr/>
        </p:nvSpPr>
        <p:spPr>
          <a:xfrm>
            <a:off x="6580800" y="36464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ана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877680" y="343044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клю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7" descr=""/>
          <p:cNvPicPr/>
          <p:nvPr/>
        </p:nvPicPr>
        <p:blipFill>
          <a:blip r:embed="rId3"/>
          <a:stretch/>
        </p:blipFill>
        <p:spPr>
          <a:xfrm>
            <a:off x="1692360" y="4044960"/>
            <a:ext cx="2374920" cy="246204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1"/>
          <p:cNvSpPr/>
          <p:nvPr/>
        </p:nvSpPr>
        <p:spPr>
          <a:xfrm>
            <a:off x="3029040" y="60213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жи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Picture 8" descr=""/>
          <p:cNvPicPr/>
          <p:nvPr/>
        </p:nvPicPr>
        <p:blipFill>
          <a:blip r:embed="rId4"/>
          <a:stretch/>
        </p:blipFill>
        <p:spPr>
          <a:xfrm>
            <a:off x="5062680" y="4002120"/>
            <a:ext cx="2749320" cy="254808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2"/>
          <p:cNvSpPr/>
          <p:nvPr/>
        </p:nvSpPr>
        <p:spPr>
          <a:xfrm>
            <a:off x="5202000" y="619596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елкови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5:22:31Z</dcterms:created>
  <dc:creator>Дмитрий</dc:creator>
  <dc:description/>
  <dc:language>en-US</dc:language>
  <cp:lastModifiedBy>Tatyana</cp:lastModifiedBy>
  <dcterms:modified xsi:type="dcterms:W3CDTF">2018-01-05T08:40:56Z</dcterms:modified>
  <cp:revision>11</cp:revision>
  <dc:subject/>
  <dc:title>Пл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