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C8A-7F0C-4D8E-8586-FCAF3A5B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F55-5531-4015-B418-3FF3DCA3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C55-012B-4CDB-AACC-C3E2A656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BB6-36E0-4C08-811A-F24EE93F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600-3E3B-484F-BD70-FAC5AEFA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896-437A-4CE1-B943-7FC9DE8A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A8B-09F5-415E-921E-A2642F49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3D4-2567-4714-88ED-EDD63C1E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A0B-1AD4-4725-8665-294B6C90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746-26F8-45E1-B246-83096DC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484-FC84-49E1-BD38-0029CA2C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A92-DE2F-4241-9FD9-065BF160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A679-F301-4A2D-BEEE-B38F7A7F9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708280"/>
            <a:ext cx="66596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ы в профессии играем,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 душе их выбираем,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 мечтаем поскорее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амы с папой стать взрослее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Чтоб не просто так мечтать,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фессии надо изучать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27399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www.rep24.ru/repuimages/7046/ad_10103_image.jpg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http://sk59.ru/wp-content/uploads/2012/07/okulist1.jpg"/>
          <p:cNvPicPr/>
          <p:nvPr/>
        </p:nvPicPr>
        <p:blipFill>
          <a:blip r:embed="rId1"/>
          <a:stretch/>
        </p:blipFill>
        <p:spPr>
          <a:xfrm>
            <a:off x="638280" y="281160"/>
            <a:ext cx="786744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proxy12.media.online.ua/photo/r3-d1004033254/336153_470.jpg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http://img.inforico.com.ua/a/dressirovka-sobakkinolog-zoopsiholog-harkov--bcce-1307173960031839-3-big.jpg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ttp://www.ostashkov.ru/foto/big-11276.jpeg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и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на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ё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л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ти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ь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cs9986.userapi.com/u89667092/150717308/s_4013cdee.jpg"/>
          <p:cNvPicPr/>
          <p:nvPr/>
        </p:nvPicPr>
        <p:blipFill>
          <a:blip r:embed="rId1"/>
          <a:stretch/>
        </p:blipFill>
        <p:spPr>
          <a:xfrm>
            <a:off x="5003640" y="1628640"/>
            <a:ext cx="3456000" cy="172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http://t2.ftcdn.net/jpg/00/03/81/63/110_F_3816389_puv34JdRuncXq4MZS4QNGacoCELPwYxb.jpg"/>
          <p:cNvPicPr/>
          <p:nvPr/>
        </p:nvPicPr>
        <p:blipFill>
          <a:blip r:embed="rId2"/>
          <a:stretch/>
        </p:blipFill>
        <p:spPr>
          <a:xfrm>
            <a:off x="4427640" y="4005360"/>
            <a:ext cx="3673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красных профессий на свете не сч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каждой профессии – слава и честь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94392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не работает,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чешь есть калачи,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уд человека кормит,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любит труд,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з труда не вытащишь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труде рождаются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3240" y="1507320"/>
            <a:ext cx="651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ОЛНЦЕ, ТРУД, КРАСИТ, А, ЧЕЛОВЕКА, ЗЕМЛ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ФЕССИЯ – ЭТО ВИД ТРУДА, КОТОРЫЙ ТРЕБУЕТ ОТ ЧЕЛОВЕКА ОПРЕДЕЛЁННОЙ ПОДГОТОВКИ, ЗНАНИЙ И УМ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8960" y="1371240"/>
            <a:ext cx="6707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 науки изучи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ю словно прируч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ю я, когда сажа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ять как и убир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 знаток в краю родн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зовусь я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fakty.ua/photos/article/14/17/141793w200zc0.jp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66680" y="2117160"/>
            <a:ext cx="947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я работа в глубине, на самом д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я работа – в темноте и тиш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кто же я, ответь – ка на вопрос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космонавт, а всё хожу средь звёз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http://www.theepochtimes.com/n2/images/stories/large/2009/10/26/divers-pav.jpg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7:54:52Z</dcterms:created>
  <dc:creator>Administrator</dc:creator>
  <dc:description/>
  <dc:language>en-US</dc:language>
  <cp:lastModifiedBy>Administrator</cp:lastModifiedBy>
  <dcterms:modified xsi:type="dcterms:W3CDTF">2013-01-13T14:11:20Z</dcterms:modified>
  <cp:revision>4</cp:revision>
  <dc:subject/>
  <dc:title>Слайд 1</dc:title>
</cp:coreProperties>
</file>