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92475940507437"/>
          <c:y val="0.0849506840598155"/>
          <c:w val="0.602712160979878"/>
          <c:h val="0.813235762010818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Продажи</c:v>
                </c:pt>
              </c:strCache>
            </c:strRef>
          </c:tx>
          <c:spPr>
            <a:solidFill>
              <a:srgbClr val="bbe0e3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bbe0e3"/>
              </a:solidFill>
              <a:ln w="0">
                <a:noFill/>
              </a:ln>
            </c:spPr>
          </c:dPt>
          <c:dPt>
            <c:idx val="1"/>
            <c:explosion val="73"/>
            <c:spPr>
              <a:solidFill>
                <a:srgbClr val="333399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ffffff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1" sz="2800" spc="-1" strike="noStrike">
                      <a:solidFill>
                        <a:srgbClr val="c00000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2400" spc="-1" strike="noStrike">
                      <a:solidFill>
                        <a:srgbClr val="c00000"/>
                      </a:solidFill>
                      <a:latin typeface="Arial"/>
                    </a:defRPr>
                  </a:pPr>
                </a:p>
              </c:txPr>
              <c:tx>
                <c:rich>
                  <a:bodyPr/>
                  <a:p>
                    <a:r>
                      <a:rPr b="1" lang="en-US" sz="2400" spc="-1" strike="noStrike">
                        <a:solidFill>
                          <a:srgbClr val="c00000"/>
                        </a:solidFill>
                        <a:latin typeface="Arial"/>
                      </a:rPr>
                      <a:t>2</a:t>
                    </a:r>
                    <a:r>
                      <a:rPr b="1" lang="en-US" sz="2400" spc="-1" strike="noStrike">
                        <a:solidFill>
                          <a:srgbClr val="c00000"/>
                        </a:solidFill>
                        <a:latin typeface="Arial"/>
                      </a:rPr>
                      <a:t>7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1" sz="2800" spc="-1" strike="noStrike">
                      <a:solidFill>
                        <a:srgbClr val="c00000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2800" spc="-1" strike="noStrike">
                    <a:solidFill>
                      <a:srgbClr val="c00000"/>
                    </a:solidFill>
                    <a:latin typeface="Arial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отзывчивая, добрая</c:v>
                </c:pt>
                <c:pt idx="1">
                  <c:v>злая, плохая</c:v>
                </c:pt>
                <c:pt idx="2">
                  <c:v>весёлая, шутлива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3</c:v>
                </c:pt>
                <c:pt idx="1">
                  <c:v>27</c:v>
                </c:pt>
                <c:pt idx="2">
                  <c:v>1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664209074560125"/>
          <c:y val="0.11390437791913"/>
          <c:w val="0.306469937785555"/>
          <c:h val="0.60663531716896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531496062992126"/>
          <c:y val="0.101336302895323"/>
          <c:w val="0.917279090113736"/>
          <c:h val="0.704342984409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Чем обычно занимается баба-яга?</c:v>
                </c:pt>
              </c:strCache>
            </c:strRef>
          </c:tx>
          <c:spPr>
            <a:solidFill>
              <a:srgbClr val="bbe0e3"/>
            </a:solidFill>
            <a:ln w="0">
              <a:noFill/>
            </a:ln>
          </c:spPr>
          <c:invertIfNegative val="0"/>
          <c:dPt>
            <c:idx val="2"/>
            <c:invertIfNegative val="0"/>
            <c:spPr>
              <a:solidFill>
                <a:srgbClr val="ff00ff"/>
              </a:solidFill>
              <a:ln w="25560">
                <a:noFill/>
              </a:ln>
            </c:spPr>
          </c:dPt>
          <c:dPt>
            <c:idx val="3"/>
            <c:invertIfNegative val="0"/>
            <c:spPr>
              <a:solidFill>
                <a:srgbClr val="ffff00"/>
              </a:solidFill>
              <a:ln w="25560">
                <a:noFill/>
              </a:ln>
            </c:spPr>
          </c:dPt>
          <c:dPt>
            <c:idx val="4"/>
            <c:invertIfNegative val="0"/>
            <c:spPr>
              <a:solidFill>
                <a:srgbClr val="ff6600"/>
              </a:solidFill>
              <a:ln w="25560">
                <a:noFill/>
              </a:ln>
            </c:spPr>
          </c:dPt>
          <c:dLbls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Помогает другим сказочным героям</c:v>
                </c:pt>
                <c:pt idx="1">
                  <c:v>Летает на ступе</c:v>
                </c:pt>
                <c:pt idx="2">
                  <c:v>Варит зелья, колдует</c:v>
                </c:pt>
                <c:pt idx="3">
                  <c:v>Ест детей</c:v>
                </c:pt>
                <c:pt idx="4">
                  <c:v>Дает полезные совет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</c:v>
                </c:pt>
                <c:pt idx="1">
                  <c:v>10</c:v>
                </c:pt>
                <c:pt idx="2">
                  <c:v>9</c:v>
                </c:pt>
                <c:pt idx="3">
                  <c:v>3</c:v>
                </c:pt>
                <c:pt idx="4">
                  <c:v>1</c:v>
                </c:pt>
              </c:numCache>
            </c:numRef>
          </c:val>
        </c:ser>
        <c:gapWidth val="150"/>
        <c:overlap val="0"/>
        <c:axId val="34916851"/>
        <c:axId val="68915893"/>
      </c:barChart>
      <c:catAx>
        <c:axId val="3491685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4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15893"/>
        <c:crosses val="autoZero"/>
        <c:auto val="1"/>
        <c:lblAlgn val="ctr"/>
        <c:lblOffset val="100"/>
        <c:noMultiLvlLbl val="0"/>
      </c:catAx>
      <c:valAx>
        <c:axId val="68915893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title>
          <c:tx>
            <c:rich>
              <a:bodyPr rot="-5400000"/>
              <a:lstStyle/>
              <a:p>
                <a:pPr>
                  <a:defRPr b="1" lang="ru-RU" sz="1000" spc="-1" strike="noStrike">
                    <a:solidFill>
                      <a:srgbClr val="000000"/>
                    </a:solidFill>
                    <a:latin typeface="Calibri"/>
                    <a:ea typeface="Calibri"/>
                  </a:defRPr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Человек</a:t>
                </a:r>
              </a:p>
            </c:rich>
          </c:tx>
          <c:layout>
            <c:manualLayout>
              <c:xMode val="edge"/>
              <c:yMode val="edge"/>
              <c:x val="0.0269028871391076"/>
              <c:y val="0.32755329303213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16851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200" spc="-1" strike="noStrike">
                <a:solidFill>
                  <a:srgbClr val="000000"/>
                </a:solidFill>
                <a:latin typeface="Times New Roman"/>
                <a:ea typeface="Arial cyr"/>
              </a:defRPr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 cyr"/>
              </a:rPr>
              <a:t>Как ты думаешь, кто такая Баба Яга?</a:t>
            </a:r>
          </a:p>
        </c:rich>
      </c:tx>
      <c:layout>
        <c:manualLayout>
          <c:xMode val="edge"/>
          <c:yMode val="edge"/>
          <c:x val="0.247169730102019"/>
          <c:y val="0.0474069360483614"/>
        </c:manualLayout>
      </c:layout>
      <c:overlay val="0"/>
      <c:spPr>
        <a:noFill/>
        <a:ln w="25560">
          <a:noFill/>
        </a:ln>
      </c:spPr>
    </c:title>
    <c:autoTitleDeleted val="0"/>
    <c:view3D>
      <c:rotX val="15"/>
      <c:rotY val="20"/>
      <c:rAngAx val="0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25560">
          <a:noFill/>
        </a:ln>
      </c:spPr>
    </c:sideWall>
    <c:backWall>
      <c:spPr>
        <a:noFill/>
        <a:ln w="25560">
          <a:noFill/>
        </a:ln>
      </c:spPr>
    </c:backWall>
    <c:plotArea>
      <c:layout>
        <c:manualLayout>
          <c:layoutTarget val="inner"/>
          <c:xMode val="edge"/>
          <c:yMode val="edge"/>
          <c:x val="0.053635228789118"/>
          <c:y val="0.18445752465797"/>
          <c:w val="0.869656923937842"/>
          <c:h val="0.711979000954502"/>
        </c:manualLayout>
      </c:layout>
      <c:bar3D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то такая баба-яга?</c:v>
                </c:pt>
              </c:strCache>
            </c:strRef>
          </c:tx>
          <c:spPr>
            <a:solidFill>
              <a:srgbClr val="333399"/>
            </a:solidFill>
            <a:ln w="38160">
              <a:solidFill>
                <a:srgbClr val="ffffff"/>
              </a:solidFill>
              <a:round/>
            </a:ln>
          </c:spPr>
          <c:invertIfNegative val="0"/>
          <c:dPt>
            <c:idx val="0"/>
            <c:invertIfNegative val="0"/>
            <c:spPr>
              <a:solidFill>
                <a:srgbClr val="333399"/>
              </a:solidFill>
              <a:ln w="38160">
                <a:solidFill>
                  <a:srgbClr val="ffffff"/>
                </a:solidFill>
                <a:round/>
              </a:ln>
            </c:spPr>
          </c:dPt>
          <c:dPt>
            <c:idx val="1"/>
            <c:invertIfNegative val="0"/>
            <c:spPr>
              <a:solidFill>
                <a:srgbClr val="333399"/>
              </a:solidFill>
              <a:ln w="38160">
                <a:solidFill>
                  <a:srgbClr val="ffffff"/>
                </a:solidFill>
                <a:round/>
              </a:ln>
            </c:spPr>
          </c:dPt>
          <c:dPt>
            <c:idx val="2"/>
            <c:invertIfNegative val="0"/>
            <c:spPr>
              <a:solidFill>
                <a:srgbClr val="333399"/>
              </a:solidFill>
              <a:ln w="38160">
                <a:solidFill>
                  <a:srgbClr val="ffffff"/>
                </a:solidFill>
                <a:round/>
              </a:ln>
            </c:spPr>
          </c:dPt>
          <c:dPt>
            <c:idx val="3"/>
            <c:invertIfNegative val="0"/>
            <c:spPr>
              <a:solidFill>
                <a:srgbClr val="333399"/>
              </a:solidFill>
              <a:ln w="38160">
                <a:solidFill>
                  <a:srgbClr val="ffffff"/>
                </a:solidFill>
                <a:round/>
              </a:ln>
            </c:spPr>
          </c:dPt>
          <c:dPt>
            <c:idx val="4"/>
            <c:invertIfNegative val="0"/>
            <c:spPr>
              <a:solidFill>
                <a:srgbClr val="333399"/>
              </a:solidFill>
              <a:ln w="38160">
                <a:solidFill>
                  <a:srgbClr val="ffffff"/>
                </a:solidFill>
                <a:round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-0.0242967106653951"/>
                  <c:y val="-0.151525763688302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Arial Cyr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-0.0182225329990463"/>
                  <c:y val="-0.204840384245298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Arial Cyr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-0.0349265215815055"/>
                  <c:y val="-0.235706743515137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Arial Cyr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-0.00151854441658719"/>
                  <c:y val="-0.151525763688302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Arial Cyr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layout>
                <c:manualLayout>
                  <c:x val="-0.0197410774156335"/>
                  <c:y val="-0.221676580210664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Arial Cyr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2000" spc="-1" strike="noStrike">
                    <a:solidFill>
                      <a:srgbClr val="000000"/>
                    </a:solidFill>
                    <a:latin typeface="Arial Cyr"/>
                    <a:ea typeface="Arial Cyr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Вымышленный персонаж</c:v>
                </c:pt>
                <c:pt idx="1">
                  <c:v>Ведьма, колдунья</c:v>
                </c:pt>
                <c:pt idx="2">
                  <c:v>Добрая пожилая женщина</c:v>
                </c:pt>
                <c:pt idx="3">
                  <c:v>Злая сварливая старуха</c:v>
                </c:pt>
                <c:pt idx="4">
                  <c:v>Старушка с метло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5</c:v>
                </c:pt>
                <c:pt idx="1">
                  <c:v>6</c:v>
                </c:pt>
                <c:pt idx="2">
                  <c:v>13</c:v>
                </c:pt>
                <c:pt idx="3">
                  <c:v>4</c:v>
                </c:pt>
                <c:pt idx="4">
                  <c:v>9</c:v>
                </c:pt>
              </c:numCache>
            </c:numRef>
          </c:val>
        </c:ser>
        <c:gapWidth val="150"/>
        <c:shape val="cone"/>
        <c:axId val="2417800"/>
        <c:axId val="89080265"/>
        <c:axId val="0"/>
      </c:bar3DChart>
      <c:catAx>
        <c:axId val="241780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75" spc="-1" strike="noStrike">
                <a:solidFill>
                  <a:srgbClr val="000000"/>
                </a:solidFill>
                <a:latin typeface="Arial Cyr"/>
                <a:ea typeface="Arial Cyr"/>
              </a:defRPr>
            </a:pPr>
          </a:p>
        </c:txPr>
        <c:crossAx val="89080265"/>
        <c:crosses val="autoZero"/>
        <c:auto val="1"/>
        <c:lblAlgn val="ctr"/>
        <c:lblOffset val="100"/>
        <c:noMultiLvlLbl val="0"/>
      </c:catAx>
      <c:valAx>
        <c:axId val="89080265"/>
        <c:scaling>
          <c:orientation val="minMax"/>
        </c:scaling>
        <c:delete val="0"/>
        <c:axPos val="l"/>
        <c:majorGridlines>
          <c:spPr>
            <a:ln w="3240">
              <a:solidFill>
                <a:srgbClr val="000000"/>
              </a:solidFill>
              <a:round/>
            </a:ln>
          </c:spPr>
        </c:majorGridlines>
        <c:title>
          <c:tx>
            <c:rich>
              <a:bodyPr rot="-5400000"/>
              <a:lstStyle/>
              <a:p>
                <a:pPr>
                  <a:defRPr b="1" lang="ru-RU" sz="875" spc="-1" strike="noStrike">
                    <a:solidFill>
                      <a:srgbClr val="000000"/>
                    </a:solidFill>
                    <a:latin typeface="Arial Cyr"/>
                    <a:ea typeface="Arial Cyr"/>
                  </a:defRPr>
                </a:pPr>
                <a:r>
                  <a:rPr b="1" lang="ru-RU" sz="875" spc="-1" strike="noStrike">
                    <a:solidFill>
                      <a:srgbClr val="000000"/>
                    </a:solidFill>
                    <a:latin typeface="Arial Cyr"/>
                    <a:ea typeface="Arial Cyr"/>
                  </a:rPr>
                  <a:t>Человек</a:t>
                </a:r>
              </a:p>
            </c:rich>
          </c:tx>
          <c:layout>
            <c:manualLayout>
              <c:xMode val="edge"/>
              <c:yMode val="edge"/>
              <c:x val="0.0253540527743102"/>
              <c:y val="0.442491250397709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75" spc="-1" strike="noStrike">
                <a:solidFill>
                  <a:srgbClr val="000000"/>
                </a:solidFill>
                <a:latin typeface="Arial Cyr"/>
                <a:ea typeface="Arial Cyr"/>
              </a:defRPr>
            </a:pPr>
          </a:p>
        </c:txPr>
        <c:crossAx val="2417800"/>
        <c:crosses val="autoZero"/>
        <c:crossBetween val="between"/>
      </c:valAx>
    </c:plotArea>
    <c:plotVisOnly val="1"/>
    <c:dispBlanksAs val="gap"/>
  </c:chart>
  <c:spPr>
    <a:solidFill>
      <a:srgbClr val="ffffff"/>
    </a:solidFill>
    <a:ln w="3240">
      <a:solidFill>
        <a:srgbClr val="000000"/>
      </a:solidFill>
      <a:round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1A25B9-A9A0-4273-A061-F34F32D94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8D8E87-DC7B-4745-837C-1EAB9BF95A5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BC3091-C60A-4191-BB70-7A58A1A14F7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1E1-A66D-46A1-82FB-94337012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534-757B-400A-B3B9-FB588CA6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2F8-A7D5-4C08-A488-5A68A9DF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F4E-C37A-4D38-934B-A60391A8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CAD8-6D53-4ED7-ABB8-3551B75B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94F2-F7D7-40CD-A652-9F246D46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A4D0-3B39-456D-A31E-6D485F6B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1F95-C9BD-455A-977C-0D6A4EC4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3301-CC4E-46C7-A21D-97357DE6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55F0-38EB-47D9-A760-E288DB57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D13E-F632-4103-B155-00324722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B77-50F8-49DF-9476-E9A5FE6E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1E5B-2BDE-423D-8E40-8E5FB1CF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0C84-B828-49EB-AC2B-47A80BEC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5F6F-0906-40A8-BCBC-650E90D9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75B5-1BF8-4079-9B94-9AC974D2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77A8-341B-45A2-87D3-3602320E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399D3-E9D2-4653-BF98-137E0E75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8DE2-FE7E-417A-BCCA-F1E516D5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ACF9B-A249-4092-B508-27D1CDAB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BBDA-8696-4BF6-8F28-8A1481AB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C93F9-0369-4CED-8C2F-7A1EE512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F60-38AA-4ECA-8C72-25585966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CCE7-D80C-4BAF-8273-F41BB63F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D2C16-6670-4054-A73D-A52BDFED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0618-EE10-4627-ABFE-18A375BB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D5B1E-85DA-4293-A902-A2286531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E4C9E-517B-4D43-BCC3-C7C1CF1A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D3BFC-0CB6-479E-89CB-4D5A08EE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66EF0-A758-45B0-8D93-36DDD3BA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064A5-052A-482B-90B0-996974B2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F6164-9083-465D-A576-29073E1D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878EC-A8AD-4224-AF9A-AE4BB080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8C1-7377-473C-A8E5-1E22D831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BEDE8-01ED-4ABD-B0AA-98EB6B19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E23A7-C08D-4BF2-9639-17896417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B39ED-1A4E-4AC5-A046-C31756C0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D1AC2-D1E5-4279-86A0-09ECB1C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145A9-1E4C-4566-815E-C997F6F6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1BBAE-729C-42B8-AF99-D9695A59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83F97-F85A-497B-9FF9-7303164B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B4D00-4C98-49E9-A3FC-F4BBC705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11E31-228A-4E9A-9D2C-9C6272E5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AFA-17E9-4B42-B0C1-32C8CAE9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7DF-0380-477A-94DF-5D100C46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10B-A2CF-42D3-9AFC-C2E25E5D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925-191A-49A8-8802-5980B82D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52B-1D23-4E37-8416-A80F1CDB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F8DB75-2FAE-4219-8CAD-385F75BBBB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360498-7DC6-4491-ABA7-90B42E45C4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8BDB6D-4A3B-487E-84ED-84D2351117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FEB120-CB41-4CEE-8AFE-17E917D3875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9"/>
          <p:cNvSpPr/>
          <p:nvPr/>
        </p:nvSpPr>
        <p:spPr>
          <a:xfrm>
            <a:off x="755640" y="404640"/>
            <a:ext cx="7772040" cy="146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0"/>
          <p:cNvSpPr/>
          <p:nvPr/>
        </p:nvSpPr>
        <p:spPr>
          <a:xfrm>
            <a:off x="1403280" y="2276640"/>
            <a:ext cx="6400440" cy="175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64000" y="548640"/>
            <a:ext cx="5400360" cy="367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Заболотная Ксения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ученица 2А класса</a:t>
            </a:r>
            <a:br>
              <a:rPr sz="2400"/>
            </a:b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МАОУ СОШ № 4 </a:t>
            </a:r>
            <a:br>
              <a:rPr sz="2400"/>
            </a:b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г. Заводоуковска</a:t>
            </a:r>
            <a:br>
              <a:rPr sz="2400"/>
            </a:b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классный руководитель </a:t>
            </a:r>
            <a:br>
              <a:rPr sz="2400"/>
            </a:b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Богунова Е. И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https://cdn3.imgbb.ru/community/156/1563993/201602/5b8a280dfa7d618e2ea7bbdeeae8c5df.jpg"/>
          <p:cNvPicPr/>
          <p:nvPr/>
        </p:nvPicPr>
        <p:blipFill>
          <a:blip r:embed="rId1"/>
          <a:stretch/>
        </p:blipFill>
        <p:spPr>
          <a:xfrm rot="21193800">
            <a:off x="501840" y="2212920"/>
            <a:ext cx="3502800" cy="4453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caricatura.ru/parad/McOff/pic/12941.jpg"/>
          <p:cNvPicPr/>
          <p:nvPr/>
        </p:nvPicPr>
        <p:blipFill>
          <a:blip r:embed="rId1"/>
          <a:stretch/>
        </p:blipFill>
        <p:spPr>
          <a:xfrm>
            <a:off x="357120" y="2714760"/>
            <a:ext cx="3357360" cy="3714480"/>
          </a:xfrm>
          <a:prstGeom prst="rect">
            <a:avLst/>
          </a:prstGeom>
          <a:ln w="9525">
            <a:noFill/>
          </a:ln>
        </p:spPr>
      </p:pic>
      <p:pic>
        <p:nvPicPr>
          <p:cNvPr id="195" name="Picture 2" descr="C:\Documents and Settings\Иван\Мои документы\Мои рисунки\baba_yaga_15.jpg"/>
          <p:cNvPicPr/>
          <p:nvPr/>
        </p:nvPicPr>
        <p:blipFill>
          <a:blip r:embed="rId2"/>
          <a:stretch/>
        </p:blipFill>
        <p:spPr>
          <a:xfrm>
            <a:off x="4786200" y="2286000"/>
            <a:ext cx="3714480" cy="4266720"/>
          </a:xfrm>
          <a:prstGeom prst="rect">
            <a:avLst/>
          </a:prstGeom>
          <a:ln w="9525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240" cy="2571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Баба-Яга</a:t>
            </a:r>
            <a:br>
              <a:rPr sz="4400"/>
            </a:b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Баба-Яга – это старая ведьма, которая живет в глухом лесу в избушке на курьих ножках, летает на ступе, погоняя ее пестом и заметая след метлой. В сказках она бывает и добрая, которая помогает и злая, которая старается навредить главным героям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трицательная Баба Яг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Содержимое 4"/>
          <p:cNvGraphicFramePr/>
          <p:nvPr/>
        </p:nvGraphicFramePr>
        <p:xfrm>
          <a:off x="457200" y="1600200"/>
          <a:ext cx="8229240" cy="4842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60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SimSun"/>
                        </a:rPr>
                        <a:t>Название сказ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SimSun"/>
                        </a:rPr>
                        <a:t>Герой сказ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SimSun"/>
                        </a:rPr>
                        <a:t>Действия Бабы Я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84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SimSun"/>
                        </a:rPr>
                        <a:t>«Гуси - лебеди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SimSun"/>
                        </a:rPr>
                        <a:t>Ивану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SimSun"/>
                        </a:rPr>
                        <a:t>В этой сказке Баба Яга похищает Ивануш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784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SimSun"/>
                        </a:rPr>
                        <a:t>«Баба Яг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SimSun"/>
                        </a:rPr>
                        <a:t>Племянница Бабы Я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SimSun"/>
                        </a:rPr>
                        <a:t>В этой сказке Баба Яга желает навредить своей племянниц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784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SimSun"/>
                        </a:rPr>
                        <a:t>«Ивашка и ведьм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SimSun"/>
                        </a:rPr>
                        <a:t>Ива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SimSun"/>
                        </a:rPr>
                        <a:t>В этой сказке Баба Яга похищает Иваш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784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SimSun"/>
                        </a:rPr>
                        <a:t>«Терёшечк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SimSun"/>
                        </a:rPr>
                        <a:t>Терёше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SimSun"/>
                        </a:rPr>
                        <a:t>В этой сказке Баба Яга похищает Терёшеч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Какая Баба Яг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Содержимое 3"/>
          <p:cNvGraphicFramePr/>
          <p:nvPr/>
        </p:nvGraphicFramePr>
        <p:xfrm>
          <a:off x="323640" y="1556640"/>
          <a:ext cx="8229240" cy="4525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Занятие Бабы Яги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Chart 15"/>
          <p:cNvGraphicFramePr/>
          <p:nvPr/>
        </p:nvGraphicFramePr>
        <p:xfrm>
          <a:off x="395640" y="1556640"/>
          <a:ext cx="8229240" cy="4525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Результа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Chart 17"/>
          <p:cNvGraphicFramePr/>
          <p:nvPr/>
        </p:nvGraphicFramePr>
        <p:xfrm>
          <a:off x="457200" y="1600200"/>
          <a:ext cx="8362800" cy="4525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Users\АЛЕНА\Desktop\jVC6O_yUZWo.jpg"/>
          <p:cNvPicPr/>
          <p:nvPr/>
        </p:nvPicPr>
        <p:blipFill>
          <a:blip r:embed="rId1"/>
          <a:srcRect l="10103" t="27317" r="4582" b="15098"/>
          <a:stretch/>
        </p:blipFill>
        <p:spPr>
          <a:xfrm>
            <a:off x="5436000" y="260640"/>
            <a:ext cx="3456000" cy="4059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C:\Users\АЛЕНА\Desktop\fQSBCeHg47I.jpg"/>
          <p:cNvPicPr/>
          <p:nvPr/>
        </p:nvPicPr>
        <p:blipFill>
          <a:blip r:embed="rId2"/>
          <a:srcRect l="17062" t="24363" r="15999" b="19530"/>
          <a:stretch/>
        </p:blipFill>
        <p:spPr>
          <a:xfrm>
            <a:off x="323640" y="260640"/>
            <a:ext cx="2808000" cy="4292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Users\АЛЕНА\Desktop\PM_iQj3KNOw.jpg"/>
          <p:cNvPicPr/>
          <p:nvPr/>
        </p:nvPicPr>
        <p:blipFill>
          <a:blip r:embed="rId3"/>
          <a:srcRect l="1998" t="14766" r="8002" b="30603"/>
          <a:stretch/>
        </p:blipFill>
        <p:spPr>
          <a:xfrm>
            <a:off x="1547640" y="3285000"/>
            <a:ext cx="2664000" cy="3312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Users\АЛЕНА\Desktop\3tJch2jps2M.jpg"/>
          <p:cNvPicPr/>
          <p:nvPr/>
        </p:nvPicPr>
        <p:blipFill>
          <a:blip r:embed="rId4"/>
          <a:srcRect l="19291" t="26614" r="7210" b="16537"/>
          <a:stretch/>
        </p:blipFill>
        <p:spPr>
          <a:xfrm>
            <a:off x="4572000" y="3429000"/>
            <a:ext cx="2736000" cy="288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3" descr="img154.jpg"/>
          <p:cNvPicPr/>
          <p:nvPr/>
        </p:nvPicPr>
        <p:blipFill>
          <a:blip r:embed="rId1"/>
          <a:stretch/>
        </p:blipFill>
        <p:spPr>
          <a:xfrm>
            <a:off x="3348000" y="3357000"/>
            <a:ext cx="4580280" cy="3212640"/>
          </a:xfrm>
          <a:prstGeom prst="rect">
            <a:avLst/>
          </a:prstGeom>
          <a:ln w="9525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Users\АЛЕНА\Desktop\62DeVHKK2kc.jpg"/>
          <p:cNvPicPr/>
          <p:nvPr/>
        </p:nvPicPr>
        <p:blipFill>
          <a:blip r:embed="rId2"/>
          <a:srcRect l="3809" t="17033" r="8558" b="16255"/>
          <a:stretch/>
        </p:blipFill>
        <p:spPr>
          <a:xfrm>
            <a:off x="5580000" y="476640"/>
            <a:ext cx="3312000" cy="3384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Users\АЛЕНА\Desktop\WNIWVcw1Ats.jpg"/>
          <p:cNvPicPr/>
          <p:nvPr/>
        </p:nvPicPr>
        <p:blipFill>
          <a:blip r:embed="rId3"/>
          <a:srcRect l="0" t="19934" r="8125" b="17315"/>
          <a:stretch/>
        </p:blipFill>
        <p:spPr>
          <a:xfrm>
            <a:off x="251640" y="260640"/>
            <a:ext cx="4032000" cy="506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C:\Users\АЛЕНА\Desktop\8eCukQctAis.jpg"/>
          <p:cNvPicPr/>
          <p:nvPr/>
        </p:nvPicPr>
        <p:blipFill>
          <a:blip r:embed="rId1"/>
          <a:srcRect l="0" t="13290" r="0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1640" y="3573000"/>
            <a:ext cx="8892000" cy="208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1. Вывод о том, что Баба Яга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трицательный персонаж в русских народных сказках, подтвердилось частично, чаще всего она выступает как положительный герой.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. Никогда не надо делать  поспешные выводы о характере  и поведении людей, так как можно ошибиться.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3.Нужно всегда очень внимательно относиться к чтению любого художественного произведения, так как только вдумчивое чтение позволит сделать какие-нибудь новые открыти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4400"/>
            </a:b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http://holidaycalls.ru/wp-content/uploads/2012/07/%D0%A1%D0%BE%D0%B2%D1%80%D0%B5%D0%BC%D0%B5%D0%BD%D0%BD%D0%B0%D1%8F-%D0%B1%D0%B0%D0%B1%D0%B0-%D1%8F%D0%B3%D0%B0-%D0%B7%D0%B0-%D0%BA%D0%BE%D0%BC%D0%BF%D1%8C%D1%8E%D1%82%D0%B5%D1%80%D0%BE%D0%BC.jpg"/>
          <p:cNvPicPr/>
          <p:nvPr/>
        </p:nvPicPr>
        <p:blipFill>
          <a:blip r:embed="rId1"/>
          <a:stretch/>
        </p:blipFill>
        <p:spPr>
          <a:xfrm>
            <a:off x="3420000" y="332640"/>
            <a:ext cx="5428800" cy="324000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9"/>
          <p:cNvSpPr/>
          <p:nvPr/>
        </p:nvSpPr>
        <p:spPr>
          <a:xfrm>
            <a:off x="251640" y="188640"/>
            <a:ext cx="252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332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2" descr=""/>
          <p:cNvPicPr/>
          <p:nvPr/>
        </p:nvPicPr>
        <p:blipFill>
          <a:blip r:embed="rId1"/>
          <a:stretch/>
        </p:blipFill>
        <p:spPr>
          <a:xfrm>
            <a:off x="1187640" y="1484640"/>
            <a:ext cx="6768360" cy="511236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8" descr="http://www.herzen.spb.ru/img/files/akmeo/Gif/goduchitelya_clip_image002_0000.jpg"/>
          <p:cNvPicPr/>
          <p:nvPr/>
        </p:nvPicPr>
        <p:blipFill>
          <a:blip r:embed="rId1"/>
          <a:stretch/>
        </p:blipFill>
        <p:spPr>
          <a:xfrm>
            <a:off x="1071720" y="357120"/>
            <a:ext cx="7143480" cy="5428800"/>
          </a:xfrm>
          <a:prstGeom prst="rect">
            <a:avLst/>
          </a:prstGeom>
          <a:ln w="9525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57280" y="1500120"/>
            <a:ext cx="2646360" cy="285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Кто она, Бабушка Яга?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92640"/>
            <a:ext cx="8229240" cy="367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– изучить  образ Бабы Яги, сделать вывод о правильности его восприятия и изменить мнение класса об отрицательном образ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дач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читать русские народные сказки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истематизировать поступки Бабы Яги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зучить общественное мнение о Бабе Яге на примере своего класс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едмет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исследования – образ бабы Яг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ъект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исследования - поступки  Бабы Яги в русских  сказках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971640" y="542160"/>
            <a:ext cx="691236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Гипотез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Если проанализировать поступки Бабы Яги в сказках, то можно предположить, что  Баба Яга – очень разносторонний персонаж, поэтому совершает поступки как плохие, так и хорош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6" descr=""/>
          <p:cNvPicPr/>
          <p:nvPr/>
        </p:nvPicPr>
        <p:blipFill>
          <a:blip r:embed="rId1"/>
          <a:stretch/>
        </p:blipFill>
        <p:spPr>
          <a:xfrm>
            <a:off x="4932000" y="2925000"/>
            <a:ext cx="3600000" cy="3600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79" name="Picture 3" descr="Баба-Яга"/>
          <p:cNvPicPr/>
          <p:nvPr/>
        </p:nvPicPr>
        <p:blipFill>
          <a:blip r:embed="rId2"/>
          <a:stretch/>
        </p:blipFill>
        <p:spPr>
          <a:xfrm>
            <a:off x="539640" y="2997000"/>
            <a:ext cx="3816000" cy="346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8640"/>
            <a:ext cx="4762440" cy="252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Яга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- «род ведьмы или злой дух под личиною безобразной старухи»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з словаря В. Даля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: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ервое слово «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БАБА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» происходит от слова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«БАБАЙКА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»,  которым пугают детей</a:t>
            </a:r>
            <a:br>
              <a:rPr sz="2000"/>
            </a:b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N:\Баба яга\словарь ушакова.jpg"/>
          <p:cNvPicPr/>
          <p:nvPr/>
        </p:nvPicPr>
        <p:blipFill>
          <a:blip r:embed="rId1"/>
          <a:stretch/>
        </p:blipFill>
        <p:spPr>
          <a:xfrm>
            <a:off x="5220000" y="980640"/>
            <a:ext cx="3515040" cy="452556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229240" cy="5793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Джумавати – индийская Баба Яга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C:\Users\АЛЕНА\Desktop\34666257_image052.jpg"/>
          <p:cNvPicPr/>
          <p:nvPr/>
        </p:nvPicPr>
        <p:blipFill>
          <a:blip r:embed="rId1"/>
          <a:stretch/>
        </p:blipFill>
        <p:spPr>
          <a:xfrm>
            <a:off x="2988000" y="1556640"/>
            <a:ext cx="3457080" cy="4762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4427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жилье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Бабушки Яги 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5" descr=""/>
          <p:cNvPicPr/>
          <p:nvPr/>
        </p:nvPicPr>
        <p:blipFill>
          <a:blip r:embed="rId1"/>
          <a:stretch/>
        </p:blipFill>
        <p:spPr>
          <a:xfrm>
            <a:off x="3852000" y="260640"/>
            <a:ext cx="4752000" cy="3599280"/>
          </a:xfrm>
          <a:prstGeom prst="rect">
            <a:avLst/>
          </a:prstGeom>
          <a:ln w="9525">
            <a:noFill/>
          </a:ln>
        </p:spPr>
      </p:pic>
      <p:sp>
        <p:nvSpPr>
          <p:cNvPr id="186" name="Picture 4"/>
          <p:cNvSpPr/>
          <p:nvPr/>
        </p:nvSpPr>
        <p:spPr>
          <a:xfrm>
            <a:off x="323640" y="2637000"/>
            <a:ext cx="4571640" cy="402156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190500">
            <a:solidFill>
              <a:srgbClr val="62b5be"/>
            </a:solidFill>
            <a:miter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5"/>
          <p:cNvSpPr/>
          <p:nvPr/>
        </p:nvSpPr>
        <p:spPr>
          <a:xfrm>
            <a:off x="5076000" y="3105720"/>
            <a:ext cx="338400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нешность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Бабушки Я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610440" cy="164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ранспорт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Бабушки Яги 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Баба яга-2, славяне, веды"/>
          <p:cNvPicPr/>
          <p:nvPr/>
        </p:nvPicPr>
        <p:blipFill>
          <a:blip r:embed="rId1"/>
          <a:stretch/>
        </p:blipFill>
        <p:spPr>
          <a:xfrm>
            <a:off x="4356000" y="404640"/>
            <a:ext cx="4272120" cy="360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F:\баба яга\1911728000c4de04b95cfe88faa75f7c52994512c3.jpg"/>
          <p:cNvPicPr/>
          <p:nvPr/>
        </p:nvPicPr>
        <p:blipFill>
          <a:blip r:embed="rId2"/>
          <a:stretch/>
        </p:blipFill>
        <p:spPr>
          <a:xfrm>
            <a:off x="467640" y="3285000"/>
            <a:ext cx="3555000" cy="3128400"/>
          </a:xfrm>
          <a:prstGeom prst="rect">
            <a:avLst/>
          </a:prstGeom>
          <a:ln w="76200">
            <a:solidFill>
              <a:srgbClr val="2d2d8a">
                <a:lumMod val="75000"/>
              </a:srgbClr>
            </a:solidFill>
            <a:miter/>
          </a:ln>
        </p:spPr>
      </p:pic>
      <p:sp>
        <p:nvSpPr>
          <p:cNvPr id="191" name="Прямоугольник 5"/>
          <p:cNvSpPr/>
          <p:nvPr/>
        </p:nvSpPr>
        <p:spPr>
          <a:xfrm>
            <a:off x="5004000" y="3105720"/>
            <a:ext cx="381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рузья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Бабушки Я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225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Положительная Баба Яг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Таблица 3"/>
          <p:cNvGraphicFramePr/>
          <p:nvPr/>
        </p:nvGraphicFramePr>
        <p:xfrm>
          <a:off x="395640" y="1340640"/>
          <a:ext cx="8424720" cy="5038560"/>
        </p:xfrm>
        <a:graphic>
          <a:graphicData uri="http://schemas.openxmlformats.org/drawingml/2006/table">
            <a:tbl>
              <a:tblPr/>
              <a:tblGrid>
                <a:gridCol w="2520000"/>
                <a:gridCol w="1656000"/>
                <a:gridCol w="4248360"/>
              </a:tblGrid>
              <a:tr h="360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Название сказ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Герой сказ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Действия Бабы Я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50040" rIns="50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«Финист - ясный соко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Марью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В этой сказке три Бабы Яги подарили Марьюшке волшебные предметы для того, чтобы она могла спасти Финиста-ясного со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818640">
                <a:tc>
                  <a:txBody>
                    <a:bodyPr lIns="50040" rIns="50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«Василиса Прекрасна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Васил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В этой сказке Баба Яга в обмен на Василисин труд подарила огонь, необходимый Васили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857880">
                <a:tc>
                  <a:txBody>
                    <a:bodyPr lIns="50040" rIns="50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«Царевна  - лягуш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Иван - Царе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В этой сказке Баба Яга помогла Ивану Царевичу советом, как ему справиться с Кощеем и спасти Царев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50040" rIns="50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«Сказка о молодильных яблока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Иван - Царе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В этой сказке три разных Бабы Яги, они все помогали главному герою Ивану Царевичу:  давали ему советы и свежих кон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818640">
                <a:tc>
                  <a:txBody>
                    <a:bodyPr lIns="50040" rIns="50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«Иван Быкович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Иван Бык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SimSun"/>
                        </a:rPr>
                        <a:t>В этой сказке Баба Яга приютила главного героя на ночь и пожелала ему у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2240">
                      <a:solidFill>
                        <a:srgbClr val="00000a"/>
                      </a:solidFill>
                    </a:lnL>
                    <a:lnR w="12240">
                      <a:solidFill>
                        <a:srgbClr val="00000a"/>
                      </a:solidFill>
                    </a:lnR>
                    <a:lnT w="12240">
                      <a:solidFill>
                        <a:srgbClr val="00000a"/>
                      </a:solidFill>
                    </a:lnT>
                    <a:lnB w="12240">
                      <a:solidFill>
                        <a:srgbClr val="00000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  <Words>279</Words>
  <Paragraphs>70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ЛЕНА</cp:lastModifiedBy>
  <dcterms:modified xsi:type="dcterms:W3CDTF">2018-01-01T04:47:19Z</dcterms:modified>
  <cp:revision>21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2</vt:r8>
  </property>
  <property fmtid="{D5CDD505-2E9C-101B-9397-08002B2CF9AE}" pid="4" name="PresentationFormat">
    <vt:lpwstr>Экран (4:3)</vt:lpwstr>
  </property>
  <property fmtid="{D5CDD505-2E9C-101B-9397-08002B2CF9AE}" pid="5" name="Slides">
    <vt:r8>19</vt:r8>
  </property>
</Properties>
</file>