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7760" cy="124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43520" cy="1248264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752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48200" cy="1248732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44960" cy="1248408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C5BB-52F1-4801-9B84-ABB977D9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7174-232D-420C-975E-624D2389F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FDF1-C6C8-49B8-A74D-F246D2FB4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08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96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08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96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E48A-7078-4127-8FF9-9BB51F5F9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4CC9-B658-47C5-BDC9-A8201E846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E15C-CA60-4F58-942B-0EADFB25D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BBB6-6D46-4192-AFB6-7DDF39D9B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1590-83DC-4AFB-962A-41376DF8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07280" cy="51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A802-8ECE-43AA-9F65-1244F9F43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3787-398C-4048-9B43-05F4C9395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5AA1-7FC3-4650-AB0E-61DC81844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4D13-0292-4DD5-9808-E3088E1A3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072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27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89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1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B0236-CE1E-464D-9BC0-96409F6D6B1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Геометрические узоры и орнаменты на посуд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573360"/>
            <a:ext cx="481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проекта 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У Нерльская СО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 Куртяпова О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18960" y="936720"/>
            <a:ext cx="3929040" cy="1928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46640" y="3411360"/>
            <a:ext cx="3429000" cy="22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24360" y="1152360"/>
            <a:ext cx="381636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, поделё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4 ча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точ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сеянное по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680" y="3435480"/>
            <a:ext cx="3684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Круг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имволы солнц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93560" y="366840"/>
            <a:ext cx="82807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Уз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рисунок, созданный при помощи сочетаний линий, красок и теней. Узор может быть самостоятельным художественным элементом, произведением, а также и элементом орнамента (если повторить его в определенной последовательности несколько раз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Орнамент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еводе с латинского языка означа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кра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н состоит из ряда последовательно расположенных элементов. В этом случае обязательно соблюдается строгая закономерность, связанная с симметрией и ритмом. Орнамент придает изделию выразительность, красоту, подчеркивает его форму и фа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2920" y="1655640"/>
            <a:ext cx="4286160" cy="4286520"/>
          </a:xfrm>
          <a:prstGeom prst="rect">
            <a:avLst/>
          </a:prstGeom>
          <a:ln cap="sq" w="76320">
            <a:solidFill>
              <a:srgbClr val="7030a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0880" y="1665360"/>
            <a:ext cx="2714760" cy="114300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96000" y="1595520"/>
            <a:ext cx="3643200" cy="14288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60360" y="3586320"/>
            <a:ext cx="2786040" cy="12380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048360" y="3600360"/>
            <a:ext cx="2214720" cy="200988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863640" y="431640"/>
            <a:ext cx="6889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Segoe UI"/>
              </a:rPr>
              <a:t>Растительный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Segoe UI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Segoe UI"/>
              </a:rPr>
              <a:t>орнаме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92000" y="1387440"/>
            <a:ext cx="2376720" cy="1992240"/>
          </a:xfrm>
          <a:prstGeom prst="rect">
            <a:avLst/>
          </a:prstGeom>
          <a:ln cap="sq" w="76320">
            <a:solidFill>
              <a:srgbClr val="ffc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51280" y="1459080"/>
            <a:ext cx="3357720" cy="235728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66720" y="3762360"/>
            <a:ext cx="2428920" cy="235728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80000" y="4005360"/>
            <a:ext cx="3527280" cy="2297160"/>
          </a:xfrm>
          <a:prstGeom prst="rect">
            <a:avLst/>
          </a:prstGeom>
          <a:ln cap="sq" w="76320">
            <a:solidFill>
              <a:srgbClr val="ffc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295280" y="431640"/>
            <a:ext cx="6255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Segoe UI"/>
              </a:rPr>
              <a:t>Зооморфный орнамент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Segoe UI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7520" y="1325520"/>
            <a:ext cx="1428480" cy="371484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63840" y="3043080"/>
            <a:ext cx="1857240" cy="235764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751280" y="3043080"/>
            <a:ext cx="1928880" cy="235764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994440" y="1325520"/>
            <a:ext cx="1357560" cy="3714840"/>
          </a:xfrm>
          <a:prstGeom prst="rect">
            <a:avLst/>
          </a:prstGeom>
          <a:ln cap="sq" w="76320">
            <a:solidFill>
              <a:srgbClr val="00b05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6360" y="503280"/>
            <a:ext cx="7920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Антропоморфный орнаме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6360" y="2376360"/>
            <a:ext cx="2214360" cy="2262240"/>
          </a:xfrm>
          <a:prstGeom prst="rect">
            <a:avLst/>
          </a:prstGeom>
          <a:ln cap="sq" w="76320">
            <a:solidFill>
              <a:srgbClr val="7030a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600360" y="3786120"/>
            <a:ext cx="1785960" cy="2286000"/>
          </a:xfrm>
          <a:prstGeom prst="rect">
            <a:avLst/>
          </a:prstGeom>
          <a:ln cap="sq" w="76320">
            <a:solidFill>
              <a:srgbClr val="7030a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91280" y="2303640"/>
            <a:ext cx="2190600" cy="2261880"/>
          </a:xfrm>
          <a:prstGeom prst="rect">
            <a:avLst/>
          </a:prstGeom>
          <a:ln cap="sq" w="76320">
            <a:solidFill>
              <a:srgbClr val="7030a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635040" y="792000"/>
            <a:ext cx="785664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63520" algn="ctr"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Геометрический орнамен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8640" y="13683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32360" y="1379520"/>
            <a:ext cx="2440080" cy="27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384720" y="419580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7280" y="647640"/>
            <a:ext cx="7632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3333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очки и лин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31640" y="1611360"/>
            <a:ext cx="2090880" cy="335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6000" y="576360"/>
            <a:ext cx="8136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Times New Roman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руги и овал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035160" y="1555920"/>
            <a:ext cx="531684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32360" y="1452600"/>
            <a:ext cx="426708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63640" y="647640"/>
            <a:ext cx="7343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Times New Roman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омбы и квадраты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20720" y="1800360"/>
            <a:ext cx="20937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71640" y="647640"/>
            <a:ext cx="6120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оманые линии и зигзаг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5480" y="1463760"/>
            <a:ext cx="3865680" cy="4254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35640" y="1452600"/>
            <a:ext cx="3240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31640" y="932040"/>
            <a:ext cx="756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Цели и задачи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000" y="1871640"/>
            <a:ext cx="7199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 как появилась посуда, выяснить как её украшали в древ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ить технику выполнения узор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из геометрических фигур составлять узоры и оформить ими посу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76160" y="1592280"/>
            <a:ext cx="3467160" cy="4492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8920" y="1687680"/>
            <a:ext cx="3990960" cy="4390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1560" y="1638360"/>
            <a:ext cx="3791160" cy="441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824360" y="1617840"/>
            <a:ext cx="3660840" cy="446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879640" y="273528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863640"/>
            <a:ext cx="7991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33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3333"/>
                </a:solidFill>
                <a:latin typeface="Times New Roman"/>
              </a:rPr>
              <a:t>Наши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8429400" cy="5951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14200" y="316080"/>
            <a:ext cx="8721720" cy="62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00" y="287280"/>
            <a:ext cx="8859600" cy="343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16000" y="19080"/>
            <a:ext cx="8856720" cy="664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20720" y="743040"/>
            <a:ext cx="7159680" cy="57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14200"/>
            <a:ext cx="5397480" cy="404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00680" y="3000240"/>
            <a:ext cx="4849560" cy="36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3240" y="44136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0760" y="22068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352000" cy="6262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6600" y="360360"/>
            <a:ext cx="8663040" cy="649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84120" y="287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31640" y="287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84360" y="1290600"/>
            <a:ext cx="7207200" cy="5405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16000" y="287280"/>
            <a:ext cx="871848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433520"/>
            <a:ext cx="81360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1600" indent="-201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1600"/>
                <a:tab algn="l" pos="64944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бедились в том, что в основе построения орнамента  и узора лежит наука математ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520" indent="-201600">
              <a:lnSpc>
                <a:spcPct val="100000"/>
              </a:lnSpc>
              <a:tabLst>
                <a:tab algn="l" pos="0"/>
                <a:tab algn="l" pos="201600"/>
                <a:tab algn="l" pos="64944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1600"/>
                <a:tab algn="l" pos="64944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ли основные виды орнам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520" indent="-201600">
              <a:lnSpc>
                <a:spcPct val="100000"/>
              </a:lnSpc>
              <a:tabLst>
                <a:tab algn="l" pos="0"/>
                <a:tab algn="l" pos="201600"/>
                <a:tab algn="l" pos="64944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1600"/>
                <a:tab algn="l" pos="649440"/>
                <a:tab algn="l" pos="1098720"/>
                <a:tab algn="l" pos="1547640"/>
                <a:tab algn="l" pos="1996920"/>
                <a:tab algn="l" pos="2446200"/>
                <a:tab algn="l" pos="2895480"/>
                <a:tab algn="l" pos="3344760"/>
                <a:tab algn="l" pos="3794040"/>
                <a:tab algn="l" pos="4243320"/>
                <a:tab algn="l" pos="4692600"/>
                <a:tab algn="l" pos="5141880"/>
                <a:tab algn="l" pos="5591160"/>
                <a:tab algn="l" pos="6040440"/>
                <a:tab algn="l" pos="6489720"/>
                <a:tab algn="l" pos="6939000"/>
                <a:tab algn="l" pos="7388280"/>
                <a:tab algn="l" pos="7837560"/>
                <a:tab algn="l" pos="8286840"/>
                <a:tab algn="l" pos="8736120"/>
                <a:tab algn="l" pos="9185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учились создавать геометрические узоры. </a:t>
            </a:r>
            <a:r>
              <a:rPr b="1" lang="ru-RU" sz="2800" spc="-1" strike="noStrike">
                <a:solidFill>
                  <a:srgbClr val="fb7c7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280" y="3530520"/>
            <a:ext cx="79200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6360" y="2735280"/>
            <a:ext cx="7775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720720"/>
            <a:ext cx="597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тоги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00" y="3959280"/>
            <a:ext cx="82328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результате  мы убедились, что математика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это не только счёт,цифры, задачи, но и уникаль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редство познания красот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31640" y="1871640"/>
            <a:ext cx="828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</a:rPr>
              <a:t>Гипотеза: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изучить технику выполнения узоров, то можно научиться самим создавать узоры и расписывать посуд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216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ru-RU" sz="4400" spc="-1" strike="noStrike">
                <a:solidFill>
                  <a:srgbClr val="ff3333"/>
                </a:solidFill>
                <a:latin typeface="Times New Roman"/>
              </a:rPr>
              <a:t>Актуальност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5120" y="887400"/>
            <a:ext cx="763272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зоры в нашей жизни встречаются на каждом шаг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зор можно прочесть. Испокон веку с помощью самых разнообразных геометрических линий и форм человек выражал своё мировосприятие, своё отношение к действи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учиться читать узор, значит научиться понимать язык наших предков, значит не потерять живую связь с прошлым нашего на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</a:rPr>
              <a:t>Кто придумал посуд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0000" y="1209600"/>
            <a:ext cx="4016160" cy="275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160" y="-1077840"/>
            <a:ext cx="4248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Franklin Gothic Book"/>
                <a:ea typeface="Segoe U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5600" y="1152360"/>
            <a:ext cx="4352760" cy="272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1320" y="4197240"/>
            <a:ext cx="695304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юди пытались использовать для хранения пищи все имеющиеся у них подручные материалы: раковины, скорлупу больших орехов, делали мешки из шкур зверей и, конечно же, выдалбливали сосуды из камн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0360" y="3716280"/>
            <a:ext cx="3975120" cy="297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4720" y="3668760"/>
            <a:ext cx="3600360" cy="320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79640" y="582480"/>
            <a:ext cx="69832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читается, что керамическую посуду изобрела женщина. Женщины больше занимались хозяйством, именно им приходилось заботиться о сохранности еды. Поначалу плетеную посуду просто обмазывали глиной. И, наверное, случайно такая посуда оказалась неподалеку от огня. Тогда-то люди заметили свойства обожженной глины и стали делать из нее посуд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56360" y="360360"/>
            <a:ext cx="2857320" cy="2400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7280" y="2664000"/>
            <a:ext cx="856764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ревнейшая керамическая посуда проста по форме: дно заостренное, кверху стенки расширяются и напоминают яйцо, у которого срезана верхняя часть. Стенки сосудов толстые, грубые, неравномерно обожженные. Но, уже имея такую посуду, человек смог значительно разнообразить свою пищу, научился готовить каши, супы, похлебки, жарить на жиру и масле, отваривать овощ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9520" y="287280"/>
            <a:ext cx="2295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7280" y="449280"/>
            <a:ext cx="3143160" cy="250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12840" y="3440160"/>
            <a:ext cx="3143160" cy="2824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03640" y="720720"/>
            <a:ext cx="388800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осуду стали наносить разнообразные рисунки. Грубую посуду покрывали жидкой глиной, расписывали минеральными красками. Иногда узор выцарапывали специальными палочк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аще всего посуду украшали разнообразным орнаментом, это были геометрические фигуры, танцующие люди, цветочные розетки, фигуры животн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8840" y="2560680"/>
            <a:ext cx="3846600" cy="463680"/>
          </a:xfrm>
          <a:prstGeom prst="pie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008000"/>
            <a:ext cx="4319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нистые ли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волизировал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04000" y="144000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35640" y="528480"/>
            <a:ext cx="4071960" cy="300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1640" y="3527280"/>
            <a:ext cx="2357640" cy="271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56360" y="5619600"/>
            <a:ext cx="569880" cy="428760"/>
          </a:xfrm>
          <a:prstGeom prst="pie">
            <a:avLst/>
          </a:prstGeom>
          <a:noFill/>
          <a:ln cap="sq"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72000" y="5619600"/>
            <a:ext cx="642960" cy="428760"/>
          </a:xfrm>
          <a:prstGeom prst="pie">
            <a:avLst/>
          </a:prstGeom>
          <a:noFill/>
          <a:ln cap="sq"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7640" y="4032360"/>
            <a:ext cx="4248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угольник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вол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лове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1280" y="5327640"/>
            <a:ext cx="1368360" cy="93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sq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/>
  <dcterms:modified xsi:type="dcterms:W3CDTF">2018-01-05T18:57:02Z</dcterms:modified>
  <cp:revision>57</cp:revision>
  <dc:subject/>
  <dc:title>Слайд 1</dc:title>
</cp:coreProperties>
</file>