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234-3222-42D6-80BA-96D0E224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65A-CFE2-4257-99A8-B676CD43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A1A-604A-4756-B9B5-0994A508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411-E252-4B81-BA55-97AFF438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635-9E90-4D64-AB61-44CB9552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771-9F8C-4457-88EB-8E79A5F5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2EC-0F06-43A2-A9A3-E33E8A03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948-F792-4BD5-94C4-859E7F74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5D1-4A0F-46BC-85B3-22BE9D20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C98-F57C-4072-B03A-7BC1B541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071-A8ED-4A73-ADE3-F587DF7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023-84B3-40B0-8A76-A4FBCEE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914E-B6D6-4B53-88C7-5314EFBCD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aptop"/>
          <p:cNvSpPr/>
          <p:nvPr/>
        </p:nvSpPr>
        <p:spPr>
          <a:xfrm>
            <a:off x="228600" y="228600"/>
            <a:ext cx="9753480" cy="6629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КОУ Варнавинская С(К)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ализация инновационных подходов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логопедическ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«Применение криотерапии как эффективного средства развития графо-моторных навыков на занятиях по коррекции дис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читель-логопед высше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.В. Зим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1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6" descr="68672"/>
          <p:cNvPicPr/>
          <p:nvPr/>
        </p:nvPicPr>
        <p:blipFill>
          <a:blip r:embed="rId1"/>
          <a:stretch/>
        </p:blipFill>
        <p:spPr>
          <a:xfrm>
            <a:off x="4800600" y="3809880"/>
            <a:ext cx="2133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914400" y="0"/>
            <a:ext cx="7467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роки ре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1143000" y="2362320"/>
            <a:ext cx="6858000" cy="4038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-2 занятия в недел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течение 3 меся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/>
          <p:cNvSpPr/>
          <p:nvPr/>
        </p:nvSpPr>
        <p:spPr>
          <a:xfrm>
            <a:off x="990720" y="457200"/>
            <a:ext cx="6705360" cy="91440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Этапы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 rot="6335400">
            <a:off x="1202040" y="1693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 rot="5989800">
            <a:off x="3107520" y="1768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 rot="4536600">
            <a:off x="4859640" y="1769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 rot="4101600">
            <a:off x="6688440" y="1616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533520" y="2666880"/>
            <a:ext cx="1676160" cy="30434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в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и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2590920"/>
            <a:ext cx="1752840" cy="312408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ррек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ме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риотера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4648320" y="2666880"/>
            <a:ext cx="1828800" cy="304812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тог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и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"/>
          <p:cNvSpPr/>
          <p:nvPr/>
        </p:nvSpPr>
        <p:spPr>
          <a:xfrm>
            <a:off x="6629400" y="2514600"/>
            <a:ext cx="1828800" cy="297180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б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нед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4"/>
          <p:cNvSpPr/>
          <p:nvPr/>
        </p:nvSpPr>
        <p:spPr>
          <a:xfrm>
            <a:off x="914400" y="228600"/>
            <a:ext cx="69343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иагно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838080" y="1600200"/>
            <a:ext cx="7162920" cy="4648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ониторинг развития пись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ч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8"/>
          <p:cNvGraphicFramePr/>
          <p:nvPr/>
        </p:nvGraphicFramePr>
        <p:xfrm>
          <a:off x="914400" y="2514600"/>
          <a:ext cx="457200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4572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Диаграмма 3"/>
          <p:cNvGraphicFramePr/>
          <p:nvPr/>
        </p:nvGraphicFramePr>
        <p:xfrm>
          <a:off x="1219320" y="4343400"/>
          <a:ext cx="4267080" cy="175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343400"/>
                    <a:ext cx="4267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"/>
          <p:cNvSpPr/>
          <p:nvPr/>
        </p:nvSpPr>
        <p:spPr>
          <a:xfrm>
            <a:off x="0" y="0"/>
            <a:ext cx="9144000" cy="1981080"/>
          </a:xfrm>
          <a:prstGeom prst="sun">
            <a:avLst>
              <a:gd name="adj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219320" y="1981080"/>
            <a:ext cx="6858000" cy="6098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т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533520" y="2895480"/>
            <a:ext cx="8076960" cy="3657600"/>
          </a:xfrm>
          <a:prstGeom prst="hexagon">
            <a:avLst>
              <a:gd name="adj" fmla="val 55207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ружение пальцев в бассей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ледяны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«Достань игрушку» ( на 5-8 секун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P1090262"/>
          <p:cNvPicPr/>
          <p:nvPr/>
        </p:nvPicPr>
        <p:blipFill>
          <a:blip r:embed="rId1"/>
          <a:stretch/>
        </p:blipFill>
        <p:spPr>
          <a:xfrm>
            <a:off x="304920" y="1752480"/>
            <a:ext cx="3581280" cy="2571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1090260"/>
          <p:cNvPicPr/>
          <p:nvPr/>
        </p:nvPicPr>
        <p:blipFill>
          <a:blip r:embed="rId2"/>
          <a:stretch/>
        </p:blipFill>
        <p:spPr>
          <a:xfrm>
            <a:off x="5181480" y="1731960"/>
            <a:ext cx="3429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/>
          <p:cNvSpPr/>
          <p:nvPr/>
        </p:nvSpPr>
        <p:spPr>
          <a:xfrm>
            <a:off x="838080" y="380880"/>
            <a:ext cx="6858000" cy="6098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пражнен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676520" y="2286000"/>
            <a:ext cx="6781680" cy="3429000"/>
          </a:xfrm>
          <a:prstGeom prst="hexagon">
            <a:avLst>
              <a:gd name="adj" fmla="val 49444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кладывание мозаичного рису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ледяных куб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 взаимодействия со ль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25 секун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1090264"/>
          <p:cNvPicPr/>
          <p:nvPr/>
        </p:nvPicPr>
        <p:blipFill>
          <a:blip r:embed="rId1"/>
          <a:stretch/>
        </p:blipFill>
        <p:spPr>
          <a:xfrm>
            <a:off x="380880" y="2616120"/>
            <a:ext cx="3505320" cy="2874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P1090261"/>
          <p:cNvPicPr/>
          <p:nvPr/>
        </p:nvPicPr>
        <p:blipFill>
          <a:blip r:embed="rId2"/>
          <a:stretch/>
        </p:blipFill>
        <p:spPr>
          <a:xfrm>
            <a:off x="5334120" y="1125360"/>
            <a:ext cx="3429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838080" y="380880"/>
            <a:ext cx="6858000" cy="6098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пражнен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80880" y="1523880"/>
            <a:ext cx="8077320" cy="4191120"/>
          </a:xfrm>
          <a:prstGeom prst="hexagon">
            <a:avLst>
              <a:gd name="adj" fmla="val 48181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кладывание стен крепости, дом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ледяных куб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продолж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е со ль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30 до 40 секун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762120" y="152280"/>
            <a:ext cx="7696080" cy="10670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бщение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3352680" y="1371600"/>
            <a:ext cx="2286000" cy="1905120"/>
          </a:xfrm>
          <a:custGeom>
            <a:avLst/>
            <a:gdLst>
              <a:gd name="textAreaLeft" fmla="*/ 228600 w 2286000"/>
              <a:gd name="textAreaRight" fmla="*/ 2057400 w 2286000"/>
              <a:gd name="textAreaTop" fmla="*/ 1088640 h 1905120"/>
              <a:gd name="textAreaBottom" fmla="*/ 1632960 h 1905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380880" y="1523880"/>
            <a:ext cx="2286000" cy="3200400"/>
          </a:xfrm>
          <a:prstGeom prst="flowChartMagneticTap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дсо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ы, пр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метной н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опе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43200" y="3352680"/>
            <a:ext cx="2438280" cy="3276720"/>
          </a:xfrm>
          <a:prstGeom prst="flowChartMagneticTap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ей-логопе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5715000" y="3429000"/>
            <a:ext cx="2514600" cy="3124080"/>
          </a:xfrm>
          <a:prstGeom prst="flowChartMagneticTap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бл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личном сай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йт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ов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реждения и РУ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образователь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-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0" y="0"/>
            <a:ext cx="8839080" cy="167652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0" y="1828800"/>
            <a:ext cx="8763120" cy="4800600"/>
          </a:xfrm>
          <a:custGeom>
            <a:avLst/>
            <a:gdLst>
              <a:gd name="textAreaLeft" fmla="*/ 2000520 w 8763120"/>
              <a:gd name="textAreaRight" fmla="*/ 6762600 w 8763120"/>
              <a:gd name="textAreaTop" fmla="*/ 1095840 h 4800600"/>
              <a:gd name="textAreaBottom" fmla="*/ 37047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гры со ль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ывают  радостное настро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нимают жизненный тону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ют детям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моционально ярких впечатл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пособствуют положи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намике в коррекцион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914400" y="228600"/>
            <a:ext cx="6629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28600" y="1447920"/>
            <a:ext cx="8001000" cy="510516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1. Акименко В.М. Речевые нарушения у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Ростов н/Д; изд. Феникс, 2008. 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2 Баннов А. Учимся думать вмест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Материалы для тренинга учителей. — М.: , 2010. 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3. Гин А. Приемы педагогической техники.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М.:Вита-Пресс, 2011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4.  Баранов А. Ю., Кидалов В. Н. Лечение холо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М.: Апрель, 2009. – 160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5  Гвоздева А. Н. Вопросы изучения детской речи / Гвоздев А. 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М.: Изд-во АПН РСФСР, 2011 – Т.1. – 472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6  Руденков В. И. Логопед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7 Практическое пособие для логопедов, студентов и ро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Ростов-на-Дону, Изд-во «Феникс»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609480" y="609480"/>
            <a:ext cx="7315200" cy="548640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«Ум ребенка находится на кончиках его пальц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.А. Сухомлин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«Рука - это инструмент всех инструментов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ристотел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_cd206_18a17098_S"/>
          <p:cNvPicPr/>
          <p:nvPr/>
        </p:nvPicPr>
        <p:blipFill>
          <a:blip r:embed="rId1"/>
          <a:stretch/>
        </p:blipFill>
        <p:spPr>
          <a:xfrm>
            <a:off x="6553080" y="5346720"/>
            <a:ext cx="1828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685800" y="0"/>
            <a:ext cx="7696080" cy="175248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К р и о т е р а п и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533520" y="1905120"/>
            <a:ext cx="8001000" cy="4952880"/>
          </a:xfrm>
          <a:custGeom>
            <a:avLst/>
            <a:gdLst>
              <a:gd name="textAreaLeft" fmla="*/ 1826280 w 8001000"/>
              <a:gd name="textAreaRight" fmla="*/ 6174720 w 8001000"/>
              <a:gd name="textAreaTop" fmla="*/ 1130760 h 4952880"/>
              <a:gd name="textAreaBottom" fmla="*/ 3822120 h 495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на из сов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традицио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ик коррекционной педагог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ключающая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 использован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гр со  льд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"/>
          <p:cNvSpPr/>
          <p:nvPr/>
        </p:nvSpPr>
        <p:spPr>
          <a:xfrm>
            <a:off x="609480" y="380880"/>
            <a:ext cx="7315200" cy="9144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нцептуальная основа метод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04920" y="1371600"/>
            <a:ext cx="8686800" cy="52578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ния  доказа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уровень развития детск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ходится в прямой зависи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степени сформирова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й пальцев р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мелкой моторики пальцев р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о ск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стано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ской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0_cd1ff_8a150a52_S"/>
          <p:cNvPicPr/>
          <p:nvPr/>
        </p:nvPicPr>
        <p:blipFill>
          <a:blip r:embed="rId1"/>
          <a:stretch/>
        </p:blipFill>
        <p:spPr>
          <a:xfrm>
            <a:off x="609480" y="1447920"/>
            <a:ext cx="16002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304920" y="0"/>
            <a:ext cx="8305560" cy="19810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Актуальность  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80880" y="1905120"/>
            <a:ext cx="8077320" cy="457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вигательный акт письма требует тонкой координации движ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лительной фиксации суста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лабое развитие мелких мышц руки, определяют чрезвычай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ложность овладения навыком пись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иотерапия или контрастная терапия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– один метод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зволяющих производить воздействие на кисти рук холода и теп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переменно, что способствует совершенствованию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тонких движений кисти руки, ведёт к активизации мелкой мотор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, как следствие, улучшает процесс овладения графикой пись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а параллельно способствует развитию ре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5"/>
          <p:cNvSpPr/>
          <p:nvPr/>
        </p:nvSpPr>
        <p:spPr>
          <a:xfrm>
            <a:off x="762120" y="762120"/>
            <a:ext cx="7924680" cy="1143000"/>
          </a:xfrm>
          <a:custGeom>
            <a:avLst/>
            <a:gdLst>
              <a:gd name="textAreaLeft" fmla="*/ 0 w 7924680"/>
              <a:gd name="textAreaRight" fmla="*/ 7925040 w 7924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762120" y="2514600"/>
            <a:ext cx="7010280" cy="3733920"/>
          </a:xfrm>
          <a:custGeom>
            <a:avLst/>
            <a:gdLst>
              <a:gd name="textAreaLeft" fmla="*/ 439920 w 7010280"/>
              <a:gd name="textAreaRight" fmla="*/ 6570360 w 7010280"/>
              <a:gd name="textAreaTop" fmla="*/ 439920 h 3733920"/>
              <a:gd name="textAreaBottom" fmla="*/ 3294000 h 3733920"/>
            </a:gdLst>
            <a:ahLst/>
            <a:rect l="textAreaLeft" t="textAreaTop" r="textAreaRight" b="textAreaBottom"/>
            <a:pathLst>
              <a:path w="40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6951" y="21600"/>
                </a:lnTo>
                <a:arcTo wR="3600" hR="3600" stAng="10800000" swAng="5400000"/>
                <a:lnTo>
                  <a:pt x="40551" y="3600"/>
                </a:lnTo>
                <a:arcTo wR="3600" hR="3600" stAng="5400000" swAng="5400000"/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пробация и внед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новационной здоровьесберегаю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ики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совершенств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афо-моторных навыков учащих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развития речи в ц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44"/>
          <p:cNvPicPr/>
          <p:nvPr/>
        </p:nvPicPr>
        <p:blipFill>
          <a:blip r:embed="rId1"/>
          <a:stretch/>
        </p:blipFill>
        <p:spPr>
          <a:xfrm>
            <a:off x="7315200" y="1447920"/>
            <a:ext cx="1603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533520" y="304920"/>
            <a:ext cx="7086600" cy="60948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З а д а ч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80880" y="990720"/>
            <a:ext cx="7696440" cy="1143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вершенствование тонких дифференциров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вижений кисти руки,  активизация мелкой мо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57200" y="2286000"/>
            <a:ext cx="762012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ормализация мышечного тонуса  органов артикуля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80880" y="3505320"/>
            <a:ext cx="7696440" cy="9903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вершенствование двигатель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ртикуляционного аппара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457200" y="4572000"/>
            <a:ext cx="769608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Развитие креативных способностей учащих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ормирование позитивной коммуник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57200" y="5638680"/>
            <a:ext cx="769608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вышение работоспособ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улучшение соматическ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6"/>
          <p:cNvSpPr/>
          <p:nvPr/>
        </p:nvSpPr>
        <p:spPr>
          <a:xfrm>
            <a:off x="914400" y="304920"/>
            <a:ext cx="708660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ханизм воздействия кри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733920" y="1523880"/>
            <a:ext cx="1204920" cy="762120"/>
          </a:xfrm>
          <a:prstGeom prst="rightArrow">
            <a:avLst>
              <a:gd name="adj1" fmla="val 50000"/>
              <a:gd name="adj2" fmla="val 395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304920" y="1143000"/>
            <a:ext cx="2743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озирова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холода на нер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конч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2971800" y="5334120"/>
            <a:ext cx="2743200" cy="13716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Улучш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итание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5638680" y="3352680"/>
            <a:ext cx="2667240" cy="1676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Усиливается при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рови к мес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5638680" y="1219320"/>
            <a:ext cx="2590920" cy="1447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исход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кращение мыш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228600" y="3276720"/>
            <a:ext cx="259092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Развив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вига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 rot="5400000">
            <a:off x="6629040" y="266688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2"/>
          <p:cNvSpPr/>
          <p:nvPr/>
        </p:nvSpPr>
        <p:spPr>
          <a:xfrm rot="10800000">
            <a:off x="6324120" y="4952880"/>
            <a:ext cx="1143000" cy="990720"/>
          </a:xfrm>
          <a:custGeom>
            <a:avLst/>
            <a:gdLst>
              <a:gd name="textAreaLeft" fmla="*/ 657720 w 1143000"/>
              <a:gd name="textAreaRight" fmla="*/ 964800 w 1143000"/>
              <a:gd name="textAreaTop" fmla="*/ 133560 h 990720"/>
              <a:gd name="textAreaBottom" fmla="*/ 4240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 rot="16200000">
            <a:off x="1371600" y="4952880"/>
            <a:ext cx="1143000" cy="990360"/>
          </a:xfrm>
          <a:custGeom>
            <a:avLst/>
            <a:gdLst>
              <a:gd name="textAreaLeft" fmla="*/ 657720 w 1143000"/>
              <a:gd name="textAreaRight" fmla="*/ 964800 w 1143000"/>
              <a:gd name="textAreaTop" fmla="*/ 133560 h 990360"/>
              <a:gd name="textAreaBottom" fmla="*/ 42408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5"/>
          <p:cNvSpPr/>
          <p:nvPr/>
        </p:nvSpPr>
        <p:spPr>
          <a:xfrm>
            <a:off x="2743200" y="2286000"/>
            <a:ext cx="2971800" cy="2590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мел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артикуляцио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торик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6"/>
          <p:cNvSpPr/>
          <p:nvPr/>
        </p:nvSpPr>
        <p:spPr>
          <a:xfrm rot="855000">
            <a:off x="1752480" y="2666880"/>
            <a:ext cx="1143000" cy="990720"/>
          </a:xfrm>
          <a:custGeom>
            <a:avLst/>
            <a:gdLst>
              <a:gd name="textAreaLeft" fmla="*/ 657720 w 1143000"/>
              <a:gd name="textAreaRight" fmla="*/ 964800 w 1143000"/>
              <a:gd name="textAreaTop" fmla="*/ 133560 h 990720"/>
              <a:gd name="textAreaBottom" fmla="*/ 4240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3" descr="106"/>
          <p:cNvPicPr/>
          <p:nvPr/>
        </p:nvPicPr>
        <p:blipFill>
          <a:blip r:embed="rId1"/>
          <a:stretch/>
        </p:blipFill>
        <p:spPr>
          <a:xfrm>
            <a:off x="7238880" y="5746680"/>
            <a:ext cx="11430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/>
          <p:cNvSpPr/>
          <p:nvPr/>
        </p:nvSpPr>
        <p:spPr>
          <a:xfrm>
            <a:off x="1295280" y="304920"/>
            <a:ext cx="7086600" cy="1218960"/>
          </a:xfrm>
          <a:custGeom>
            <a:avLst/>
            <a:gdLst>
              <a:gd name="textAreaLeft" fmla="*/ 0 w 7086600"/>
              <a:gd name="textAreaRight" fmla="*/ 7086960 w 7086600"/>
              <a:gd name="textAreaTop" fmla="*/ 158040 h 1218960"/>
              <a:gd name="textAreaBottom" fmla="*/ 10609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609480" y="1676520"/>
            <a:ext cx="7925040" cy="5181480"/>
          </a:xfrm>
          <a:prstGeom prst="flowChartMultidocumen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мелкой моторики пальцев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графо-мото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ьшение дисграфических ошиб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ие словарного зап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креа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епление здоров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работ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12-06T19:28:1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