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C08-B5C7-4CBD-AEF9-456C461F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F9A-9A9F-43C9-A32A-EF944F72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BE0-20E3-449A-8905-D05953EC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F58-70D1-41B0-AE36-61443B4A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BB9DA-0776-4888-9B31-0A44B2A8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379AD-8954-464E-BE0C-7AEDAC19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55CCD-D625-47F2-900F-E6C2EE9D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D5B74-F4FD-429F-8104-66BF31C5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3437F-F08D-41FC-90CD-95F5BAAF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04C66-FD17-40B4-9F22-F6ED2A32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555A8-E375-43BF-90FE-DA159D1F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3A2-CB9B-4CC8-BA0E-E0EE267E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DBB3D-4698-4311-A665-E687D852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3E836-48BB-440C-99FC-F3900588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F1A10-893B-4DEF-96E1-2683F7A7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0C48A-6B52-428D-B7B0-BA8B1578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23DEE-06D8-4B91-9136-8CA66E78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6E6-C66D-45EE-9308-37066856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BD8-7888-4D0A-B3E5-02FD2854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938-84A0-4568-9963-1308B0D4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AB9-55D4-42B8-B97C-D47505FE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6AF-A526-4256-928F-55222916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812-5FF9-41F9-BE51-7D62A646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9FD-2BFE-4513-A2F6-D61409EC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6E94-1021-424E-950D-AC6D7953B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3F33-4A76-4F03-996A-9FA75482BC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hozna.ru/otkuda-na-planete-zemlya-vzyalas-vod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ОЕКТ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« Чудотворная вода»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7432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втор: воспитанник группы для детей старшего дошкольного возраста №5  Гамолин Леони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Руководители проекта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Рзаева О.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Наливайская М.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39640" y="18900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униципальное автономное дошкольное учреждение города Нижневартовска детский сад №88 «Одуванчи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. Этап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пыт. Какую форму принимает вод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а не имеет формы и принимает форму того сосуда, в который нали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SDC12226"/>
          <p:cNvPicPr/>
          <p:nvPr/>
        </p:nvPicPr>
        <p:blipFill>
          <a:blip r:embed="rId1"/>
          <a:stretch/>
        </p:blipFill>
        <p:spPr>
          <a:xfrm>
            <a:off x="1547640" y="3141720"/>
            <a:ext cx="4537080" cy="3403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пыт. Есть ли у воды вкус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воду в стакан из под крана налил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вет посмотрел- она очень прозрач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юхал ее и немного отпил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т вкуса, нет запаха. Все однознач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IMG_20160303_095000"/>
          <p:cNvPicPr/>
          <p:nvPr/>
        </p:nvPicPr>
        <p:blipFill>
          <a:blip r:embed="rId1"/>
          <a:stretch/>
        </p:blipFill>
        <p:spPr>
          <a:xfrm>
            <a:off x="3276720" y="3832200"/>
            <a:ext cx="1814400" cy="3025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пыт. Чем пахнет вода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а без запаха, вкуса и цв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всеми учеными признана э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любого грязнули всю грязь без сле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оет обычная наша в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SDC12227"/>
          <p:cNvPicPr/>
          <p:nvPr/>
        </p:nvPicPr>
        <p:blipFill>
          <a:blip r:embed="rId1"/>
          <a:stretch/>
        </p:blipFill>
        <p:spPr>
          <a:xfrm>
            <a:off x="2700360" y="4319640"/>
            <a:ext cx="3384360" cy="2538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чем нужна вода в растениях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зеленой во стран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асписных горшочках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росли цветочк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х польем мы спозаранку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и все мои друз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IMG_20160303_095216"/>
          <p:cNvPicPr/>
          <p:nvPr/>
        </p:nvPicPr>
        <p:blipFill>
          <a:blip r:embed="rId1"/>
          <a:stretch/>
        </p:blipFill>
        <p:spPr>
          <a:xfrm>
            <a:off x="4859280" y="4292640"/>
            <a:ext cx="3340080" cy="2003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пыт. Окрашивание вод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олдую воду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колдун прекрасный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а вода прозрачной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станет теперь крас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х, вода-водиц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 снег зимой, то ине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а вода без цвет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станешь теперь син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 травы, и листьев цвет –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т последний наш секре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у сильно потрясё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зеленой назовё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SDC12229"/>
          <p:cNvPicPr/>
          <p:nvPr/>
        </p:nvPicPr>
        <p:blipFill>
          <a:blip r:embed="rId1"/>
          <a:stretch/>
        </p:blipFill>
        <p:spPr>
          <a:xfrm>
            <a:off x="5111640" y="2565360"/>
            <a:ext cx="4032360" cy="3024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пыт. Вода смачивает и очищает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а проникает в волокна ткани и смачивает 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SDC12232"/>
          <p:cNvPicPr/>
          <p:nvPr/>
        </p:nvPicPr>
        <p:blipFill>
          <a:blip r:embed="rId1"/>
          <a:stretch/>
        </p:blipFill>
        <p:spPr>
          <a:xfrm>
            <a:off x="3132000" y="3068640"/>
            <a:ext cx="4464360" cy="3348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пыт. Испарение вод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нце дарит нам теп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нце нагрев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нышко горяче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ю освещае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еще огонь горяч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горячая пли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еют-греют, нагреваю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о нам несут тепл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bezimeni-5"/>
          <p:cNvPicPr/>
          <p:nvPr/>
        </p:nvPicPr>
        <p:blipFill>
          <a:blip r:embed="rId1"/>
          <a:stretch/>
        </p:blipFill>
        <p:spPr>
          <a:xfrm>
            <a:off x="5292720" y="2637000"/>
            <a:ext cx="3276720" cy="2185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пыт. Заморажива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том все в воде играют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ро к нам тепло прид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том вся вода журчит!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в реке растает ле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зимою застыв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зимой вода молчит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д растает, и тог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у-ка, кто меня поймет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дет из него в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а превращается в ле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IMG_20141009_101737"/>
          <p:cNvPicPr/>
          <p:nvPr/>
        </p:nvPicPr>
        <p:blipFill>
          <a:blip r:embed="rId1"/>
          <a:stretch/>
        </p:blipFill>
        <p:spPr>
          <a:xfrm>
            <a:off x="5803920" y="4854600"/>
            <a:ext cx="3340080" cy="2003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пыт. Нагревание вод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т смотрите 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сильный- сильный жа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д растает, и тогда                                   Из водички будет пар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дет из него вод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водичку нагревае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ар водичку превраща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1363353921_2"/>
          <p:cNvPicPr/>
          <p:nvPr/>
        </p:nvPicPr>
        <p:blipFill>
          <a:blip r:embed="rId1"/>
          <a:stretch/>
        </p:blipFill>
        <p:spPr>
          <a:xfrm>
            <a:off x="5435640" y="2924280"/>
            <a:ext cx="3492360" cy="19652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пыт. « Плавает – тонет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SDC12233"/>
          <p:cNvPicPr/>
          <p:nvPr/>
        </p:nvPicPr>
        <p:blipFill>
          <a:blip r:embed="rId1"/>
          <a:stretch/>
        </p:blipFill>
        <p:spPr>
          <a:xfrm>
            <a:off x="1476360" y="4437000"/>
            <a:ext cx="2556000" cy="2079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5" name="Picture 5" descr="SDC12234"/>
          <p:cNvPicPr/>
          <p:nvPr/>
        </p:nvPicPr>
        <p:blipFill>
          <a:blip r:embed="rId2"/>
          <a:stretch/>
        </p:blipFill>
        <p:spPr>
          <a:xfrm>
            <a:off x="5292720" y="3429000"/>
            <a:ext cx="2320920" cy="3094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6" name="Rectangle 6"/>
          <p:cNvSpPr/>
          <p:nvPr/>
        </p:nvSpPr>
        <p:spPr>
          <a:xfrm>
            <a:off x="684360" y="1432080"/>
            <a:ext cx="54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ша Таня громко плач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ронила в речку мяч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ише, Танечка, не плач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утонет, в речке мяч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8013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ид проек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познавате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ип проек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краткосроч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ъект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ода в нашей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становка проблемы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Жизнь на земле без воды невозможна. Сможем ли мы прожить без воды? Кому нужна вода? Где мы встречаем воду в природе? В каком состоянии бывает вода? Нужно ли беречь воду и почему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умыться, не напиться без вод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ику не распуститься без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 воды прожить не могут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тица, зверь и человек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поэтому всегд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м везде нужна в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книг я узнал, что вода в нашей жизни присутствует в виде осадков. Зимой, когда вода замерзает, идёт снег, летом, когда тепло идет дождь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60100"/>
          <p:cNvPicPr/>
          <p:nvPr/>
        </p:nvPicPr>
        <p:blipFill>
          <a:blip r:embed="rId1"/>
          <a:stretch/>
        </p:blipFill>
        <p:spPr>
          <a:xfrm>
            <a:off x="179280" y="1557360"/>
            <a:ext cx="4211640" cy="2835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7948"/>
          <p:cNvPicPr/>
          <p:nvPr/>
        </p:nvPicPr>
        <p:blipFill>
          <a:blip r:embed="rId2"/>
          <a:stretch/>
        </p:blipFill>
        <p:spPr>
          <a:xfrm>
            <a:off x="4896000" y="1700280"/>
            <a:ext cx="4248000" cy="2836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0" name="Picture 8" descr="IMG_20141009_102624"/>
          <p:cNvPicPr/>
          <p:nvPr/>
        </p:nvPicPr>
        <p:blipFill>
          <a:blip r:embed="rId3"/>
          <a:stretch/>
        </p:blipFill>
        <p:spPr>
          <a:xfrm>
            <a:off x="900000" y="4653000"/>
            <a:ext cx="3340080" cy="2003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1" name="Picture 9" descr="IMG_20151001_112029"/>
          <p:cNvPicPr/>
          <p:nvPr/>
        </p:nvPicPr>
        <p:blipFill>
          <a:blip r:embed="rId4"/>
          <a:stretch/>
        </p:blipFill>
        <p:spPr>
          <a:xfrm>
            <a:off x="4572000" y="4653000"/>
            <a:ext cx="3340080" cy="2003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руговорот воды в природ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3745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нышко нагревает поверхность Земл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а океанов и морей превращается в пар. Лёгкий пар поднимается вверх и образует обла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тер переносит облака по небу и они, проплывая над сушей, образуют тучи, из которых льет дож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авшие на землю дождевые капли стекают с гор и холмов, объединяются в ручьи и реки. Реки текут в моря и океа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круговорот начинается снов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002"/>
          <p:cNvPicPr/>
          <p:nvPr/>
        </p:nvPicPr>
        <p:blipFill>
          <a:blip r:embed="rId1"/>
          <a:stretch/>
        </p:blipFill>
        <p:spPr>
          <a:xfrm>
            <a:off x="4572000" y="1197000"/>
            <a:ext cx="4151160" cy="5327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войства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voda_led_par"/>
          <p:cNvPicPr/>
          <p:nvPr/>
        </p:nvPicPr>
        <p:blipFill>
          <a:blip r:embed="rId1"/>
          <a:stretch/>
        </p:blipFill>
        <p:spPr>
          <a:xfrm>
            <a:off x="611280" y="4076640"/>
            <a:ext cx="8172360" cy="2781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31080" cy="2881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ывается  вода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это веществ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веще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может быть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им: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ироде вода может находиться в трех состояниях: газообразном, жидком или тверд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ака, снег и дождь представляют собой различные состояния воды, а дождь- это всего лишь жидкая во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, находящаяся в газообразном состоянии, называется водяным пар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д – твердая фаза воды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2340000" y="2349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016600" y="2279520"/>
            <a:ext cx="4340160" cy="3767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6858000" y="1255680"/>
            <a:ext cx="2266920" cy="2116080"/>
          </a:xfrm>
          <a:prstGeom prst="rect">
            <a:avLst/>
          </a:prstGeom>
          <a:ln w="0">
            <a:noFill/>
          </a:ln>
        </p:spPr>
      </p:pic>
      <p:pic>
        <p:nvPicPr>
          <p:cNvPr id="151" name="Detskie-pesni-Pesnya-Funtika---Pesenka-o-dobrote-i-druzhbe(muzofon.com).wav" descr=""/>
          <p:cNvPicPr/>
          <p:nvPr/>
        </p:nvPicPr>
        <p:blipFill>
          <a:blip r:embed="rId3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9"/>
          <p:cNvSpPr/>
          <p:nvPr/>
        </p:nvSpPr>
        <p:spPr>
          <a:xfrm>
            <a:off x="179280" y="1413000"/>
            <a:ext cx="84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ет воды, там нет и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сли комнатное растение совсем 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вать, оно засохнет. Трава,   деревь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 не могут жить без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 человек без воды тоже погиба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нужна человеку не только д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ья и приготовления пищи. Вод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моемся, в ней стираем бельё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м чистоту в жилищах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х зданиях, на улиц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 воде человек передвигается на лодках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ходах, перевозит продукты и машины, сплавляет ле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да приводит в движение машины, вырабатывающие электрический ток. Она нужна заводам и железным дорога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-181080" y="0"/>
            <a:ext cx="9325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этап  Результаты исследован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       Если бы исчезла вода?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а – одно из главных богатств на Земле. Трудно представить, что стало бы с нашей планетой, если бы исчезла пресная вода. От загрязненной воды страдает все живое, она вредна для жизни человека. Поэтому воду – наше главное богатство, надо беречь! Мы решили узнать, как можно беречь воду, и научиться бережно её расходов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узнали о значении воды в природе, какой  бывает  вода, научились самостоятельно проводить лабораторные опыты с водой, определяя её качества и свой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-181080" y="0"/>
            <a:ext cx="9325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онечный результа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6" descr=""/>
          <p:cNvPicPr/>
          <p:nvPr/>
        </p:nvPicPr>
        <p:blipFill>
          <a:blip r:embed="rId1"/>
          <a:stretch/>
        </p:blipFill>
        <p:spPr>
          <a:xfrm>
            <a:off x="433440" y="549360"/>
            <a:ext cx="8319960" cy="135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6836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Без воды не проживешь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уп в тарелку не нальешь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в лужу сапогом не топнешь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и в сугроб не упадешь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ода - это жизнь». Берегите воду!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WordArt 1"/>
          <p:cNvSpPr txBox="1"/>
          <p:nvPr/>
        </p:nvSpPr>
        <p:spPr>
          <a:xfrm>
            <a:off x="1643040" y="214200"/>
            <a:ext cx="59292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Picture 3" descr="Анимашки Бабочки"/>
          <p:cNvPicPr/>
          <p:nvPr/>
        </p:nvPicPr>
        <p:blipFill>
          <a:blip r:embed="rId2"/>
          <a:stretch/>
        </p:blipFill>
        <p:spPr>
          <a:xfrm rot="738000">
            <a:off x="5580000" y="4836600"/>
            <a:ext cx="2600280" cy="2021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60" name="Picture 5" descr="C:\Анимации\tz3.gif"/>
          <p:cNvPicPr/>
          <p:nvPr/>
        </p:nvPicPr>
        <p:blipFill>
          <a:blip r:embed="rId3"/>
          <a:stretch/>
        </p:blipFill>
        <p:spPr>
          <a:xfrm rot="20543400">
            <a:off x="684000" y="4869000"/>
            <a:ext cx="2311200" cy="1733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исок используемых ресурсо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Боровский Е.Э. «Вода на Земле». М.: «Инфра-М», 2009 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Маркин В.А. «Я познаю мир. Детская энциклопедия». Москва: «Издательский центр АСТ», 2001 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«Обо всём на свете», Большая детская энциклопедия. М.: «Астрель», 2007 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Интернет ресурс: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ttp://hozna.ru/otkuda-na-planete-zemlya-vzyalas-v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, задачи 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источники воды, свойства воды, понять её важность и назначение в окружающем мир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и проек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.Выявить основные свойства во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.Провести опыты и исследования направленны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изу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ы в окружающем мир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Найти материал, книги о в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Оформить полученные зн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етоды исследовани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кскурсии с родителями (реки, озёр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беседы с воспитателями и родителя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амостоятельные наблюдения и обдумы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иск информации в книгах и Интернете с родителя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оведение с воспитателями занятий-опытов по изучению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Этапы реализации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Ι. Подготовительный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ор литературы по теме, матери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ΙΙ. Реализация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проблемы, цели, задач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ΙΙΙ. Практический (реализация проект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ΙV. Заключительный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щита прое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252360" y="259920"/>
            <a:ext cx="96487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15920" indent="-1015920">
              <a:buClr>
                <a:srgbClr val="ffffff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Подготовительный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то знает, откуда берется вода?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знает, откуда берется во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ть может, из снега? Быть может, из ль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может, с подземных ключей она бь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всем она жизнь и цветенье да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б нам о воде все-при все разузн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ало учебников нужно чи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 же различных журналов и книг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б все ее тайны открылись нам в ми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Беседа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Путешествие в страну комнатных растений»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а – это чудо природ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нам без воды не прожи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а – достоянье народ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ой мы должны дорожить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6335640" cy="496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5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является важнейшим источником жизни на земле и здоровья каждого из нас. Регулярное употребление необходимого нашему организму количества воды является залогом нашего отличного самочувствия и долголе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– это символ плодородия, чистоты и мудрости. Недаром считается, что вода может творить чудеса, давать жизнь, хлеб, здоровье и радость каждому из н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Содержимое 4" descr="iCAHMXA1X.jpg"/>
          <p:cNvPicPr/>
          <p:nvPr/>
        </p:nvPicPr>
        <p:blipFill>
          <a:blip r:embed="rId1"/>
          <a:stretch/>
        </p:blipFill>
        <p:spPr>
          <a:xfrm>
            <a:off x="6877080" y="4005360"/>
            <a:ext cx="2089080" cy="2581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0" name="Picture 2" descr="C:\Users\Лена\Desktop\рамки\5f78047a5be9.jpg"/>
          <p:cNvPicPr/>
          <p:nvPr/>
        </p:nvPicPr>
        <p:blipFill>
          <a:blip r:embed="rId2"/>
          <a:stretch/>
        </p:blipFill>
        <p:spPr>
          <a:xfrm>
            <a:off x="6669000" y="1706400"/>
            <a:ext cx="2505240" cy="2365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468360" y="260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Чем полезна вода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0920" y="1844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д лежачий камень вода не теч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е зная броду, не суйся в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Без труда не выловишь и рыбку из пру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Лучше хлеб с водой, чем пирог 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д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2" descr="C:\Анимации\detia-711.gif"/>
          <p:cNvPicPr/>
          <p:nvPr/>
        </p:nvPicPr>
        <p:blipFill>
          <a:blip r:embed="rId1"/>
          <a:stretch/>
        </p:blipFill>
        <p:spPr>
          <a:xfrm>
            <a:off x="7236000" y="2492280"/>
            <a:ext cx="1738080" cy="1760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4" name="Picture 3" descr="C:\Анимации\babochkia-503.gif"/>
          <p:cNvPicPr/>
          <p:nvPr/>
        </p:nvPicPr>
        <p:blipFill>
          <a:blip r:embed="rId2"/>
          <a:stretch/>
        </p:blipFill>
        <p:spPr>
          <a:xfrm>
            <a:off x="6443640" y="4797360"/>
            <a:ext cx="2521080" cy="1776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5" name="Rectangle 6"/>
          <p:cNvSpPr/>
          <p:nvPr/>
        </p:nvSpPr>
        <p:spPr>
          <a:xfrm>
            <a:off x="457200" y="260280"/>
            <a:ext cx="8686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«Пословицы и поговорки о воде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8T13:19:16Z</dcterms:created>
  <dc:creator>HP</dc:creator>
  <dc:description/>
  <dc:language>en-US</dc:language>
  <cp:lastModifiedBy>Артём Рзаев</cp:lastModifiedBy>
  <dcterms:modified xsi:type="dcterms:W3CDTF">2018-01-05T12:21:20Z</dcterms:modified>
  <cp:revision>11</cp:revision>
  <dc:subject/>
  <dc:title>ПРОЕКТ « Волшебная вода» </dc:title>
</cp:coreProperties>
</file>