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CB8-C91D-4F49-90D1-FB74B590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E10-8CCE-4434-A064-FAD578FB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F9C-BDD5-49A5-BF1E-26191407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D8B-BB57-4103-9558-5F022105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A9E6-4EB9-4076-918D-71606246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54DD-9067-4358-9AC4-9CA2B76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5EA1-FE9A-425F-B878-2CF78E86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7469-825A-4F08-BC94-DD7B1EC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2964-C731-416C-813B-44420B3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932A-6265-4A8E-8375-A6F6234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4833-4523-42C2-B2EA-859F5895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55B-8D25-47B3-9D4E-D56BDF8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6D59-B7E4-4C47-B9C8-7EA921FE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0D9A-DAAE-4426-8257-80C88658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9207-DC97-4DD6-B54E-E581D964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B972-90C9-4BAC-86C0-A0F34463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D741-EA7B-42D1-82AF-C6002869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FEE-8382-475D-B1FE-88342A77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F4A-ECAD-4FA4-9261-C7497492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113-3BAC-41BB-973C-B7EAACED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5EA-ED1E-4C98-A577-36A8E16D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03D-3781-4D21-8971-6341CB13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798-A2F1-46E7-8D84-98AA78C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C73-EAE0-46E6-92F0-9E17536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8CCA-850D-4850-85C2-DC9DDAE515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0EF-39CB-4536-A56A-8AFD92402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ведение итогов .Подготовка к сочинению по комедии Н.В.гоголя « Ревизо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563640" y="1412640"/>
            <a:ext cx="532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сскажите о «миражной интриг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Записать на доске «говорящие»фамилии чиновников, объяснить(1 уч-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Докажите, что интересы многих персонажей направлены к Хлестако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6" descr="гоголь11.jpg"/>
          <p:cNvPicPr/>
          <p:nvPr/>
        </p:nvPicPr>
        <p:blipFill>
          <a:blip r:embed="rId1"/>
          <a:stretch/>
        </p:blipFill>
        <p:spPr>
          <a:xfrm>
            <a:off x="0" y="1484280"/>
            <a:ext cx="3203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денег получил Хлестаков от чиновни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что он хочет их потрат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м в письме говорит Хлестаков «глуп, как сивый мери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из чиновников назван «Свиньёй в ермолк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лет прослужил городнич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времени, по указанию Гоголя, длится немая сце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3" descr="lit08-08.jpg"/>
          <p:cNvPicPr/>
          <p:nvPr/>
        </p:nvPicPr>
        <p:blipFill>
          <a:blip r:embed="rId7"/>
          <a:stretch/>
        </p:blipFill>
        <p:spPr>
          <a:xfrm>
            <a:off x="539640" y="1125360"/>
            <a:ext cx="2783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машнее задание: написать сочинение( на одну из тем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Что произойдёт в городе после приезда настоящего ревиз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О чём мечтают герои комедии «Ревизор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Характеристика одного из героев коме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Рисунок 6" descr="lit08-17.jpg"/>
          <p:cNvPicPr/>
          <p:nvPr/>
        </p:nvPicPr>
        <p:blipFill>
          <a:blip r:embed="rId1"/>
          <a:stretch/>
        </p:blipFill>
        <p:spPr>
          <a:xfrm>
            <a:off x="179280" y="1268280"/>
            <a:ext cx="331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характеристики геро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сто героя в произвед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ественное, семейное, материаль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шность, манеры 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е цели. Интере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го отношение к другим геро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ношение к н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общенный смысл образа, его актуа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то  эт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7" descr="lit08-09.jpg"/>
          <p:cNvPicPr/>
          <p:nvPr/>
        </p:nvPicPr>
        <p:blipFill>
          <a:blip r:embed="rId1"/>
          <a:stretch/>
        </p:blipFill>
        <p:spPr>
          <a:xfrm>
            <a:off x="250920" y="0"/>
            <a:ext cx="2371680" cy="3809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" descr="земляникуа.jpg"/>
          <p:cNvPicPr/>
          <p:nvPr/>
        </p:nvPicPr>
        <p:blipFill>
          <a:blip r:embed="rId2"/>
          <a:stretch/>
        </p:blipFill>
        <p:spPr>
          <a:xfrm>
            <a:off x="6659640" y="260280"/>
            <a:ext cx="2006640" cy="4348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ляпкин-тяпкин.jpg"/>
          <p:cNvPicPr/>
          <p:nvPr/>
        </p:nvPicPr>
        <p:blipFill>
          <a:blip r:embed="rId3"/>
          <a:stretch/>
        </p:blipFill>
        <p:spPr>
          <a:xfrm>
            <a:off x="2411280" y="2276640"/>
            <a:ext cx="1971720" cy="43891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3" descr="gogol-heroes_4.jpg"/>
          <p:cNvPicPr/>
          <p:nvPr/>
        </p:nvPicPr>
        <p:blipFill>
          <a:blip r:embed="rId4"/>
          <a:stretch/>
        </p:blipFill>
        <p:spPr>
          <a:xfrm>
            <a:off x="4284720" y="1052640"/>
            <a:ext cx="2357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заглавьте сце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lit08-13.jpg"/>
          <p:cNvPicPr/>
          <p:nvPr/>
        </p:nvPicPr>
        <p:blipFill>
          <a:blip r:embed="rId1"/>
          <a:stretch/>
        </p:blipFill>
        <p:spPr>
          <a:xfrm>
            <a:off x="395280" y="1125360"/>
            <a:ext cx="2705040" cy="3810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конст 1950 осип.jpg"/>
          <p:cNvPicPr/>
          <p:nvPr/>
        </p:nvPicPr>
        <p:blipFill>
          <a:blip r:embed="rId2"/>
          <a:stretch/>
        </p:blipFill>
        <p:spPr>
          <a:xfrm>
            <a:off x="5715000" y="1125360"/>
            <a:ext cx="3429000" cy="40323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lit08-17.jpg"/>
          <p:cNvPicPr/>
          <p:nvPr/>
        </p:nvPicPr>
        <p:blipFill>
          <a:blip r:embed="rId3"/>
          <a:stretch/>
        </p:blipFill>
        <p:spPr>
          <a:xfrm>
            <a:off x="1619280" y="4378320"/>
            <a:ext cx="63403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заглавьте сце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7" descr="ю коровин 1951 хлест.jpg"/>
          <p:cNvPicPr/>
          <p:nvPr/>
        </p:nvPicPr>
        <p:blipFill>
          <a:blip r:embed="rId1"/>
          <a:stretch/>
        </p:blipFill>
        <p:spPr>
          <a:xfrm>
            <a:off x="468360" y="1557360"/>
            <a:ext cx="414972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lit08-16.jpg"/>
          <p:cNvPicPr/>
          <p:nvPr/>
        </p:nvPicPr>
        <p:blipFill>
          <a:blip r:embed="rId2"/>
          <a:stretch/>
        </p:blipFill>
        <p:spPr>
          <a:xfrm>
            <a:off x="4788000" y="1628640"/>
            <a:ext cx="41972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заглавьте сце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Рисунок 8" descr="lit08-15.jpg"/>
          <p:cNvPicPr/>
          <p:nvPr/>
        </p:nvPicPr>
        <p:blipFill>
          <a:blip r:embed="rId1"/>
          <a:stretch/>
        </p:blipFill>
        <p:spPr>
          <a:xfrm>
            <a:off x="250920" y="0"/>
            <a:ext cx="2819160" cy="38098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lit08-14.jpg"/>
          <p:cNvPicPr/>
          <p:nvPr/>
        </p:nvPicPr>
        <p:blipFill>
          <a:blip r:embed="rId2"/>
          <a:stretch/>
        </p:blipFill>
        <p:spPr>
          <a:xfrm>
            <a:off x="4643280" y="0"/>
            <a:ext cx="4071960" cy="40543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ю коровин 1951.jpg"/>
          <p:cNvPicPr/>
          <p:nvPr/>
        </p:nvPicPr>
        <p:blipFill>
          <a:blip r:embed="rId3"/>
          <a:stretch/>
        </p:blipFill>
        <p:spPr>
          <a:xfrm>
            <a:off x="2340000" y="3213000"/>
            <a:ext cx="36720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собенности компози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яз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фли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льми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яз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ая сц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5" descr="lit08-13.jpg"/>
          <p:cNvPicPr/>
          <p:nvPr/>
        </p:nvPicPr>
        <p:blipFill>
          <a:blip r:embed="rId1"/>
          <a:stretch/>
        </p:blipFill>
        <p:spPr>
          <a:xfrm>
            <a:off x="3419640" y="1751040"/>
            <a:ext cx="5256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едства выразительности в комед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отеск-преувеличение, резко нарушающее реальные черты, оказывающееся сродни фантастическ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пербола- чрезмерное преувеличение свойств изображаемого предм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огизм-нарушение в речи логических связей с целью комического эф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2" descr="lit08-18.jpg"/>
          <p:cNvPicPr/>
          <p:nvPr/>
        </p:nvPicPr>
        <p:blipFill>
          <a:blip r:embed="rId4"/>
          <a:stretch/>
        </p:blipFill>
        <p:spPr>
          <a:xfrm>
            <a:off x="539640" y="1557360"/>
            <a:ext cx="23050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мех- единственный положительный герой «Ревизор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0595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: гоголь преподал «разом целой толпе живой урок», осмеял темные стороны российской действи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роизвол вла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взяточ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евеж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азнокрад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хам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3" descr="gogol-heroes_4.jpg"/>
          <p:cNvPicPr/>
          <p:nvPr/>
        </p:nvPicPr>
        <p:blipFill>
          <a:blip r:embed="rId2"/>
          <a:stretch/>
        </p:blipFill>
        <p:spPr>
          <a:xfrm>
            <a:off x="214200" y="1413000"/>
            <a:ext cx="2357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80000" y="981000"/>
            <a:ext cx="4906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аком году состоялась премьера комед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из героев брал взятки борзыми щенк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аком городе Хлестаков прокутил последние день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акой губернии находилась деревня Хлестак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чите фразу «..если Бог хочет наказать, так отнимет прежд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6" descr="к савицкий 1901-1902 городнич и полиция.jpg"/>
          <p:cNvPicPr/>
          <p:nvPr/>
        </p:nvPicPr>
        <p:blipFill>
          <a:blip r:embed="rId6"/>
          <a:stretch/>
        </p:blipFill>
        <p:spPr>
          <a:xfrm>
            <a:off x="250920" y="1413000"/>
            <a:ext cx="35352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47:12Z</dcterms:created>
  <dc:creator>Admin</dc:creator>
  <dc:description/>
  <dc:language>en-US</dc:language>
  <cp:lastModifiedBy>1</cp:lastModifiedBy>
  <dcterms:modified xsi:type="dcterms:W3CDTF">2015-12-13T02:47:48Z</dcterms:modified>
  <cp:revision>4</cp:revision>
  <dc:subject/>
  <dc:title>Подведение итогов .Подготовка к сочинению по комедии Н.В.гоголя « Ревизор»</dc:title>
</cp:coreProperties>
</file>