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5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4.png" ContentType="image/png"/>
  <Override PartName="/ppt/media/image1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D0A-58BD-4630-BE37-80751719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E90-73DA-4CC4-A7D2-679254BA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850C-BDB6-4D5E-99D4-0565304F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487-67F0-4FE2-A3F0-A869158A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3EF5-97EE-4B07-819E-BA7698C0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30C1-D16B-423A-B111-028B9E06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69DF-88F4-4735-8C0F-F97296CF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4A7E-4B48-4694-84BD-75D4419E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A503-E311-416A-89DA-58F11368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FD6F-4805-413D-B06E-68FF9214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6F50-9B60-4EED-9D68-4B07F76C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4A5-3342-47E4-92B0-6DEFC419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3F2F-2A9C-48BD-B39E-8001E514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B34C-961D-4C99-BFC6-278995BF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9C3C-27F3-4575-826B-FDAF3906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9FFF-DACA-4461-8DC3-13EC3E6D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074F-4EF8-4FC0-8B21-6A9DA74C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79E67-0B3E-4D53-A83E-6213744B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3D102-FD71-4202-A888-1FAC44C4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F595E-68F4-455A-BC19-B6A413F3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CEBAA-6E83-4B36-84D7-83DCF98B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10C89-9583-4293-BA04-9191FB98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3F0-B5E6-4E71-89DC-00EFCC79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2F430-3CE9-423C-9C68-7A17F4C6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BFAB7-E145-4EA4-8B26-41A8A113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4D673-28F6-49C1-946A-F48F7890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C9AC8-81C3-4CFB-9D86-590FBDBF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8BB00-6A39-496D-8A90-78CD5784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CC30-564E-410A-9391-900FEC2D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196AD-8B4B-4105-A0CF-2DB641FB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07B52-E49F-40F6-8E8A-188E68C9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2E137-4CE1-4192-A46F-C9440618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D924F-9F5D-41D9-9E47-BEA4844D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D3A6-71D9-4000-AF95-A6E1C2F9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7D7EF-F2DC-488F-BC63-67677A05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F9996-8F9F-4027-94D2-2E293474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BDF3D-BF59-4D84-BCF2-047357CA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B2276-F971-47EE-86DA-AD9D6201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58D54-9ECE-47E5-BBF6-E166F05A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539EE-A860-40FD-873B-542ADF48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C493B-5B32-4B18-B21D-C759036F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1D48F-8B00-42CE-B953-3DE27135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024E3-14F7-457D-B59C-D82431F3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C4983-8082-43D2-8D07-B305BA77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C02C-361F-4228-AEF6-FBCA43E7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18134-C5A2-4EDD-8882-160EFF6A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C97EF-D9AC-4F12-A121-7A069249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07525-66A2-49F5-A42E-C3E72391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4F67F-93C4-4434-BB0C-FFA68B0D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2E4C0-0609-43E3-B71A-7C0C9A48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30CC3-F60A-487F-8198-5FCE795D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5592D-CA3A-4A5E-B85D-6AA8D2CE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5B10E-9B86-484F-9E32-703E84C9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0B505-C7E7-4B9D-AE63-71F2F2B2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F4F4C-1691-460D-8621-F6EE72E5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F26F-D5AF-4F2D-B917-5F27294F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390FE-10EB-45DD-9773-690F4AA6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46A4E-F8EE-44FA-81AB-7EF10E7D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FD5F4-1DC6-4CED-A366-DA3B0B91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2A569-4B41-46F6-959F-A11F2FF2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133A6-6E2F-4041-B18A-FD8AFE90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E7D46-0EA8-4B82-A44D-F8432517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63C2D-D450-4762-A12B-1F8D8DCB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DBA81-3B24-43A7-9635-5F429354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B8C4B-7FE2-491D-A01C-BC97599B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4280E-34D5-46EB-B02D-E7DDF96C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AE94-40F0-4BF0-81CD-7B8D68F9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1722B-C4B3-47B5-BCCF-1F2D68D0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B4F74-B62A-4426-8933-198FFC57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2346B-B99C-4C0A-B029-C6D5B3DF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5C856-9249-4B98-992D-9B4ED57A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E78F6-33ED-4C62-A81D-42213B6A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A7BD3-4F75-4207-A5F8-0970E30A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21140-F2A6-406A-A07D-FF1F683D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EA9C4-E5DF-406C-B999-BBE4FA26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53095-F3A0-49F1-99D7-3D9F6691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16FAC-D25B-4719-91BF-531E834B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4331-40C5-4BC5-8948-60A65108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3FB8E-568B-4C97-A0F8-3BA84FC1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3CE54-86F0-4588-BD81-E5AB83F2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B2E12-9947-4EBF-8D4A-862672A9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C9353-DB38-4D55-894E-2853B11C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122DC-C429-48B2-A5F5-6CB30165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82ECF-B6D1-4B8A-BD65-3786B22E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DEC71-E35F-43D8-9455-26410733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81EB1-79CB-4960-B88E-3AF79D3B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1E9DC-E6DE-4DD6-B9D2-978FCF37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C3BFB-CEA1-4FF3-8BDF-A898537E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74C-D9B5-4FDF-A080-7CE52C3A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77731-809C-41B9-A0EF-8D05C89F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E2A2A-5271-4BFF-9395-66964805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1EFD2-FCE9-4B21-B89F-C4F05782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B2B51-1227-4A08-9FAE-26559314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2C782-A7B9-45E7-ABF1-1E3CA1BF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018EB-0D75-4683-A612-E5706C20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60098-A9EE-42DC-875C-8C140E67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2ED3-737E-4A7C-9825-DAA1FC16F9E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3C30-E888-4A4C-B08A-C923F15A03D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2077-4EC3-4017-85C3-F605766E06A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2BFE-B22A-4652-A418-66025ACABD5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673B-D5D5-4CE6-A458-9BC59F6418B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3EF6-B7E3-4A48-92C5-D64FCA6DED2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8169-77A6-4192-8DDD-8DEDFA7EFFC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5D7A-6C7E-4992-A5FE-A25D586DBDF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8.xml"/><Relationship Id="rId8" Type="http://schemas.openxmlformats.org/officeDocument/2006/relationships/slide" Target="slide6.xml"/><Relationship Id="rId9" Type="http://schemas.openxmlformats.org/officeDocument/2006/relationships/slide" Target="slide8.xml"/><Relationship Id="rId10" Type="http://schemas.openxmlformats.org/officeDocument/2006/relationships/slide" Target="slide3.xml"/><Relationship Id="rId11" Type="http://schemas.openxmlformats.org/officeDocument/2006/relationships/slide" Target="slide5.xml"/><Relationship Id="rId12" Type="http://schemas.openxmlformats.org/officeDocument/2006/relationships/slide" Target="slide7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171360" y="1749600"/>
            <a:ext cx="865512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3">
            <a:hlinkClick r:id="rId1" action="ppaction://hlinksldjump"/>
          </p:cNvPr>
          <p:cNvSpPr/>
          <p:nvPr/>
        </p:nvSpPr>
        <p:spPr>
          <a:xfrm>
            <a:off x="1116000" y="260280"/>
            <a:ext cx="1511280" cy="14400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 Unicode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4">
            <a:hlinkClick r:id="rId2" action="ppaction://hlinksldjump"/>
          </p:cNvPr>
          <p:cNvSpPr/>
          <p:nvPr/>
        </p:nvSpPr>
        <p:spPr>
          <a:xfrm>
            <a:off x="2916360" y="404640"/>
            <a:ext cx="1511280" cy="14400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 Unicode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>
            <a:hlinkClick r:id="rId3" action="ppaction://hlinksldjump"/>
          </p:cNvPr>
          <p:cNvSpPr/>
          <p:nvPr/>
        </p:nvSpPr>
        <p:spPr>
          <a:xfrm>
            <a:off x="4716360" y="404640"/>
            <a:ext cx="1511280" cy="14400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 Unicode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6">
            <a:hlinkClick r:id="rId4" action="ppaction://hlinksldjump"/>
          </p:cNvPr>
          <p:cNvSpPr/>
          <p:nvPr/>
        </p:nvSpPr>
        <p:spPr>
          <a:xfrm>
            <a:off x="6516720" y="260280"/>
            <a:ext cx="1511280" cy="14400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 Unicode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7">
            <a:hlinkClick r:id="rId5" action="ppaction://hlinksldjump"/>
          </p:cNvPr>
          <p:cNvSpPr/>
          <p:nvPr/>
        </p:nvSpPr>
        <p:spPr>
          <a:xfrm>
            <a:off x="1116000" y="3645000"/>
            <a:ext cx="1511280" cy="14396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 Unicode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8">
            <a:hlinkClick r:id="rId6" action="ppaction://hlinksldjump"/>
          </p:cNvPr>
          <p:cNvSpPr/>
          <p:nvPr/>
        </p:nvSpPr>
        <p:spPr>
          <a:xfrm>
            <a:off x="2916360" y="4005360"/>
            <a:ext cx="1511280" cy="14396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 Unicode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9">
            <a:hlinkClick r:id="rId7" action="ppaction://hlinksldjump"/>
          </p:cNvPr>
          <p:cNvSpPr/>
          <p:nvPr/>
        </p:nvSpPr>
        <p:spPr>
          <a:xfrm>
            <a:off x="4716360" y="4005360"/>
            <a:ext cx="1511280" cy="14396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 Unicode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0">
            <a:hlinkClick r:id="rId8" action="ppaction://hlinksldjump"/>
          </p:cNvPr>
          <p:cNvSpPr/>
          <p:nvPr/>
        </p:nvSpPr>
        <p:spPr>
          <a:xfrm>
            <a:off x="6516720" y="1989000"/>
            <a:ext cx="1511280" cy="14400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 Unicode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11">
            <a:hlinkClick r:id="rId9" action="ppaction://hlinksldjump"/>
          </p:cNvPr>
          <p:cNvSpPr/>
          <p:nvPr/>
        </p:nvSpPr>
        <p:spPr>
          <a:xfrm>
            <a:off x="1116000" y="1989000"/>
            <a:ext cx="1511280" cy="14400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 Unicode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12">
            <a:hlinkClick r:id="rId10" action="ppaction://hlinksldjump"/>
          </p:cNvPr>
          <p:cNvSpPr/>
          <p:nvPr/>
        </p:nvSpPr>
        <p:spPr>
          <a:xfrm>
            <a:off x="2916360" y="2205000"/>
            <a:ext cx="1511280" cy="14400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 Unicode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13">
            <a:hlinkClick r:id="rId11" action="ppaction://hlinksldjump"/>
          </p:cNvPr>
          <p:cNvSpPr/>
          <p:nvPr/>
        </p:nvSpPr>
        <p:spPr>
          <a:xfrm>
            <a:off x="4716360" y="2205000"/>
            <a:ext cx="1511280" cy="14400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 Unicode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14">
            <a:hlinkClick r:id="rId12" action="ppaction://hlinksldjump"/>
          </p:cNvPr>
          <p:cNvSpPr/>
          <p:nvPr/>
        </p:nvSpPr>
        <p:spPr>
          <a:xfrm>
            <a:off x="6516720" y="3645000"/>
            <a:ext cx="1511280" cy="14396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 Unicode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5"/>
          <p:cNvSpPr/>
          <p:nvPr/>
        </p:nvSpPr>
        <p:spPr>
          <a:xfrm>
            <a:off x="1116000" y="5300640"/>
            <a:ext cx="1511280" cy="14400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 Unicode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6"/>
          <p:cNvSpPr/>
          <p:nvPr/>
        </p:nvSpPr>
        <p:spPr>
          <a:xfrm>
            <a:off x="6516720" y="5300640"/>
            <a:ext cx="1511280" cy="14400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 Unicode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8508960" cy="920880"/>
          </a:xfrm>
          <a:prstGeom prst="rect">
            <a:avLst/>
          </a:prstGeom>
          <a:ln w="0">
            <a:noFill/>
          </a:ln>
        </p:spPr>
      </p:pic>
      <p:sp>
        <p:nvSpPr>
          <p:cNvPr id="386" name="Управляющая кнопка: назад 5"/>
          <p:cNvSpPr/>
          <p:nvPr/>
        </p:nvSpPr>
        <p:spPr>
          <a:xfrm>
            <a:off x="860436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7" descr="1345290418.jpg"/>
          <p:cNvPicPr/>
          <p:nvPr/>
        </p:nvPicPr>
        <p:blipFill>
          <a:blip r:embed="rId2"/>
          <a:stretch/>
        </p:blipFill>
        <p:spPr>
          <a:xfrm>
            <a:off x="1547640" y="1197000"/>
            <a:ext cx="618660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8508960" cy="920880"/>
          </a:xfrm>
          <a:prstGeom prst="rect">
            <a:avLst/>
          </a:prstGeom>
          <a:ln w="0">
            <a:noFill/>
          </a:ln>
        </p:spPr>
      </p:pic>
      <p:sp>
        <p:nvSpPr>
          <p:cNvPr id="389" name="Управляющая кнопка: назад 6"/>
          <p:cNvSpPr/>
          <p:nvPr/>
        </p:nvSpPr>
        <p:spPr>
          <a:xfrm>
            <a:off x="860436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Содержимое 7" descr="4c55d87f2adeacd369d0cc8093f0aacf.jpg"/>
          <p:cNvPicPr/>
          <p:nvPr/>
        </p:nvPicPr>
        <p:blipFill>
          <a:blip r:embed="rId2"/>
          <a:stretch/>
        </p:blipFill>
        <p:spPr>
          <a:xfrm>
            <a:off x="2050920" y="1197000"/>
            <a:ext cx="514692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8508960" cy="920880"/>
          </a:xfrm>
          <a:prstGeom prst="rect">
            <a:avLst/>
          </a:prstGeom>
          <a:ln w="0">
            <a:noFill/>
          </a:ln>
        </p:spPr>
      </p:pic>
      <p:sp>
        <p:nvSpPr>
          <p:cNvPr id="392" name="Управляющая кнопка: назад 6"/>
          <p:cNvSpPr/>
          <p:nvPr/>
        </p:nvSpPr>
        <p:spPr>
          <a:xfrm>
            <a:off x="860436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Содержимое 5" descr="3737373755.jpg"/>
          <p:cNvPicPr/>
          <p:nvPr/>
        </p:nvPicPr>
        <p:blipFill>
          <a:blip r:embed="rId2"/>
          <a:stretch/>
        </p:blipFill>
        <p:spPr>
          <a:xfrm>
            <a:off x="468360" y="981000"/>
            <a:ext cx="835164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8508960" cy="920880"/>
          </a:xfrm>
          <a:prstGeom prst="rect">
            <a:avLst/>
          </a:prstGeom>
          <a:ln w="0">
            <a:noFill/>
          </a:ln>
        </p:spPr>
      </p:pic>
      <p:sp>
        <p:nvSpPr>
          <p:cNvPr id="395" name="Управляющая кнопка: назад 6"/>
          <p:cNvSpPr/>
          <p:nvPr/>
        </p:nvSpPr>
        <p:spPr>
          <a:xfrm>
            <a:off x="860436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Содержимое 7" descr="Transport.jpg"/>
          <p:cNvPicPr/>
          <p:nvPr/>
        </p:nvPicPr>
        <p:blipFill>
          <a:blip r:embed="rId2"/>
          <a:stretch/>
        </p:blipFill>
        <p:spPr>
          <a:xfrm>
            <a:off x="900000" y="1125360"/>
            <a:ext cx="7959960" cy="49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8508960" cy="920880"/>
          </a:xfrm>
          <a:prstGeom prst="rect">
            <a:avLst/>
          </a:prstGeom>
          <a:ln w="0">
            <a:noFill/>
          </a:ln>
        </p:spPr>
      </p:pic>
      <p:sp>
        <p:nvSpPr>
          <p:cNvPr id="398" name="Управляющая кнопка: назад 6"/>
          <p:cNvSpPr/>
          <p:nvPr/>
        </p:nvSpPr>
        <p:spPr>
          <a:xfrm>
            <a:off x="860436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Содержимое 4" descr="83794329_nacional.jpg"/>
          <p:cNvPicPr/>
          <p:nvPr/>
        </p:nvPicPr>
        <p:blipFill>
          <a:blip r:embed="rId2"/>
          <a:stretch/>
        </p:blipFill>
        <p:spPr>
          <a:xfrm>
            <a:off x="826920" y="1197000"/>
            <a:ext cx="76201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2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8508960" cy="920880"/>
          </a:xfrm>
          <a:prstGeom prst="rect">
            <a:avLst/>
          </a:prstGeom>
          <a:ln w="0">
            <a:noFill/>
          </a:ln>
        </p:spPr>
      </p:pic>
      <p:sp>
        <p:nvSpPr>
          <p:cNvPr id="401" name="Управляющая кнопка: назад 6"/>
          <p:cNvSpPr/>
          <p:nvPr/>
        </p:nvSpPr>
        <p:spPr>
          <a:xfrm>
            <a:off x="860436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Содержимое 5" descr="maxresdefault.jpg"/>
          <p:cNvPicPr/>
          <p:nvPr/>
        </p:nvPicPr>
        <p:blipFill>
          <a:blip r:embed="rId2"/>
          <a:stretch/>
        </p:blipFill>
        <p:spPr>
          <a:xfrm>
            <a:off x="684360" y="11970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2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8508960" cy="920880"/>
          </a:xfrm>
          <a:prstGeom prst="rect">
            <a:avLst/>
          </a:prstGeom>
          <a:ln w="0">
            <a:noFill/>
          </a:ln>
        </p:spPr>
      </p:pic>
      <p:sp>
        <p:nvSpPr>
          <p:cNvPr id="404" name="Управляющая кнопка: назад 6"/>
          <p:cNvSpPr/>
          <p:nvPr/>
        </p:nvSpPr>
        <p:spPr>
          <a:xfrm>
            <a:off x="860436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Содержимое 5" descr="img2.jpg"/>
          <p:cNvPicPr/>
          <p:nvPr/>
        </p:nvPicPr>
        <p:blipFill>
          <a:blip r:embed="rId2"/>
          <a:stretch/>
        </p:blipFill>
        <p:spPr>
          <a:xfrm>
            <a:off x="1116000" y="119700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11:10:47Z</dcterms:created>
  <dc:creator>Vicki</dc:creator>
  <dc:description/>
  <dc:language>en-US</dc:language>
  <cp:lastModifiedBy>Vicki</cp:lastModifiedBy>
  <dcterms:modified xsi:type="dcterms:W3CDTF">2017-10-15T18:16:49Z</dcterms:modified>
  <cp:revision>11</cp:revision>
  <dc:subject/>
  <dc:title>An English-speaking World</dc:title>
</cp:coreProperties>
</file>