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8AB3-B8F8-4CCD-A830-5752C8AC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7059-9B16-4358-96E0-03ED908B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9FEA-FB2F-4F81-85E4-3954E41B5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DE72-00A1-4140-9AFF-A654521AB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3812-00D4-4804-B7D3-7DF0185F6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C285-F802-495E-A130-D470CCA7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744F-9FCE-4A82-B8A1-205B93B2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6180-2222-4CEF-9649-CF795BA82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D61DE-557B-4280-95B1-543B665A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4112-C065-4C69-8C22-018237D8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F6BB-D10E-4DC2-AD1F-8E53A451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D095-E4F3-412E-A26C-1564F091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42C1-9C3C-4CB2-B3E5-FABE74D7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4B5E-0E7E-44B8-A3A5-15C7CEB1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4C6D-C6C9-46B5-B031-2CBA674A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169B-2956-4505-9EF7-BED16F72A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C067-8E3C-4E1D-AE49-55401E5EB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7A34-A045-47CC-9AAE-DF73D144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D47D-C0CC-484E-B628-11D38FF3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A102-68FF-46B7-922C-E0C5A447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065C-DC8E-4EDD-A240-EA8F3FC7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CF86-5ABB-4936-894B-6EB5615C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C91C-CD8E-4A5C-A852-0EB7D6AD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3FCB-E440-4049-9C5F-6FA837D9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6BA6-3EBD-4357-AAC0-8ADEE91091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B804-6517-496F-9DFD-E4B46FBF792D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riscastent.files.wordpress.com/2010/01/earthinhands.gif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Центр занятости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лонтеров «Со-действие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50920" y="3428640"/>
            <a:ext cx="427968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втор: Железнякова Ксения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пшеронский райо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5219640" y="5300640"/>
            <a:ext cx="370836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Два мира есть у человека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Один, который нас твори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Другой, который мы от ве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Творим по мере наших си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Этап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. сбор информации о вакансиях для волонтеров и внесение ее в базу данны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Сбор информации о вакансиях для волонтеров будет осуществляться автором и рабочей группой проекта. Механизм сбора информации подразумевает под собой личные встречи с клиентами проект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Этап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. Определение места и обязанностей специалиста Центра занятости «Со-действие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отдел молодежи муниципального образования Апшеронский район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Этап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4. Сведение собранной информации в единую форму, структурирова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Этап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. Базы данных вакансий для волонтеров актуализируется ежемесячн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Этап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6. Разработка анкет для волонтеров, распространение информации о работе центра в С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1785960" y="4714920"/>
            <a:ext cx="557208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86920" y="764640"/>
            <a:ext cx="7488360" cy="90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Механизм реализаци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3640" y="2060280"/>
            <a:ext cx="8343720" cy="45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ahoma"/>
              </a:rPr>
              <a:t>Подготовительный этап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Формирование состава инициативной группы проект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Информирование заинтересованных лиц о возможности участия в реализации проект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ahoma"/>
              </a:rPr>
              <a:t>Основной этап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.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Информирование молодежи о требованиях к акци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Формирование базы данных вакансий для волонтер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I.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свещение в С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Использование региональной базы данных волонтер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Формирование базы данных вакансий для волонтер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.Консультирование потенциальных участников различных мероприяти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Актуализация базы данных волонтер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Актуализация базы данных вакансий для волонтер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V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.Консультирование потенциальных участников различных мероприяти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Актуализация базы данных волонтер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Актуализация базы данных вакансий для волонтер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.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онсультирование потенциальных участников различных мероприяти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Подведение итог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Актуализация базы данных волонтер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Актуализация базы данных вакансий для волонтер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свещение в  СМИ волонтерской деятельност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ahoma"/>
              </a:rPr>
              <a:t>Заключительный этап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формление содержательного отчета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Подведение итогов реализации проект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Аналитическая работа по итогам реализации проект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Разработка рекомендаци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Ресурсы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атериально – технической  базой для осуществления данного  проекта станет ОДМ, с использованием помещения, телефона, оргтехники. Кроме того, в качестве материально-технических ресурсов будут использованы личные средства автора проекта. (услуги интернета, телефонии и др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дровые ресурсы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олодежный Совет, ученическое самоуправление МБОУСОШ № 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 согласованию специалисты Центра занятости Апшеронского райо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нформационные ресурсы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айты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ww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kontakte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 другие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иодические изда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Ожидаемые результат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результате реализации намеченных мероприятий проекта будут достигнуто увеличение молодежи, занятой социльно-значимой деятельностью до 70%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влечение средств массовой информации к деятельности волонтеров (количество публикаций 2-3 в месяц) будет способствовать росту престижа добровольческой деятельности во внешней сред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циальная значимость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величения предложения по добровольческим программам и проектам для волонтер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здание устойчивого информационного поля (увеличение количества молодежи вовлеченной в социально-значимую деятельность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явление и поддержка молодежи, занятой социально-значимой, волонтерской деятельностью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влечение внимания общественности к волонтерской деятельно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0" y="5229360"/>
            <a:ext cx="17431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7164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бы поверить в добро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до начать делать его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ев Толстой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Цель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ормирование поля возможностей для осуществления добровольческой деятельности  как для молодежи, так и для молодежных общественных объединений Апшеронского райо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179280" y="4653000"/>
            <a:ext cx="182736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роки реализации проект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прель 2016 - июнь 2017г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География проект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пшеронский райо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4" descr="Картинка 37 из 1239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3645000"/>
            <a:ext cx="27889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артнеры, поддерживающие организации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дел по делам молодежи администрации МО Апшеронский район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У КК «Центр занятости Апшеронского района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правление образования МО Апшеронский райо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сточники финансировани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ект не требует вложения финансовых ресурсов, но если такая необходимость появится, то будет привлекаться спонсорская помощь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Модель, концепци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рамках проекта по созданию центра занятости для волонтеров«Со-действие»  предлагается создание районной базы данных вакансий для волонтер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5796000" y="5064120"/>
            <a:ext cx="2919240" cy="14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Этап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Максимальное информирование клиентов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 проект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о возможности включения их волонтерских программ в базу данных вакансий добровольческой деятельности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чреждения социального обслуживания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чреждения образования, культуры и молодежи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ольницы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етские дома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экологические, психологические и юридические службы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рудовые лагеря и бригады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фильные лагеря для подростков и молодежи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коммерческие организации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общественные объединени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я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иблиотеки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чебные заведе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центр занятости насел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нформирование участников проекта планируется осуществлять через сайты, социальные сети,информационные письма на имя руководителей учреждений и организаций, а также через службу занятости населения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4T10:52:50Z</dcterms:created>
  <dc:creator>Даниил</dc:creator>
  <dc:description/>
  <dc:language>en-US</dc:language>
  <cp:lastModifiedBy>555</cp:lastModifiedBy>
  <dcterms:modified xsi:type="dcterms:W3CDTF">2018-01-05T17:48:11Z</dcterms:modified>
  <cp:revision>16</cp:revision>
  <dc:subject/>
  <dc:title>Центр занятости  волонтеров «Со-действие»</dc:title>
</cp:coreProperties>
</file>