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36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28.gif" ContentType="image/gif"/>
  <Override PartName="/ppt/media/image14.jpeg" ContentType="image/jpeg"/>
  <Override PartName="/ppt/media/image3.gif" ContentType="image/gif"/>
  <Override PartName="/ppt/media/image33.gif" ContentType="image/gif"/>
  <Override PartName="/ppt/media/image20.jpeg" ContentType="image/jpeg"/>
  <Override PartName="/ppt/media/image37.gif" ContentType="image/gif"/>
  <Override PartName="/ppt/media/image31.jpeg" ContentType="image/jpeg"/>
  <Override PartName="/ppt/media/image38.gif" ContentType="image/gif"/>
  <Override PartName="/ppt/media/image40.gif" ContentType="image/gif"/>
  <Override PartName="/ppt/media/image29.gif" ContentType="image/gif"/>
  <Override PartName="/ppt/media/image13.jpeg" ContentType="image/jpeg"/>
  <Override PartName="/ppt/media/image41.gif" ContentType="image/gif"/>
  <Override PartName="/ppt/media/image30.gif" ContentType="image/gif"/>
  <Override PartName="/ppt/media/image42.gif" ContentType="image/gif"/>
  <Override PartName="/ppt/media/image6.jpeg" ContentType="image/jpeg"/>
  <Override PartName="/ppt/media/image27.jpeg" ContentType="image/jpeg"/>
  <Override PartName="/ppt/media/image43.gif" ContentType="image/gif"/>
  <Override PartName="/ppt/media/image35.gif" ContentType="image/gif"/>
  <Override PartName="/ppt/media/image11.jpeg" ContentType="image/jpeg"/>
  <Override PartName="/ppt/media/image47.gif" ContentType="image/gif"/>
  <Override PartName="/ppt/media/image45.gif" ContentType="image/gif"/>
  <Override PartName="/ppt/media/image8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34.gif" ContentType="image/gif"/>
  <Override PartName="/ppt/media/image4.gif" ContentType="image/gif"/>
  <Override PartName="/ppt/media/image1.jpeg" ContentType="image/jpeg"/>
  <Override PartName="/ppt/media/image7.png" ContentType="image/png"/>
  <Override PartName="/ppt/media/image44.gif" ContentType="image/gif"/>
  <Override PartName="/ppt/media/image9.png" ContentType="image/png"/>
  <Override PartName="/ppt/media/image22.jpeg" ContentType="image/jpeg"/>
  <Override PartName="/ppt/media/image46.gif" ContentType="image/gif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62E-D611-45B6-9B07-7B5716FA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360-030D-4336-A4E0-D29F61E0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E11-6A09-4060-8C0E-5B27B0E0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73D-EED0-4F47-8156-64CFF485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4BF-1D37-4553-8A53-0A804205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1EF-D02E-480F-A1DA-5B80E563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F01-2BBD-4C90-9C30-123EAD51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CB7-D532-4E47-80E3-A1761902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2FF-B8DC-4334-A4AD-7F2D35B4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22D-7C6F-4922-9088-62A2152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131-B9AF-45FD-8378-874C78C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70A-3D82-43C4-8EDE-7029D84D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1273-F8E2-4F0A-98B4-F43FAC700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png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gif"/><Relationship Id="rId9" Type="http://schemas.openxmlformats.org/officeDocument/2006/relationships/image" Target="../media/image44.gif"/><Relationship Id="rId10" Type="http://schemas.openxmlformats.org/officeDocument/2006/relationships/image" Target="../media/image45.gif"/><Relationship Id="rId11" Type="http://schemas.openxmlformats.org/officeDocument/2006/relationships/image" Target="../media/image46.gif"/><Relationship Id="rId12" Type="http://schemas.openxmlformats.org/officeDocument/2006/relationships/image" Target="../media/image47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549360"/>
            <a:ext cx="765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   г о с т и  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    в е с н е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20200" y="9360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 Black"/>
              </a:rPr>
              <a:t>А п р е л 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42560" y="836640"/>
            <a:ext cx="92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Апрель -водолей. Солнце, снег и дождь впереме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Непостоянен обманщик - апрель: на дню семь по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К концу этого месяца солнце красное прогоняет после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ние остатки снега – поэтому апрель называют снег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гоном. Куда не ступишь, куда ни посмотришь – вез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в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11280" y="2948040"/>
            <a:ext cx="468180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03280" y="26028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Запестрели повсюду весенние ц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20120" cy="5232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96520" y="63374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137440" cy="5981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55240" y="62373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меду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4120" cy="2960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348440" cy="3202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6299" r="0" b="0"/>
          <a:stretch/>
        </p:blipFill>
        <p:spPr>
          <a:xfrm>
            <a:off x="4876920" y="152280"/>
            <a:ext cx="4105080" cy="288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4219560" cy="3167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62960" y="3098880"/>
            <a:ext cx="71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прель - месяц великого переселения птиц на род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960" y="93600"/>
            <a:ext cx="17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 Black"/>
              </a:rPr>
              <a:t>М а 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6640" y="1009800"/>
            <a:ext cx="89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Март с водой, апрель с травой, а май с цвет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Весна всерьёз принялась за своё третье дело: нач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одевать лес. Май так и называют – травень – цвет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6000" y="2295360"/>
            <a:ext cx="6912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9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33920" y="640080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первая 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51280" y="623736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дуб распуск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4107" t="4725" r="4107" b="4725"/>
          <a:stretch/>
        </p:blipFill>
        <p:spPr>
          <a:xfrm>
            <a:off x="179280" y="189000"/>
            <a:ext cx="417672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600800" cy="36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91440" y="217440"/>
            <a:ext cx="45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Май-месяц первой зел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первых цветов, пер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весенних г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58920" y="4941720"/>
            <a:ext cx="1871640" cy="1689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164360" y="1413000"/>
            <a:ext cx="1660680" cy="145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68360" y="3971880"/>
            <a:ext cx="12952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0" b="4919"/>
          <a:stretch/>
        </p:blipFill>
        <p:spPr>
          <a:xfrm>
            <a:off x="468360" y="620640"/>
            <a:ext cx="8424720" cy="600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18480" y="18900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ландыш  м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2924280"/>
            <a:ext cx="4467240" cy="371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798720" cy="5064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185360" y="360360"/>
            <a:ext cx="370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Зеленеет все оп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Зеленеет пр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А зелёные ляг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Песенку по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5280" y="4797360"/>
            <a:ext cx="1446120" cy="1814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19596600">
            <a:off x="2410920" y="458100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 rot="3286800">
            <a:off x="7019640" y="1628640"/>
            <a:ext cx="152388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18200" y="504720"/>
            <a:ext cx="30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Тает сне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Ожил лу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День прибы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Когда это быв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7201" t="5652" r="7201" b="5652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2781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ве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00000" y="55897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58920" y="5229360"/>
            <a:ext cx="123804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556000" y="5264280"/>
            <a:ext cx="1511280" cy="1198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564000" y="5373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851280" y="47242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2195640" y="5057640"/>
            <a:ext cx="1247760" cy="18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5651640" y="5373720"/>
            <a:ext cx="1323720" cy="1123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804000" y="537372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164360" y="544500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596360" y="5300640"/>
            <a:ext cx="790560" cy="132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8201160" y="5445000"/>
            <a:ext cx="94284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97440" y="812880"/>
            <a:ext cx="262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 Black"/>
              </a:rPr>
              <a:t>К о н е 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5800" y="1413000"/>
            <a:ext cx="353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К нам весна шаг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Быстрыми ша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И сугробы 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Под её н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Чёрные прота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На полях вид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Верно, очень тёп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Ноги у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90840" y="189000"/>
            <a:ext cx="46404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0" y="165240"/>
            <a:ext cx="246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 Black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560" y="1052640"/>
            <a:ext cx="87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5640" y="2278080"/>
            <a:ext cx="655308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286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 маме - речке я бе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молчать не 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Я её сын род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 родился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64771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8810"/>
          <a:stretch/>
        </p:blipFill>
        <p:spPr>
          <a:xfrm>
            <a:off x="179280" y="260280"/>
            <a:ext cx="8820360" cy="575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35280" y="6237360"/>
            <a:ext cx="18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3040" y="360360"/>
            <a:ext cx="889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Март – проба голосов птиц-зимовщиков: овся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пищух, поползней. Сейчас и ворону влечё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веснянки, обласкало бы теплом, горбится, не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прикарк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008080"/>
            <a:ext cx="6553080" cy="4849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95480" y="1828800"/>
            <a:ext cx="6107400" cy="47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рогов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чиха говорит гра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етай с грачатами к вр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вивки делать им п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крепления пер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311360" cy="323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Helen\Desktop\календарь\24272.jpg"/>
          <p:cNvPicPr/>
          <p:nvPr/>
        </p:nvPicPr>
        <p:blipFill>
          <a:blip r:embed="rId4"/>
          <a:stretch/>
        </p:blipFill>
        <p:spPr>
          <a:xfrm>
            <a:off x="2133720" y="3633840"/>
            <a:ext cx="22795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21:38:29Z</dcterms:created>
  <dc:creator>Александр</dc:creator>
  <dc:description/>
  <dc:language>en-US</dc:language>
  <cp:lastModifiedBy>Александр</cp:lastModifiedBy>
  <dcterms:modified xsi:type="dcterms:W3CDTF">2013-03-15T22:00:5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