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A6F7-2BD5-4A57-AC13-703B29B2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1C1-2FBF-4C8A-9813-A15790E7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7D92-C9B5-4EBD-9111-3B54E05C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DC87-C6F7-4A7A-9E6E-25B13782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3538-FFEE-4310-BBA0-3B6A6DC4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91AC-B2E1-4349-B342-72FDDAC5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2B54-0C61-4967-B816-8EB6D39B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F154-BF46-4CD7-8E7C-61562EB2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2782-44E0-4675-933F-E9244CA1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145C-2A2C-448A-98CE-787ABA84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CE45-098A-4FDE-AD16-406B77D3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9CA0-984F-4635-86C9-16B8FC60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FF30-72BA-44AC-BE2F-22E99706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D305-9B75-426A-8026-9DF546FD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6E00-8152-4947-A817-3ECA349C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CB42-6C54-4DD8-BA84-50FB8EF9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0FD8-BE32-4142-BA43-CE1CC3AE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004-1ED9-4510-8CDE-AE03CCE2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62B4-290F-4940-B642-35515ABB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1AE0-7CA7-4BC9-BB71-4BD6B659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951-17B5-4EF5-BE88-C00019BF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421-9DA9-4E75-A61A-1F201FB6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BA0-67D0-49E4-B89F-4DB19AA8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C93-E401-4439-A54F-31B6CB73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7868-980F-4D47-A131-6BF794DE4822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51D3-128A-49E8-BE7F-941CC3560F4B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неурочная деятельность - инновационная составляющая ФГОС НО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90720" y="3809880"/>
            <a:ext cx="62481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втор: Борисова Г.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Учитель начальных классов МОУ «СОШ с. Марьино - Лашмино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2-й уровень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школьник цен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бщественную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жизн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Достигается в дружественной детской среде (коллективе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4297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3-й уровень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школьник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амостоятельн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ействуе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общественно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жизн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Достигается во взаимодействии с социальными субъектам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4068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Кружковая работа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в МОУ «СОШ с. М-Лашмино»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в начальных классах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2209320"/>
            <a:ext cx="7386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Танцевальный кружок «Современные ритмы» - руководитель: Борисова Г.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раматический кружок «Золушка» - руководитель: Борисова Г. 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Диагностика результатов работы кружка  «Современные ритмы»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63520" y="5486040"/>
            <a:ext cx="7386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ыступление на школьных праздника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58672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914400" y="5486400"/>
            <a:ext cx="6478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Участие в классных мероприятия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P106025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6705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33520" y="5638320"/>
            <a:ext cx="6834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Участие в районном конкурсе художественной самодеятельност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6858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портивно - оздоровительное направление.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5486040"/>
            <a:ext cx="7386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оревнования, дни здоровь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505320" cy="38098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809880" y="13716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Художественно-эстетическое направление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5409720"/>
            <a:ext cx="73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ыставки и конкурс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504960" cy="38098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962520" y="1371600"/>
            <a:ext cx="3581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Общественно-полезная   деятельность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5409720"/>
            <a:ext cx="73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убботник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3809880" cy="38862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962520" y="1295280"/>
            <a:ext cx="3733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Научно-познавательное направление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5334120"/>
            <a:ext cx="7386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руглые столы, диспут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1598760"/>
            <a:ext cx="3733920" cy="36590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4191120" y="1598760"/>
            <a:ext cx="350496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Основные задачи внеурочной деятельности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соответствии с ФГОС НОО основная образовательная программа начального общего образования реализуется образовательным учреждением, в том числе, и через внеурочную деятельност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456840"/>
            <a:ext cx="73864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Цель обучения ребенка состоит в том, чтобы сделать его способным развиваться дальше без помощи учителя».</a:t>
            </a:r>
            <a:br>
              <a:rPr sz="3200"/>
            </a:b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Элберд  Хабберд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4572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160" y="456840"/>
            <a:ext cx="3616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Выживает</a:t>
            </a:r>
            <a:br>
              <a:rPr sz="3200"/>
            </a:b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не самый сильный </a:t>
            </a:r>
            <a:br>
              <a:rPr sz="3200"/>
            </a:b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и не самый умный,</a:t>
            </a:r>
            <a:br>
              <a:rPr sz="3200"/>
            </a:b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а тот, кто </a:t>
            </a:r>
            <a:br>
              <a:rPr sz="3200"/>
            </a:b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лучше всех откликается</a:t>
            </a:r>
            <a:br>
              <a:rPr sz="3200"/>
            </a:b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на происходящие изменения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Чарльз Дарвин</a:t>
            </a:r>
            <a:br>
              <a:rPr sz="2000"/>
            </a:b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4038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од внеурочной деятельностью в рамках реализации ФГОС НОО следует понимать образовательную деятельность, осуществляемую в формах, отличных от классно - урочной, и направленную на достижение планируемых результатов освоения основной образовательной программы начального общего образова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Кроме того , внеурочная деятельность в начальной школе позволят решить ещё целый ряд очень важных задач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беспечить благоприятную адаптацию ребёнка в школ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птимизировать учебную нагрузку обучающихся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лучшить условия для развития ребёнк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честь возрастные и индивидуальные особенности обучающихся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сновные направления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портивно-оздоровительно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Художественно-эстетическое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аучно-познавательное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оенно-патриотическое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бщественно-полезная   деятельность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роектная деятельнос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иды деятельност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3290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грова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знавательна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роблемно-ценностное общение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осугово-развлекательная деятельность (досуговое       общение)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Художественное творчество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оциальное творчество (социально преобразующая добровольческая деятельность)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Техническое творчеств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Трудовая (производственная) деятельность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портивно-оздоровительная деятельность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Туристско-краеведческая деятельность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Форм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экскурси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ружк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екци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нференци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испуты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школьные научные обществ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лимпиад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оревновани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исковые и научные исследовани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оциальные проект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бщественно полезные практики и д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ВОСПИТАТЕЛЬНЫЕ РЕЗУЛЬТАТЫ И ЭФФЕКТЫ</a:t>
            </a:r>
            <a:br>
              <a:rPr sz="2400"/>
            </a:b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ВНЕУРОЧНОЙ ДЕЯТЕЛЬНОСТИ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Воспитательный результат внеурочной деятельности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– непосредственное духовно-нравственное приобретение ребенка благодаря его участию в том или ином виде внеурочной деятельност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Воспитательный эффект внеурочной деятельности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– влияние того или иного духовно-нравственного приобретения  на процесс развития личности ребенка (</a:t>
            </a: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последствие результата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езультат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1-й уровень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школьник  знае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 понимает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бщественную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жизн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Достигается во взаимодействии с педагогом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3"/>
          <a:stretch/>
        </p:blipFill>
        <p:spPr>
          <a:xfrm>
            <a:off x="3505320" y="1523880"/>
            <a:ext cx="4144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8-01-05T17:44:47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