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911F-A77B-4332-8F90-63A468CE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2CCF-8CFD-4206-9602-0ACC7691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7243-E72B-4CB5-9041-DC961DBC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B50F-9B6C-41C5-BDF4-8134F9DC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CC698-8638-48C2-AE4B-39DBA4C5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6130F-EE7E-464C-BC4B-4C12468C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B0278-5761-401A-92C1-CF7ED60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47B33-07E2-438C-BCC1-E20838A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E83F1-87A4-4E14-A899-16A7B41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D3ED1-0F6B-4B1F-B184-521D09BD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A2248-23CA-4816-AD67-0E6695E5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3DD1-4164-45D0-ACD3-8670A5C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7DE64-2394-40D3-BA8F-669C4C4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B13EA-8BA4-4FAC-9A0E-29EF15E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8CC3-4B3E-4AD1-85AA-F9548FB0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4F4D5-B4CA-4AEB-9C56-174B1E53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1E13-4B4B-4A8C-895F-98FCC770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2BC1-FDB9-47DB-8D73-4D38DC63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BE29-4CA3-407D-86F6-580F5CB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CCA6-8B62-487E-AB13-8E53C008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5AE5-824E-4002-A827-368F3C5D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77E5-D360-44A9-A071-BD8CCF56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2B92-1EAC-48FA-AF90-BB5613F8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26F3-B7EA-45BF-AC7D-26312EB6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5ED2-071C-4702-8690-D0BB6F09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653E-A925-41CF-82D7-167D0563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0E5E-2733-4264-B9C1-3D1BFD2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FC05-E97C-4804-A14C-D82B6D2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B06E-E64B-4107-B091-2F5F595C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A2FF-43C9-46F3-94ED-405F85BE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7A91-4FC2-4987-B6C8-19E869D9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92EB-E3C4-43F3-9A86-B900834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9202-D6E0-4BE7-AB9D-68C61246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0364-C474-474F-84B9-6BE420AA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F63C-9F95-4BA0-A83B-06F71DDA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80FA-1F67-4282-BE40-CC45CF8B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B9B4-FEDF-4B20-AD5F-17813338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34A9-1545-44B8-9F0C-64D1F09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D3415-9E67-4DA4-AF94-231A8797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4CBA-97B7-4222-A959-C7490DC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A913-493A-4972-9079-013D8B5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0C02-7C8E-4A91-9786-B38CF179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6600-232C-4F1D-9F83-7A5A78E4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0BD3-1229-496B-BA7D-14A6B8D6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C83A-8B41-44FF-B5CB-1ACAAEE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8E4D-7759-43AA-B42D-E38C56A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5C80-4DF8-43F4-BA5D-ACE42E0D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E65E-5239-42CE-9FC6-17CCF18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1B1-2C8B-4AD5-858F-86524C4618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AE5E-1975-4673-B41D-C60EB92C502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5F64-A0FD-4A20-946A-4D785E967F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66CF-DB85-42AF-AC2E-B7A77EA93A0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4543560" y="642960"/>
            <a:ext cx="4978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Помните!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Не плачьте!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В горл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сдержите стоны.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Памяти павш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будьте достойны!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Вечно достойны!</a:t>
            </a:r>
            <a:r>
              <a:rPr b="0" lang="ru-RU" sz="3200" spc="-1" strike="noStrike">
                <a:solidFill>
                  <a:srgbClr val="ffffff"/>
                </a:solidFill>
                <a:latin typeface="Linux Libertine Display 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Times New Roman"/>
              </a:rPr>
              <a:t>Витя Гурин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827520" cy="431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1656360" y="5303880"/>
            <a:ext cx="785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Участник партизанского дви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связной и разведч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Расстрелян 17 декабря 1944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1dc3b397519cb4089e2f4bb4db06cfb5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3105000"/>
          </a:xfrm>
          <a:prstGeom prst="rect">
            <a:avLst/>
          </a:prstGeom>
          <a:ln w="0">
            <a:noFill/>
          </a:ln>
        </p:spPr>
      </p:pic>
      <p:pic>
        <p:nvPicPr>
          <p:cNvPr id="240" name="Voennye pesni Zhuravli minus  (mp3top100.net).mp3" descr=""/>
          <p:cNvPicPr/>
          <p:nvPr/>
        </p:nvPicPr>
        <p:blipFill>
          <a:blip r:embed="rId3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Star_Victory"/>
          <p:cNvPicPr/>
          <p:nvPr/>
        </p:nvPicPr>
        <p:blipFill>
          <a:blip r:embed="rId4"/>
          <a:stretch/>
        </p:blipFill>
        <p:spPr>
          <a:xfrm rot="20918400">
            <a:off x="-97920" y="4676760"/>
            <a:ext cx="26636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тя Соловья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95280" y="4724280"/>
            <a:ext cx="476244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inux Libertine Display G"/>
              </a:rPr>
              <a:t>Юная жительница г.Анапа. Партиза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inux Libertine Display G"/>
              </a:rPr>
              <a:t>Зверски замучена фашис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1dc3b397519cb4089e2f4bb4db06cfb5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310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Star_Victory"/>
          <p:cNvPicPr/>
          <p:nvPr/>
        </p:nvPicPr>
        <p:blipFill>
          <a:blip r:embed="rId2"/>
          <a:stretch/>
        </p:blipFill>
        <p:spPr>
          <a:xfrm rot="20918400">
            <a:off x="0" y="5084640"/>
            <a:ext cx="2664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иша Погреб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4680000" cy="5043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406160" y="5950080"/>
            <a:ext cx="82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Разведчик. Житель ст. Белоречен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1dc3b397519cb4089e2f4bb4db06cfb5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3105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Star_Victory"/>
          <p:cNvPicPr/>
          <p:nvPr/>
        </p:nvPicPr>
        <p:blipFill>
          <a:blip r:embed="rId3"/>
          <a:stretch/>
        </p:blipFill>
        <p:spPr>
          <a:xfrm rot="20918400">
            <a:off x="0" y="5084640"/>
            <a:ext cx="2664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ля Шуль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84720" cy="49644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397080" y="5838840"/>
            <a:ext cx="86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Родился в ст. Кисляковс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Партизан. Зверски замучен фаши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1dc3b397519cb4089e2f4bb4db06cfb5"/>
          <p:cNvPicPr/>
          <p:nvPr/>
        </p:nvPicPr>
        <p:blipFill>
          <a:blip r:embed="rId2"/>
          <a:stretch/>
        </p:blipFill>
        <p:spPr>
          <a:xfrm>
            <a:off x="6885000" y="0"/>
            <a:ext cx="2259000" cy="2708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Star_Victory"/>
          <p:cNvPicPr/>
          <p:nvPr/>
        </p:nvPicPr>
        <p:blipFill>
          <a:blip r:embed="rId3"/>
          <a:stretch/>
        </p:blipFill>
        <p:spPr>
          <a:xfrm rot="20918400">
            <a:off x="0" y="4581360"/>
            <a:ext cx="2664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дя Гнезди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541680" cy="5040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551160" y="5803920"/>
            <a:ext cx="845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Погибла, освобождая арестов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фашистами односельчан ст. Дахов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1dc3b397519cb4089e2f4bb4db06cfb5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3105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Star_Victory"/>
          <p:cNvPicPr/>
          <p:nvPr/>
        </p:nvPicPr>
        <p:blipFill>
          <a:blip r:embed="rId3"/>
          <a:stretch/>
        </p:blipFill>
        <p:spPr>
          <a:xfrm rot="20918400">
            <a:off x="-97920" y="4819680"/>
            <a:ext cx="26636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нера Павленко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лара Навальн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4392720" cy="446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188000" y="5229360"/>
            <a:ext cx="891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Зверски замучены фашис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за помощь летчик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inux Libertine Display G"/>
              </a:rPr>
              <a:t>сбитым в окрестностях ст. Коренов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1dc3b397519cb4089e2f4bb4db06cfb5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310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Star_Victory"/>
          <p:cNvPicPr/>
          <p:nvPr/>
        </p:nvPicPr>
        <p:blipFill>
          <a:blip r:embed="rId3"/>
          <a:stretch/>
        </p:blipFill>
        <p:spPr>
          <a:xfrm rot="20918400">
            <a:off x="0" y="5084640"/>
            <a:ext cx="2664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4543560" y="642960"/>
            <a:ext cx="4978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Помните!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Не плачьте!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В горл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сдержите стоны.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Памяти павш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будьте достойны!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Linux Libertine Display G"/>
              </a:rPr>
              <a:t>Вечно достойны!</a:t>
            </a:r>
            <a:r>
              <a:rPr b="0" lang="ru-RU" sz="3200" spc="-1" strike="noStrike">
                <a:solidFill>
                  <a:srgbClr val="ffffff"/>
                </a:solidFill>
                <a:latin typeface="Linux Libertine Display 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6:43:12Z</dcterms:created>
  <dc:creator>Users</dc:creator>
  <dc:description/>
  <dc:language>en-US</dc:language>
  <cp:lastModifiedBy>Саша И Макс</cp:lastModifiedBy>
  <dcterms:modified xsi:type="dcterms:W3CDTF">2018-01-05T15:06:15Z</dcterms:modified>
  <cp:revision>5</cp:revision>
  <dc:subject/>
  <dc:title>Слайд 1</dc:title>
</cp:coreProperties>
</file>