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D63-CA26-4EC3-85A0-5DE2DDAC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828-CBB5-45A8-A66A-E2681035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322-31DA-40FE-B2CE-00130B02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ACC-FF70-44C4-B221-843D7661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3F5-870B-433A-8864-7F4FBB4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294-976B-42C9-84AE-712C7DF2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0BC-423B-40C1-BA08-B3058A1B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FE6-3ED4-4837-B3BF-077D746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143-E324-4D7D-B08B-6109BC3D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C8A-E61E-48BA-98EC-1ED6C25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99B-FB63-490A-966C-F5532A3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B19-483A-48DD-9A70-65FF302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0870-9886-4715-8454-40FCB776F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3715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здоровьесберегающих технологий на уроках музы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43120" y="-36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КОУ  Основная общеобразователь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а  №4 имени  Ю . А. Гагари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ского округа город Фро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00" y="1844280"/>
            <a:ext cx="9115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нимает любые спазмы, лечит сердце и желчный пузыр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лучшает работу головного моз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лечит глаза, уши, стимулирует сердечную деятельность, «прочищает» но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живляет деятельность поджелудочной железы, устраняет проблемы с сердц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лучшает дыхание, стимулирует работу почек, мочевого пузыр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лечит уши, улучшает дых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454040" y="0"/>
            <a:ext cx="37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СНЫЕ ЗВУ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8000" y="213372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ОСОЧЕТ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нижает кровяное да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Й, П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нижают боли в сердц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Х, ОХ, А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тимулируют выброс из организ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ботанных веществ  и негативной энергии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79280" y="1989000"/>
            <a:ext cx="8713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о доказана целебная сила произнесения и некоторых отдельных СОГЛАСНЫХ звуков (лучше их пропевать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, Н, 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лучшает работу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ечит кишечник, сердце, лег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ечит печ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лучшает дых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, Щ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ечат уш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ечит сердечные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8000" y="1989000"/>
            <a:ext cx="88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альчиковые иг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ют речь ребенка, двигательные качества, повышают координационные способности пальцев рук, соединяют пальцевую пластику с выразительным мелодическим и речевым интонированием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Двигательные упражнения, ритмопла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Фото0062"/>
          <p:cNvPicPr/>
          <p:nvPr/>
        </p:nvPicPr>
        <p:blipFill>
          <a:blip r:embed="rId1"/>
          <a:stretch/>
        </p:blipFill>
        <p:spPr>
          <a:xfrm>
            <a:off x="3924360" y="2349360"/>
            <a:ext cx="4910040" cy="368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M00073"/>
          <p:cNvPicPr/>
          <p:nvPr/>
        </p:nvPicPr>
        <p:blipFill>
          <a:blip r:embed="rId2"/>
          <a:stretch/>
        </p:blipFill>
        <p:spPr>
          <a:xfrm>
            <a:off x="395280" y="192240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2080057"/>
          <p:cNvPicPr/>
          <p:nvPr/>
        </p:nvPicPr>
        <p:blipFill>
          <a:blip r:embed="rId1"/>
          <a:stretch/>
        </p:blipFill>
        <p:spPr>
          <a:xfrm>
            <a:off x="250920" y="2060640"/>
            <a:ext cx="384480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Фото1267"/>
          <p:cNvPicPr/>
          <p:nvPr/>
        </p:nvPicPr>
        <p:blipFill>
          <a:blip r:embed="rId2"/>
          <a:stretch/>
        </p:blipFill>
        <p:spPr>
          <a:xfrm>
            <a:off x="4211640" y="2997360"/>
            <a:ext cx="4608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8000" y="1989000"/>
            <a:ext cx="88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Пение. Используется не только как один из наиболее любимых видов деятельности детей, но и как средство оздоровления. Занятия вокалом укрепляют и оздоровляют организм дете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о известно, что пение является одним из лучших дыхательных упражнений  - тренируется дыхательная мускулатура, дыхание, улучшается дренаж бронхов, увеличивается жизненная емкость легки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060280"/>
            <a:ext cx="878544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ь полезно, даже если нет слуха. Научившись выражать свое состояние голосом, человек получает средство для снятия внутреннего напряжения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вокальных занятий  дыхание становится более экономны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ый подбор дыхательных и голосовых упражнений обеспечивает и более качественное функционирование сердечнососудист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8000" y="1989000"/>
            <a:ext cx="88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Восприятие музыки. Изучен оздоровительный эффект классической музыки. Так, одни мелодии позволяют получить расслабляющий эффект, другие способствуют нормализации регуляторных функций: регуляции ритма сердечных сокращений и дыхания, формированию состояния уверенности; одни поднимают настроение, другие – для успокоения и умиротво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232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доровьесберегающих технологий на уроках музыки даёт возможность решать одну из важных задач, стоящих перед школой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здание условий для сохранения здоровья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Здоровье необходимо. Это базис счастья… Добыть здоровье проще, чем счастье. Природа милостива: она запрограммировала организм с большим запасом прочности, и нужно много стараний, чтобы этот запас свести к нулю… Если нельзя вырастить ребенка, чтобы он совсем не болел, то, во всяком случае, поддерживать его высокий уровень вполне возможно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.М. Амос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8000" y="1989000"/>
            <a:ext cx="88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ами такой музыкально-оздоровительной работы являютс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вышение уровня развития музыкальных и творческих способностей дет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абильность эмоционального благополучия каждого учени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вышение уровня речевого развит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нижение уровня заболеваем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абильность физической и умственной работоспособности во все сезоны года, не зависимо от пого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  ЗА  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23760" y="183348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ответствии с законом РФ «Об образовании» здоровье школьников отнесено к приоритетным направлениям государственной поли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(ЗОТ) – совокупность всех используемых в образовательном процессе приемов, методов, технологий, не только оберегающих здоровье учащихся и педагогов но и способствующих воспитанию у учащихся культуры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1413000"/>
            <a:ext cx="61437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ыкальное искусство наряду с выполнением воспитательно-эстетических функций, обладает мощным оздоровительно-развивающим потенциалом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0" y="2060640"/>
            <a:ext cx="89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узыки сам по себе – здоровьесберегающая технология. Особенностью урока музыки является организация разных форм музыкальной деятельности школьников. Каждый урок музыки содержит в себе оздоровительный эффект, препятствует развитию переутомления, не ухудшает здоровье, а способствует его сохранению, укреплению и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5300640"/>
            <a:ext cx="883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ая пословица глас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то много поет, того хворь не бер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90440" y="2060640"/>
            <a:ext cx="864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хорового пения применяются  следующие здоровьесберегающие техн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КАЛОТЕРАП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ТМО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АПИЯ  ТВОРЧЕ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КО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191628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тствие. Песенки-распевки. С них начинаются все уроки. Несложные добрые тексты и мелодия, состоящая из звуков мажорной гаммы, поднимают настроение, улучшают эмоциональный климат на уроке, подготавливают голос к пению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. Способствуют не только нормальному развитию голоса, но и служат охране голоса от заболевани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79280" y="189000"/>
            <a:ext cx="88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доровительные 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8000" y="206028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Речевые упражнения. Основная цель – выработка качественных, полноценных движений органов артикуля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лечебных свойствах отдельных звуков, произносимых голосом, знали испокон веков. С их помощью лечили самые различные заболе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080" y="2009520"/>
            <a:ext cx="9115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ассматривать лечебные звуки и звукосочетания в плане их «пропевания», то с учетом открытий в современной науки рекомендации в этой специфической области вокалотерапии будут следующи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17:39:01Z</dcterms:created>
  <dc:creator>Kab 2.18</dc:creator>
  <dc:description/>
  <dc:language>en-US</dc:language>
  <cp:lastModifiedBy>user-009</cp:lastModifiedBy>
  <dcterms:modified xsi:type="dcterms:W3CDTF">2015-12-23T06:13:14Z</dcterms:modified>
  <cp:revision>25</cp:revision>
  <dc:subject/>
  <dc:title>Шаблон</dc:title>
</cp:coreProperties>
</file>