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B95A-DEE3-4136-9A2E-C747813B1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1B85-90BF-4FCB-856F-42C46E03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F922-27F8-43A5-9CD5-E83F94DA8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0D4A-DE67-44A8-9960-432370EA1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F6C5-EA8C-4D9B-ABA1-E09F45CED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D7E7-AF5D-4FAB-89AD-B3DF4100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93D6-A7EE-4D3C-85D3-58485587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2AFB-2BD8-4A28-9925-8224DCDB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E5F6-5EDD-49D5-A6CC-B07DB06D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E8154-844F-41AF-9D86-4BDE47EC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6BEA-3A95-4C8F-8B43-6E0333BC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9E71-F280-4DB4-8BD4-8806C81E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5B19-29FA-4B91-88B8-0275B1C1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178C-BBB8-46A7-9B93-670A3ED0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1E3F-FDB2-4EF0-8638-91048CA0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CC1F3-6F24-4EFC-B0AD-6CD9F2689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45F4-544C-44C5-87F2-AFEF27A02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95C1-FCFB-4E44-87BF-FD51B0AA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3DE1-4A45-457C-A9ED-B21C22937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4282-D04E-4A0C-A979-5A8A0354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BB04-A266-4F0E-87F2-7C61187B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408E-5CEB-435E-9271-5F51B799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B7EA-0204-4941-A8E3-07A97E9C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1FD9-AE24-4244-AD83-18C3E6B8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E58E-48C9-4013-B866-3141CEE427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98F5-4252-4CE5-98E2-683A15B05C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1640" y="260280"/>
            <a:ext cx="7350120" cy="21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Аннотация</a:t>
            </a:r>
            <a:br>
              <a:rPr sz="3600"/>
            </a:b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Презентация разработана для урока математики в 7 классе </a:t>
            </a:r>
            <a:br>
              <a:rPr sz="2000"/>
            </a:b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на тему: «Свойства степени с натуральным показателем»</a:t>
            </a:r>
            <a:br>
              <a:rPr sz="2000"/>
            </a:b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для развития умения наблюдать, сравнивать, обобщать, классифицировать математические ситуации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77520" y="3571920"/>
            <a:ext cx="7566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дготовила учитель математики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рманова Ю.В. МБОУ «Салабайкасинская ООШ «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Проверь себя!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Verdana"/>
              </a:rPr>
              <a:t>Вариант 1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1.   а)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2.   б)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3.   а)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Verdana"/>
              </a:rPr>
              <a:t>Вариант 2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1.   б)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2.   б)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3.   а)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1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5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9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5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Итог урока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ыставление оценок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адание на до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Ответить на вопросы стр. 101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   № </a:t>
            </a: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450, № 453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10"/>
          <p:cNvSpPr txBox="1"/>
          <p:nvPr/>
        </p:nvSpPr>
        <p:spPr>
          <a:xfrm>
            <a:off x="1116000" y="1844640"/>
            <a:ext cx="684072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пасибо за ур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971280" y="2420640"/>
            <a:ext cx="7783560" cy="30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66"/>
                </a:solidFill>
                <a:latin typeface="Verdana"/>
              </a:rPr>
              <a:t>  </a:t>
            </a:r>
            <a:r>
              <a:rPr b="0" i="1" lang="ru-RU" sz="3200" spc="-1" strike="noStrike">
                <a:solidFill>
                  <a:srgbClr val="006666"/>
                </a:solidFill>
                <a:latin typeface="Verdana"/>
              </a:rPr>
              <a:t>«Пусть кто-нибудь попробует вычеркнуть из математики степени, и он увидит, что без них далеко не уедешь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66"/>
                </a:solidFill>
                <a:latin typeface="Verdana"/>
              </a:rPr>
              <a:t>                             </a:t>
            </a:r>
            <a:r>
              <a:rPr b="0" i="1" lang="ru-RU" sz="3200" spc="-1" strike="noStrike">
                <a:solidFill>
                  <a:srgbClr val="006666"/>
                </a:solidFill>
                <a:latin typeface="Verdana"/>
              </a:rPr>
              <a:t>М.В.Ломонос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Свойства степени с натуральным показателем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Цели и задачи урока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бобщить знания и умения по применению свойств степени с натуральным показателем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рименять знания для решения различных по сложности задач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азвитие настойчивости, мыслительной активности и творческой деятельност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971640" y="1498680"/>
            <a:ext cx="771192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формулируйте определение степени числа с натуральным показателе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формулируйте свойство умножения степеней с одинаковыми основаниям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формулируйте свойство деления степеней с одинаковыми основаниям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формулируйте свойство возведения степени в степен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формулируйте свойство возведения дроби в степен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формулируйте свойство возведения в степень произведен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WordArt 4"/>
          <p:cNvSpPr txBox="1"/>
          <p:nvPr/>
        </p:nvSpPr>
        <p:spPr>
          <a:xfrm>
            <a:off x="2195640" y="549360"/>
            <a:ext cx="4752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овторим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Мозговой штурм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4"/>
              <p:cNvSpPr txBox="1"/>
              <p:nvPr/>
            </p:nvSpPr>
            <p:spPr>
              <a:xfrm>
                <a:off x="900000" y="1700280"/>
                <a:ext cx="8244000" cy="439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: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  <m:r>
                          <m:t xml:space="preserve">: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: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  <m:r>
                          <m:t xml:space="preserve">: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b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Вычислительная пауза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4"/>
              <p:cNvSpPr txBox="1"/>
              <p:nvPr/>
            </p:nvSpPr>
            <p:spPr>
              <a:xfrm>
                <a:off x="826920" y="2060640"/>
                <a:ext cx="7921800" cy="39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Вычислите</m:t>
                        </m:r>
                        <m:r>
                          <m:t xml:space="preserve">:</m:t>
                        </m:r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9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7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7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p>
                            </m:sSup>
                          </m:den>
                        </m:f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б</m:t>
                        </m:r>
                        <m:r>
                          <m:t xml:space="preserve">)</m:t>
                        </m:r>
                        <m:f>
                          <m:num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t xml:space="preserve">8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5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5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Вычислит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значени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ыражения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заданном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значении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Найдит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значени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ыражения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cc99"/>
                </a:solidFill>
                <a:latin typeface="Arial"/>
              </a:rPr>
              <a:t>Физминутка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Задача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640" y="1827000"/>
            <a:ext cx="7927920" cy="43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а покраску куба затратили 40 грамм краски. Хватит ли 350 грамм краски, чтобы покрасить куб, ребро которого в три раза больше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6" name="Group 7"/>
          <p:cNvGrpSpPr/>
          <p:nvPr/>
        </p:nvGrpSpPr>
        <p:grpSpPr>
          <a:xfrm>
            <a:off x="3276720" y="3860640"/>
            <a:ext cx="2519280" cy="2592360"/>
            <a:chOff x="3276720" y="3860640"/>
            <a:chExt cx="2519280" cy="2592360"/>
          </a:xfrm>
        </p:grpSpPr>
        <p:sp>
          <p:nvSpPr>
            <p:cNvPr id="107" name="AutoShape 8"/>
            <p:cNvSpPr/>
            <p:nvPr/>
          </p:nvSpPr>
          <p:spPr>
            <a:xfrm>
              <a:off x="3276720" y="3882600"/>
              <a:ext cx="2519280" cy="2570400"/>
            </a:xfrm>
            <a:prstGeom prst="cube">
              <a:avLst>
                <a:gd name="adj" fmla="val 26962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Line 9"/>
            <p:cNvSpPr/>
            <p:nvPr/>
          </p:nvSpPr>
          <p:spPr>
            <a:xfrm flipH="1">
              <a:off x="3924360" y="5860080"/>
              <a:ext cx="1870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3968280" y="3860640"/>
              <a:ext cx="1080" cy="19771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977120"/>
                <a:gd name="textAreaBottom" fmla="*/ 1977480 h 1977120"/>
              </a:gdLst>
              <a:ahLst/>
              <a:rect l="textAreaLeft" t="textAreaTop" r="textAreaRight" b="textAreaBottom"/>
              <a:pathLst>
                <a:path w="1" h="1440">
                  <a:moveTo>
                    <a:pt x="0" y="0"/>
                  </a:moveTo>
                  <a:lnTo>
                    <a:pt x="0" y="144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3276720" y="5860080"/>
              <a:ext cx="691560" cy="592920"/>
            </a:xfrm>
            <a:custGeom>
              <a:avLst/>
              <a:gdLst>
                <a:gd name="textAreaLeft" fmla="*/ 0 w 691560"/>
                <a:gd name="textAreaRight" fmla="*/ 691920 w 691560"/>
                <a:gd name="textAreaTop" fmla="*/ 0 h 592920"/>
                <a:gd name="textAreaBottom" fmla="*/ 593280 h 592920"/>
              </a:gdLst>
              <a:ahLst/>
              <a:rect l="textAreaLeft" t="textAreaTop" r="textAreaRight" b="textAreaBottom"/>
              <a:pathLst>
                <a:path w="448" h="432">
                  <a:moveTo>
                    <a:pt x="448" y="0"/>
                  </a:moveTo>
                  <a:lnTo>
                    <a:pt x="0" y="4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00"/>
                </a:solidFill>
                <a:latin typeface="Arial"/>
              </a:rPr>
              <a:t>Тест</a:t>
            </a:r>
            <a:endParaRPr b="0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7"/>
              <p:cNvSpPr txBox="1"/>
              <p:nvPr/>
            </p:nvSpPr>
            <p:spPr>
              <a:xfrm>
                <a:off x="826920" y="2492280"/>
                <a:ext cx="3713400" cy="371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ычислить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7</m:t>
                                </m:r>
                              </m:e>
                              <m:sup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7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7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 </m:t>
                        </m:r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7</m:t>
                        </m:r>
                        <m:r>
                          <m:t xml:space="preserve"> </m:t>
                        </m:r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Упростить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: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 </m:t>
                        </m:r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в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аком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ыполняется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равенство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5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</m:e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 </m:t>
                        </m:r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 </m:t>
                        </m:r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11"/>
              <p:cNvSpPr txBox="1"/>
              <p:nvPr/>
            </p:nvSpPr>
            <p:spPr>
              <a:xfrm>
                <a:off x="4932360" y="2565360"/>
                <a:ext cx="3776760" cy="377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ычислить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5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5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5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8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 </m:t>
                        </m:r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Упростить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: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 </m:t>
                        </m:r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в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аком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ыполняется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равенств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х</m:t>
                        </m:r>
                        <m:r>
                          <m:t xml:space="preserve">: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 </m:t>
                        </m:r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 </m:t>
                        </m:r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4" name="Text Box 14"/>
          <p:cNvSpPr/>
          <p:nvPr/>
        </p:nvSpPr>
        <p:spPr>
          <a:xfrm>
            <a:off x="1258920" y="177336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Verdana"/>
              </a:rPr>
              <a:t>Вариант 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5219640" y="178740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Verdana"/>
              </a:rPr>
              <a:t>Вариант 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06:19:43Z</dcterms:created>
  <dc:creator>user</dc:creator>
  <dc:description/>
  <dc:language>en-US</dc:language>
  <cp:lastModifiedBy>EDWARD</cp:lastModifiedBy>
  <dcterms:modified xsi:type="dcterms:W3CDTF">2013-11-05T17:53:11Z</dcterms:modified>
  <cp:revision>21</cp:revision>
  <dc:subject/>
  <dc:title>Свойства степени с натуральным показателем</dc:title>
</cp:coreProperties>
</file>