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E4B5-7B17-46F9-8385-1259A84423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0155-A39B-470A-A59F-5EAC927DF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1D1-4D83-417C-B5D3-3AA3914B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9B0-65AE-43C6-9E8D-6A9608D5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98219-CD18-4BFA-986B-9CE3771A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CC925-C1D0-4928-80AA-0CF9BAF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AF9EF-2698-44AA-BFC7-D89968A9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98377-DF0C-4CB4-9725-DD3B5AB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58DE9-358F-4174-8BB5-3B919A55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25D2F-17C3-4B07-81DE-860C7FC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BAFFC-CF5B-4E45-BF9C-8E25127D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9FC8A-7670-4072-9723-DBEA8049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066F5-5D47-4051-AC4F-CDBE473B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E67-5441-438E-8E9C-497CCCA8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F3E-C69F-43DF-807C-32F0A5D2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0E55-CF11-4D0E-BA79-C8252D46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ADD5-D5D0-4525-A75C-7D8BA21E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E930-DDDC-4562-B0C1-98CF66AF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1C71-C3B0-45AC-8D05-A20650E5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934E-DE76-4BCE-9BC9-C80B383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08E2-BC5F-4119-9E5B-00BB8429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833-8D08-4720-B16D-39DCAE2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5FB-99EC-48D7-8E06-C7E1CF31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E32F-7180-4673-8E5B-F428913A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6A4-5542-4B32-BEBD-BFF20F43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1C1B-43C5-4D23-AA83-831852E1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4F1F-C3F0-431A-A21F-38E8D8E3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BA7-359E-4B7C-A120-5BD75CD1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E4EE6-E004-48A5-B3EE-F3A22503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2E872-B08A-490A-A19F-C273965C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C048D-5412-4DFD-B76D-EE431BF6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BFA57-9D5C-483B-864F-2320611D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07F76-CE82-4442-8AD8-AC5F94D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008-3EDD-4D57-8E8B-C55E4A4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3B342-F211-4A88-B5A5-D7F6EE85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9339D-31F3-46F5-93BA-56E4D0D6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FB53B-46DB-4871-A9D1-EBC465F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5A721-A2C8-49BF-9EB6-402B789F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03CBC-97EC-4C04-8B42-E8A4E68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4D067-E4FF-477E-9C47-0FD5163E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ECFFA-D03B-4905-B70A-647DB580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3242-62CE-41D8-8DA1-8C669C2B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B9B5-80A3-4D88-BC48-1F84DD1E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1D540-F5E5-49A5-960F-E8C40F6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908-49EB-4285-BDEA-BDD4A351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E184-91F2-454B-977C-2B45E3D8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184B-EC49-43A7-9B31-EBB63D84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2C22-9BD2-4845-937E-091932AD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8D2B-1649-4D0E-A5D8-08463528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EC539-C62A-4646-9044-79DBF70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C975-4265-4878-9894-0975FC1A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20D7-557E-4843-883E-8C06183B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6184-2CD5-422D-BC9C-B98A33E6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761E1-6513-4728-897C-3AC61C24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711FB-A201-4C77-8C0F-AB1F1F21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F4C-8AD9-4121-BB84-07FD252B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4D706-983F-4991-B277-3E6A5600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F8FB9-6FDD-4962-B6D6-CE06C118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533BF-7C75-48BE-B470-06EF0320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3FF88-CE03-4A95-8CAC-56357794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AF39B-673B-4FCD-A43D-B2BF7B37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679B5-C049-45D7-93F8-FD6000CB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BB40A-979F-483B-9730-701F48D4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0DFE9-93A3-47E9-9C88-1EBEE7D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3FF20-08BC-4572-93DC-455BD5C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554F7-3177-473C-8836-7AF0BCFA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9FF-2331-4E92-8CD8-8569530D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84567-9C57-4E40-9F35-3E54BCF4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6E48B-0052-4A59-A370-AD98DBA1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478B7-4346-4AFE-BBCC-A68C7C6D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34CCE-8DC8-41F1-B63F-C835D709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F8AFB-65FD-4568-B9C8-9814A31B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00E65-19F6-4350-A91F-4AB15B42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4A449-3E67-48E8-BBAC-0DC1A42D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5EA03-6F26-4C83-B68C-25E81E5C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79272-787F-4678-89DD-0E3A2E69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CDCDA-6399-4DAC-9A28-6DC751F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795-A19B-4073-8067-D98F6682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BBFA1-4663-4941-82B7-5CF1D49B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930CB-DE6F-43F0-A840-10554207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B7F8E-3F72-4E45-B888-F44CEDFF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4B9CC-2ACA-4BFE-95CA-E72D4BF2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85BAD-BC82-4204-AB5B-B2802120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F4769-7B3E-45B7-99A7-EFCF39E8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C4499-9257-4E47-92C0-476CF9CC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7C159-D281-483C-88A9-B260EAE1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DEF60-DFF4-4A90-953A-16D7F73F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60F4F-DC54-4EF2-8756-80ED4C3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01D-89F6-4513-BB54-6E4CB9B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D8EEA-0845-42CB-83A8-A9892D5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966B0C-197F-4A79-845F-739135D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8B44C-C0E8-4580-A2AB-DF87A12E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CBA74-F52A-41AA-B2A3-4B2AED0C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FAD2D-F2E5-4AEE-9CAA-0DD3DFCE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936733-583E-47C7-A472-9E9F9986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6AFBA-A827-42D1-B45D-478EC15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1196E-9922-4A56-84A1-937A68F5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01594C-2D18-4E00-94AA-DBCB938E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21B1F-24FA-45CA-818C-61047D92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5B8-8DF0-4D96-8D35-BD0A3D4A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3A60E9-CC6B-4C3E-8F90-58241687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E98EA-2653-4D40-8213-0E9D618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6EB12-E068-4A0D-8A61-5FABF7CF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54B5DE-D8D7-42F6-8F6E-8B97E23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49176F-9C03-4723-AB75-8B62B2B3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791EF8-309D-4C72-863E-B0488A20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AC823-433A-4E90-824A-FAF5A07E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FF0D4-EEEB-4D12-B7F3-ECBF169B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48C0F-BB26-4833-BD3A-69A193AA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AA433-5477-4F50-A48D-A046CEB4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DCAF-552B-4AA1-B2A1-881CBDC480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C93F-98EC-4F31-95CB-DDD7931691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81DE-B9D4-4B4D-BFB0-0C2712BB53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FFF-5868-489C-BDAF-49F9EEB3B8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E8D9-6826-46B4-9BB2-1C9DBABDE7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F925-01E8-4DA4-B8DC-142A598DB1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5858-C3A3-47B9-9DBF-58314F3DC6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56FF-480B-4DAA-B81C-094555CD1A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18D6-FC5D-4A40-87E3-C33C5B9B71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72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СТЕПЕНИ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 НАТУРАЛЬНЫМ ПОКАЗАТЕЛЕМ.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2428920" y="400032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(урок обобщения и систематизации знаний по теме «Степень числа с натуральным показателем»  в 7 классе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75f6d"/>
                </a:solidFill>
                <a:latin typeface="Century Schoolbook"/>
              </a:rPr>
              <a:t>Разработка учителя математики Ермановой Ю.В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8" name="Picture 4" descr="image002"/>
          <p:cNvPicPr/>
          <p:nvPr/>
        </p:nvPicPr>
        <p:blipFill>
          <a:blip r:embed="rId1"/>
          <a:stretch/>
        </p:blipFill>
        <p:spPr>
          <a:xfrm>
            <a:off x="642960" y="3857760"/>
            <a:ext cx="14097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Monotype Corsiva"/>
              </a:rPr>
              <a:t>ВОТ ЭТО НОМЕР!!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3" name="Picture 4" descr="Com04"/>
          <p:cNvPicPr/>
          <p:nvPr/>
        </p:nvPicPr>
        <p:blipFill>
          <a:blip r:embed="rId1"/>
          <a:stretch/>
        </p:blipFill>
        <p:spPr>
          <a:xfrm>
            <a:off x="8124840" y="5715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18" descr="image3"/>
          <p:cNvPicPr/>
          <p:nvPr/>
        </p:nvPicPr>
        <p:blipFill>
          <a:blip r:embed="rId2"/>
          <a:stretch/>
        </p:blipFill>
        <p:spPr>
          <a:xfrm>
            <a:off x="0" y="571680"/>
            <a:ext cx="842976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571680"/>
            <a:ext cx="749952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Monotype Corsiva"/>
              </a:rPr>
              <a:t>А ЭТО СЛАБО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6" name="Picture 4" descr="Com04"/>
          <p:cNvPicPr/>
          <p:nvPr/>
        </p:nvPicPr>
        <p:blipFill>
          <a:blip r:embed="rId1"/>
          <a:stretch/>
        </p:blipFill>
        <p:spPr>
          <a:xfrm>
            <a:off x="8124840" y="5715000"/>
            <a:ext cx="101916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7" name=""/>
          <p:cNvGraphicFramePr/>
          <p:nvPr/>
        </p:nvGraphicFramePr>
        <p:xfrm>
          <a:off x="0" y="714240"/>
          <a:ext cx="9144000" cy="492948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704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*2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*2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*2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*2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*2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*2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*2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5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*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*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*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*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*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*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*3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57480" y="4143240"/>
            <a:ext cx="64292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575f6d"/>
                </a:solidFill>
                <a:latin typeface="Monotype Corsiva"/>
              </a:rPr>
              <a:t>ДОМАШНЕЕ </a:t>
            </a:r>
            <a:br>
              <a:rPr sz="6600"/>
            </a:br>
            <a:r>
              <a:rPr b="1" lang="ru-RU" sz="6600" spc="-1" strike="noStrike">
                <a:solidFill>
                  <a:srgbClr val="575f6d"/>
                </a:solidFill>
                <a:latin typeface="Monotype Corsiva"/>
              </a:rPr>
              <a:t>ЗАДАНИЕ : </a:t>
            </a:r>
            <a:br>
              <a:rPr sz="6600"/>
            </a:b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1. ОТГАДАТЬ КРОССВОРД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2. СОСТАВИТЬ РЕКЛАМУ СТЕПЕНИ ИЛИ НАЙТИ ИСТОРИЧЕСКУЮ СПРАВКУ О СТЕПЕНИ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3. СОСТАВИТЬ И РЕШИТЬ 3-5 ПРОСТЫХ И СЛОЖНЫХ ЗАДАНИЙ С ИСПОЛЬЗОВАНИЕМ ВСЕХ СВОЙСТВ СТЕПЕНИ И РЕШИТЬ ИХ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9" name="Picture 6" descr="3D_bookworm"/>
          <p:cNvPicPr/>
          <p:nvPr/>
        </p:nvPicPr>
        <p:blipFill>
          <a:blip r:embed="rId1"/>
          <a:stretch/>
        </p:blipFill>
        <p:spPr>
          <a:xfrm>
            <a:off x="5519880" y="3286080"/>
            <a:ext cx="3624120" cy="3170160"/>
          </a:xfrm>
          <a:prstGeom prst="rect">
            <a:avLst/>
          </a:prstGeom>
          <a:ln w="0">
            <a:noFill/>
          </a:ln>
        </p:spPr>
      </p:pic>
      <p:grpSp>
        <p:nvGrpSpPr>
          <p:cNvPr id="550" name="Улыбающееся лицо 3"/>
          <p:cNvGrpSpPr/>
          <p:nvPr/>
        </p:nvGrpSpPr>
        <p:grpSpPr>
          <a:xfrm>
            <a:off x="4297320" y="5462640"/>
            <a:ext cx="1335240" cy="1266840"/>
            <a:chOff x="4297320" y="5462640"/>
            <a:chExt cx="1335240" cy="1266840"/>
          </a:xfrm>
        </p:grpSpPr>
        <p:pic>
          <p:nvPicPr>
            <p:cNvPr id="551" name="Улыбающееся лицо 3" descr=""/>
            <p:cNvPicPr/>
            <p:nvPr/>
          </p:nvPicPr>
          <p:blipFill>
            <a:blip r:embed="rId2"/>
            <a:stretch/>
          </p:blipFill>
          <p:spPr>
            <a:xfrm>
              <a:off x="4297320" y="5462640"/>
              <a:ext cx="13352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4535640" y="5667480"/>
              <a:ext cx="8586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Улыбающееся лицо 4"/>
          <p:cNvSpPr/>
          <p:nvPr/>
        </p:nvSpPr>
        <p:spPr>
          <a:xfrm>
            <a:off x="857160" y="5500800"/>
            <a:ext cx="1214640" cy="1143000"/>
          </a:xfrm>
          <a:prstGeom prst="smileyFace">
            <a:avLst>
              <a:gd name="adj" fmla="val -4652"/>
            </a:avLst>
          </a:prstGeom>
          <a:solidFill>
            <a:srgbClr val="fecee5"/>
          </a:solidFill>
          <a:ln w="1260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Улыбающееся лицо 5"/>
          <p:cNvSpPr/>
          <p:nvPr/>
        </p:nvSpPr>
        <p:spPr>
          <a:xfrm>
            <a:off x="2571840" y="5500800"/>
            <a:ext cx="1214280" cy="1143000"/>
          </a:xfrm>
          <a:prstGeom prst="smileyFace">
            <a:avLst>
              <a:gd name="adj" fmla="val -513"/>
            </a:avLst>
          </a:prstGeom>
          <a:solidFill>
            <a:srgbClr val="cffdf5"/>
          </a:solidFill>
          <a:ln w="1260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ЛЮДИ ПРИДУМАЛИ СТЕПЕНЬ С НАТУРАЛЬНЫМ ПОКАЗАТЕЛЕМ ОЧЕНЬ ДАВНО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13840" y="2643120"/>
            <a:ext cx="8075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ревнегреческий ученый  Пифагор придумал, чт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ое число можно представить в виде фигур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2411280" y="33336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 интерес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928960" y="4143240"/>
          <a:ext cx="4786200" cy="2475000"/>
        </p:xfrm>
        <a:graphic>
          <a:graphicData uri="http://schemas.openxmlformats.org/drawingml/2006/table">
            <a:tbl>
              <a:tblPr/>
              <a:tblGrid>
                <a:gridCol w="579240"/>
                <a:gridCol w="579600"/>
                <a:gridCol w="325440"/>
                <a:gridCol w="434880"/>
                <a:gridCol w="433440"/>
                <a:gridCol w="434880"/>
                <a:gridCol w="327240"/>
                <a:gridCol w="417600"/>
                <a:gridCol w="417240"/>
                <a:gridCol w="419040"/>
                <a:gridCol w="41760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9" name="Picture 240" descr="3D_bookworm"/>
          <p:cNvPicPr/>
          <p:nvPr/>
        </p:nvPicPr>
        <p:blipFill>
          <a:blip r:embed="rId1"/>
          <a:stretch/>
        </p:blipFill>
        <p:spPr>
          <a:xfrm>
            <a:off x="357120" y="500040"/>
            <a:ext cx="1440000" cy="1081080"/>
          </a:xfrm>
          <a:prstGeom prst="rect">
            <a:avLst/>
          </a:prstGeom>
          <a:ln w="0">
            <a:noFill/>
          </a:ln>
        </p:spPr>
      </p:pic>
      <p:sp>
        <p:nvSpPr>
          <p:cNvPr id="560" name="TextBox 6"/>
          <p:cNvSpPr/>
          <p:nvPr/>
        </p:nvSpPr>
        <p:spPr>
          <a:xfrm>
            <a:off x="3071880" y="36432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глийский математик  С. Стивин придумал запись для обозначения степени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3(3) + 5(2) – 4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ременная запись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+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йские ученые открыли и оперировали степенями с натуральными показателями до 9, называя их с помощью комбинации трех сл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а»  - 2 степень, от слова «варга» - квадра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гха»  - 3 степень, от слова «гхана» - куб и « гхата», указывающую на сложение показат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прмер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4-я степень «ва-ва»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-я степень «ва-гха-гхата»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6-я степнь - «ва-гха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WordArt 4"/>
          <p:cNvSpPr txBox="1"/>
          <p:nvPr/>
        </p:nvSpPr>
        <p:spPr>
          <a:xfrm>
            <a:off x="971640" y="33336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 интерес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3" name="Picture 6" descr="3D_bookworm"/>
          <p:cNvPicPr/>
          <p:nvPr/>
        </p:nvPicPr>
        <p:blipFill>
          <a:blip r:embed="rId1"/>
          <a:stretch/>
        </p:blipFill>
        <p:spPr>
          <a:xfrm>
            <a:off x="7561440" y="5072040"/>
            <a:ext cx="158256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17 веке английским ученым Джоном Валленсом были придуманы современные обозначения.  А вот заслуга в их признании и распространении принадлежит И. Ньютону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н стал использовать их обозначения в своих работах, и таким образом они прижилис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вычислительных машин использование 10 цифровых знаков оказалось очень неудобным по техническим причинам. Самой удобной и простой для ЭВМ оказалась двоичная позиционная система, использующая всего 2 цифры – 0 и 1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пример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7 =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+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 0 +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+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= 11011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Fax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900000" y="277920"/>
            <a:ext cx="720108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 интерес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6" name="Picture 5" descr="chel11"/>
          <p:cNvPicPr/>
          <p:nvPr/>
        </p:nvPicPr>
        <p:blipFill>
          <a:blip r:embed="rId1"/>
          <a:stretch/>
        </p:blipFill>
        <p:spPr>
          <a:xfrm>
            <a:off x="7715160" y="5143680"/>
            <a:ext cx="122400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Monotype Corsiva"/>
              </a:rPr>
              <a:t>СЮРПРИЗ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68" name="Picture 4" descr="img6"/>
          <p:cNvPicPr/>
          <p:nvPr/>
        </p:nvPicPr>
        <p:blipFill>
          <a:blip r:embed="rId1"/>
          <a:srcRect l="0" t="6855" r="0" b="0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569" name="TextBox 4"/>
          <p:cNvSpPr/>
          <p:nvPr/>
        </p:nvSpPr>
        <p:spPr>
          <a:xfrm>
            <a:off x="285840" y="150012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парта                    2 парта                    3 п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ая соединительная линия 5"/>
          <p:cNvSpPr/>
          <p:nvPr/>
        </p:nvSpPr>
        <p:spPr>
          <a:xfrm flipV="1">
            <a:off x="713520" y="3142800"/>
            <a:ext cx="180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УРОКА: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57120" y="1714680"/>
            <a:ext cx="81360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бобщить знания о степени с натуральным показател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акрепить и усовершенствовать навыки простейших преобразований выражений, содержащих степени с натуральным показателе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память и логическое мышле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7400" indent="-347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1" name="Picture 4" descr="302"/>
          <p:cNvPicPr/>
          <p:nvPr/>
        </p:nvPicPr>
        <p:blipFill>
          <a:blip r:embed="rId1"/>
          <a:stretch/>
        </p:blipFill>
        <p:spPr>
          <a:xfrm>
            <a:off x="6643800" y="357120"/>
            <a:ext cx="16383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entury Schoolbook"/>
              </a:rPr>
              <a:t>ОПРЕДЕЛЕНИЕ: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СТЕПЕНЬЮ ЧИСЛА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С НАТУРАЛЬНЫМ ПОКАЗАТЕЛЕМ </a:t>
            </a:r>
            <a:r>
              <a:rPr b="1" i="1" lang="en-US" sz="25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, БОЛЬШИМ 1, НАЗЫВАЕТСЯ СУММА  </a:t>
            </a:r>
            <a:r>
              <a:rPr b="1" i="1" lang="en-US" sz="25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МНОЖИТЕЛЕЙ, КАЖДЫЙ ИЗ КОТОРЫХ РАВЕН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 А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n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Lucida Fax"/>
              </a:rPr>
              <a:t>а +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Fax"/>
              </a:rPr>
              <a:t>а +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Fax"/>
              </a:rPr>
              <a:t>а +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Fax"/>
              </a:rPr>
              <a:t>а…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Lucida Fax"/>
              </a:rPr>
              <a:t>а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Fax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Lucida Fax"/>
              </a:rPr>
              <a:t> ра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– показатель степен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– основание степен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AutoShape 4"/>
          <p:cNvSpPr/>
          <p:nvPr/>
        </p:nvSpPr>
        <p:spPr>
          <a:xfrm rot="16200000">
            <a:off x="5001840" y="2349000"/>
            <a:ext cx="217800" cy="2519280"/>
          </a:xfrm>
          <a:custGeom>
            <a:avLst/>
            <a:gdLst>
              <a:gd name="textAreaLeft" fmla="*/ 139320 w 217800"/>
              <a:gd name="textAreaRight" fmla="*/ 218160 w 2178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5"/>
          <p:cNvSpPr/>
          <p:nvPr/>
        </p:nvSpPr>
        <p:spPr>
          <a:xfrm>
            <a:off x="3143160" y="292896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Fax"/>
              </a:rPr>
              <a:t>=а • а • а • а…•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500040" y="428760"/>
          <a:ext cx="7958160" cy="6024600"/>
        </p:xfrm>
        <a:graphic>
          <a:graphicData uri="http://schemas.openxmlformats.org/drawingml/2006/table">
            <a:tbl>
              <a:tblPr/>
              <a:tblGrid>
                <a:gridCol w="2651040"/>
                <a:gridCol w="2656080"/>
                <a:gridCol w="2651040"/>
              </a:tblGrid>
              <a:tr h="19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НИ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И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НЫЙ СЧ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 ЯЩ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НОГО ИСТО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ЭТО НОМЕР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это СЛАБО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РПРИ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Picture 32" descr="S24"/>
          <p:cNvPicPr/>
          <p:nvPr/>
        </p:nvPicPr>
        <p:blipFill>
          <a:blip r:embed="rId1"/>
          <a:stretch/>
        </p:blipFill>
        <p:spPr>
          <a:xfrm>
            <a:off x="7500960" y="5786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3" descr="S24"/>
          <p:cNvPicPr/>
          <p:nvPr/>
        </p:nvPicPr>
        <p:blipFill>
          <a:blip r:embed="rId2"/>
          <a:stretch/>
        </p:blipFill>
        <p:spPr>
          <a:xfrm>
            <a:off x="2571840" y="185724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2" descr="Pifagor"/>
          <p:cNvPicPr/>
          <p:nvPr/>
        </p:nvPicPr>
        <p:blipFill>
          <a:blip r:embed="rId3"/>
          <a:stretch/>
        </p:blipFill>
        <p:spPr>
          <a:xfrm>
            <a:off x="7858080" y="5357880"/>
            <a:ext cx="992160" cy="1297080"/>
          </a:xfrm>
          <a:prstGeom prst="rect">
            <a:avLst/>
          </a:prstGeom>
          <a:ln w="0">
            <a:noFill/>
          </a:ln>
        </p:spPr>
      </p:pic>
      <p:cxnSp>
        <p:nvCxnSpPr>
          <p:cNvPr id="490" name="Прямая со стрелкой 6"/>
          <p:cNvCxnSpPr/>
          <p:nvPr/>
        </p:nvCxnSpPr>
        <p:spPr>
          <a:xfrm flipH="1">
            <a:off x="2785320" y="2070720"/>
            <a:ext cx="3358440" cy="572040"/>
          </a:xfrm>
          <a:prstGeom prst="straightConnector1">
            <a:avLst/>
          </a:prstGeom>
          <a:ln w="38160">
            <a:solidFill>
              <a:srgbClr val="292400"/>
            </a:solidFill>
            <a:miter/>
            <a:tailEnd len="med" type="arrow" w="med"/>
          </a:ln>
        </p:spPr>
      </p:cxnSp>
      <p:cxnSp>
        <p:nvCxnSpPr>
          <p:cNvPr id="491" name="Прямая со стрелкой 7"/>
          <p:cNvCxnSpPr/>
          <p:nvPr/>
        </p:nvCxnSpPr>
        <p:spPr>
          <a:xfrm>
            <a:off x="2856600" y="2714760"/>
            <a:ext cx="857880" cy="23580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2" name="Прямая со стрелкой 11"/>
          <p:cNvCxnSpPr/>
          <p:nvPr/>
        </p:nvCxnSpPr>
        <p:spPr>
          <a:xfrm>
            <a:off x="2857320" y="1571760"/>
            <a:ext cx="3429720" cy="357840"/>
          </a:xfrm>
          <a:prstGeom prst="straightConnector1">
            <a:avLst/>
          </a:prstGeom>
          <a:ln w="38160">
            <a:solidFill>
              <a:srgbClr val="292400"/>
            </a:solidFill>
            <a:miter/>
            <a:tailEnd len="med" type="arrow" w="med"/>
          </a:ln>
        </p:spPr>
      </p:cxnSp>
      <p:cxnSp>
        <p:nvCxnSpPr>
          <p:cNvPr id="493" name="Прямая со стрелкой 13"/>
          <p:cNvCxnSpPr/>
          <p:nvPr/>
        </p:nvCxnSpPr>
        <p:spPr>
          <a:xfrm flipV="1">
            <a:off x="4929120" y="3857040"/>
            <a:ext cx="1286640" cy="929160"/>
          </a:xfrm>
          <a:prstGeom prst="straightConnector1">
            <a:avLst/>
          </a:prstGeom>
          <a:ln w="38160">
            <a:solidFill>
              <a:srgbClr val="292400"/>
            </a:solidFill>
            <a:miter/>
            <a:tailEnd len="med" type="arrow" w="med"/>
          </a:ln>
        </p:spPr>
      </p:cxnSp>
      <p:cxnSp>
        <p:nvCxnSpPr>
          <p:cNvPr id="494" name="Прямая со стрелкой 24"/>
          <p:cNvCxnSpPr/>
          <p:nvPr/>
        </p:nvCxnSpPr>
        <p:spPr>
          <a:xfrm flipH="1" flipV="1">
            <a:off x="4785480" y="1356480"/>
            <a:ext cx="1429560" cy="1358280"/>
          </a:xfrm>
          <a:prstGeom prst="straightConnector1">
            <a:avLst/>
          </a:prstGeom>
          <a:ln w="38160">
            <a:solidFill>
              <a:srgbClr val="292400"/>
            </a:solidFill>
            <a:miter/>
            <a:tailEnd len="med" type="arrow" w="med"/>
          </a:ln>
        </p:spPr>
      </p:cxnSp>
      <p:cxnSp>
        <p:nvCxnSpPr>
          <p:cNvPr id="495" name="Прямая со стрелкой 28"/>
          <p:cNvCxnSpPr/>
          <p:nvPr/>
        </p:nvCxnSpPr>
        <p:spPr>
          <a:xfrm flipH="1">
            <a:off x="2571480" y="1999800"/>
            <a:ext cx="1000800" cy="2786760"/>
          </a:xfrm>
          <a:prstGeom prst="straightConnector1">
            <a:avLst/>
          </a:prstGeom>
          <a:ln w="38160">
            <a:solidFill>
              <a:srgbClr val="292400"/>
            </a:solidFill>
            <a:miter/>
            <a:tailEnd len="med" type="arrow" w="med"/>
          </a:ln>
        </p:spPr>
      </p:cxnSp>
      <p:cxnSp>
        <p:nvCxnSpPr>
          <p:cNvPr id="496" name="Прямая со стрелкой 30"/>
          <p:cNvCxnSpPr/>
          <p:nvPr/>
        </p:nvCxnSpPr>
        <p:spPr>
          <a:xfrm>
            <a:off x="2928960" y="6000840"/>
            <a:ext cx="3643920" cy="2160"/>
          </a:xfrm>
          <a:prstGeom prst="straightConnector1">
            <a:avLst/>
          </a:prstGeom>
          <a:ln w="38160">
            <a:solidFill>
              <a:srgbClr val="2924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571680" y="35712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СПОМНИ</a:t>
            </a:r>
            <a:r>
              <a:rPr b="1" lang="ru-RU" sz="2400" spc="-1" strike="noStrike">
                <a:solidFill>
                  <a:srgbClr val="006600"/>
                </a:solidFill>
                <a:latin typeface="Century Schoolbook"/>
              </a:rPr>
              <a:t> СВОЙСТВ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6600"/>
                </a:solidFill>
                <a:latin typeface="Century Schoolbook"/>
              </a:rPr>
              <a:t>СТЕПЕНИ И ПРОДОЛЖ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6600"/>
                </a:solidFill>
                <a:latin typeface="Century Schoolbook"/>
              </a:rPr>
              <a:t>ФОРМУЛ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928800" y="5429160"/>
            <a:ext cx="32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: m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3929040" y="54291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6000" spc="-1" strike="noStrike" baseline="30000">
                <a:solidFill>
                  <a:srgbClr val="ff0000"/>
                </a:solidFill>
                <a:latin typeface="Times New Roman"/>
              </a:rPr>
              <a:t>x-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1571760" y="421488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xy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3857760" y="42861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6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6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1500120" y="3284640"/>
            <a:ext cx="24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(а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7"/>
          <p:cNvSpPr/>
          <p:nvPr/>
        </p:nvSpPr>
        <p:spPr>
          <a:xfrm>
            <a:off x="3857760" y="34290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en-US" sz="6000" spc="-1" strike="noStrike" baseline="30000">
                <a:solidFill>
                  <a:srgbClr val="ff0000"/>
                </a:solidFill>
                <a:latin typeface="Times New Roman"/>
              </a:rPr>
              <a:t>mk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8"/>
          <p:cNvSpPr/>
          <p:nvPr/>
        </p:nvSpPr>
        <p:spPr>
          <a:xfrm>
            <a:off x="1571760" y="2071800"/>
            <a:ext cx="330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3929040" y="2143080"/>
            <a:ext cx="200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6000" spc="-1" strike="noStrike" baseline="30000">
                <a:solidFill>
                  <a:srgbClr val="ff0000"/>
                </a:solidFill>
                <a:latin typeface="Times New Roman"/>
              </a:rPr>
              <a:t>x+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857520" y="500040"/>
            <a:ext cx="86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СОЕДИНИ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СТРЕЛКАМИ СООТВЕТСТВУЮЩИЕ ЧАСТИ ВЫСКАЗЫВАНИЙ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Text Box 75"/>
          <p:cNvSpPr/>
          <p:nvPr/>
        </p:nvSpPr>
        <p:spPr>
          <a:xfrm>
            <a:off x="214200" y="1500120"/>
            <a:ext cx="371484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умножении степеней с одинаковыми основания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6"/>
          <p:cNvSpPr/>
          <p:nvPr/>
        </p:nvSpPr>
        <p:spPr>
          <a:xfrm>
            <a:off x="214200" y="2500200"/>
            <a:ext cx="378648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делении степеней с одинаковыми основания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7"/>
          <p:cNvSpPr/>
          <p:nvPr/>
        </p:nvSpPr>
        <p:spPr>
          <a:xfrm>
            <a:off x="214200" y="3429000"/>
            <a:ext cx="2592360" cy="7038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возведении степени в степен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8"/>
          <p:cNvSpPr/>
          <p:nvPr/>
        </p:nvSpPr>
        <p:spPr>
          <a:xfrm>
            <a:off x="214200" y="4429080"/>
            <a:ext cx="364356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возведении произведения в степен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9"/>
          <p:cNvSpPr/>
          <p:nvPr/>
        </p:nvSpPr>
        <p:spPr>
          <a:xfrm>
            <a:off x="4754520" y="1500120"/>
            <a:ext cx="4032360" cy="862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ание остается прежн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казатели перемнож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0"/>
          <p:cNvSpPr/>
          <p:nvPr/>
        </p:nvSpPr>
        <p:spPr>
          <a:xfrm>
            <a:off x="4786200" y="2637000"/>
            <a:ext cx="4000680" cy="10087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эту степень возводят каждый множитель и результаты перемнож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1"/>
          <p:cNvSpPr/>
          <p:nvPr/>
        </p:nvSpPr>
        <p:spPr>
          <a:xfrm>
            <a:off x="4786200" y="3929040"/>
            <a:ext cx="4000680" cy="862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ание остается прежн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казатели склады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4"/>
          <p:cNvSpPr/>
          <p:nvPr/>
        </p:nvSpPr>
        <p:spPr>
          <a:xfrm>
            <a:off x="4786200" y="5143680"/>
            <a:ext cx="4000680" cy="8625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ание остается преж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казатели вычит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66"/>
          <p:cNvSpPr/>
          <p:nvPr/>
        </p:nvSpPr>
        <p:spPr>
          <a:xfrm>
            <a:off x="8532720" y="6308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3837"/>
                </a:moveTo>
                <a:lnTo>
                  <a:pt x="15564" y="6448"/>
                </a:ln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lnTo>
                  <a:pt x="19951" y="10800"/>
                </a:lnTo>
                <a:lnTo>
                  <a:pt x="18297" y="10800"/>
                </a:lnTo>
                <a:lnTo>
                  <a:pt x="18297" y="17989"/>
                </a:lnTo>
                <a:lnTo>
                  <a:pt x="7679" y="17989"/>
                </a:lnTo>
                <a:lnTo>
                  <a:pt x="7679" y="10800"/>
                </a:lnTo>
                <a:lnTo>
                  <a:pt x="6025" y="10800"/>
                </a:lnTo>
                <a:close/>
              </a:path>
              <a:path fill="darkenLess" w="25976" h="21600">
                <a:moveTo>
                  <a:pt x="15564" y="6448"/>
                </a:move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close/>
              </a:path>
              <a:path fill="darkenLess" w="25976" h="21600">
                <a:moveTo>
                  <a:pt x="12065" y="14299"/>
                </a:moveTo>
                <a:lnTo>
                  <a:pt x="13911" y="14299"/>
                </a:lnTo>
                <a:lnTo>
                  <a:pt x="13911" y="17989"/>
                </a:lnTo>
                <a:lnTo>
                  <a:pt x="18297" y="17989"/>
                </a:lnTo>
                <a:lnTo>
                  <a:pt x="18297" y="10800"/>
                </a:lnTo>
                <a:lnTo>
                  <a:pt x="7679" y="10800"/>
                </a:lnTo>
                <a:lnTo>
                  <a:pt x="7679" y="17989"/>
                </a:lnTo>
                <a:lnTo>
                  <a:pt x="12065" y="17989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2786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НЫ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ЕТ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9" name="Picture 4" descr="106"/>
          <p:cNvPicPr/>
          <p:nvPr/>
        </p:nvPicPr>
        <p:blipFill>
          <a:blip r:embed="rId1"/>
          <a:stretch/>
        </p:blipFill>
        <p:spPr>
          <a:xfrm flipH="1">
            <a:off x="7929360" y="5072040"/>
            <a:ext cx="95220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214200" y="571680"/>
          <a:ext cx="8501040" cy="4429080"/>
        </p:xfrm>
        <a:graphic>
          <a:graphicData uri="http://schemas.openxmlformats.org/drawingml/2006/table">
            <a:tbl>
              <a:tblPr/>
              <a:tblGrid>
                <a:gridCol w="857520"/>
                <a:gridCol w="1266840"/>
                <a:gridCol w="1063440"/>
                <a:gridCol w="1062000"/>
                <a:gridCol w="1063800"/>
                <a:gridCol w="1063440"/>
                <a:gridCol w="1062000"/>
                <a:gridCol w="1062000"/>
              </a:tblGrid>
              <a:tr h="4428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28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28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31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28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n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n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28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31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d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28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p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28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d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d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d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d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)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4431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17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: 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: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8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: 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15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: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: 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7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: 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11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: x</a:t>
                      </a:r>
                      <a:r>
                        <a:rPr b="1" i="1" lang="ru-RU" sz="20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-572040" y="428400"/>
            <a:ext cx="8209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ВСЕ </a:t>
            </a:r>
            <a:r>
              <a:rPr b="1" lang="ru-RU" sz="2500" spc="-1" strike="noStrike">
                <a:solidFill>
                  <a:srgbClr val="ff0000"/>
                </a:solidFill>
                <a:latin typeface="Century Schoolbook"/>
              </a:rPr>
              <a:t>ГЕНИАЛЬНОЕ</a:t>
            </a: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 – ПРОСТО!!!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НАЙДИ ЗНАЧЕНИЯ ЭТИХ С ВИДУ СЛОЖНЫХ ВЫРАЖЕНИЙ: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2"/>
              <p:cNvSpPr txBox="1"/>
              <p:nvPr/>
            </p:nvSpPr>
            <p:spPr>
              <a:xfrm>
                <a:off x="539640" y="2637000"/>
                <a:ext cx="165600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611280" y="4724280"/>
                <a:ext cx="14396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Rectangle 13"/>
          <p:cNvSpPr/>
          <p:nvPr/>
        </p:nvSpPr>
        <p:spPr>
          <a:xfrm>
            <a:off x="0" y="36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4"/>
              <p:cNvSpPr txBox="1"/>
              <p:nvPr/>
            </p:nvSpPr>
            <p:spPr>
              <a:xfrm>
                <a:off x="2771640" y="2637000"/>
                <a:ext cx="1513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7" name="Text Box 16"/>
          <p:cNvSpPr/>
          <p:nvPr/>
        </p:nvSpPr>
        <p:spPr>
          <a:xfrm>
            <a:off x="2268360" y="306864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4284720" y="306864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4716360" y="2637000"/>
                <a:ext cx="795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22"/>
          <p:cNvSpPr/>
          <p:nvPr/>
        </p:nvSpPr>
        <p:spPr>
          <a:xfrm>
            <a:off x="5580000" y="306864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6000840" y="30718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3</a:t>
            </a:r>
            <a:r>
              <a:rPr b="0" lang="ru-RU" sz="3000" spc="-1" strike="noStrike" baseline="30000">
                <a:solidFill>
                  <a:srgbClr val="575f6d"/>
                </a:solidFill>
                <a:latin typeface="Times New Roman"/>
              </a:rPr>
              <a:t>2</a:t>
            </a: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 =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5"/>
          <p:cNvSpPr/>
          <p:nvPr/>
        </p:nvSpPr>
        <p:spPr>
          <a:xfrm>
            <a:off x="2050920" y="515772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6"/>
              <p:cNvSpPr txBox="1"/>
              <p:nvPr/>
            </p:nvSpPr>
            <p:spPr>
              <a:xfrm>
                <a:off x="2556000" y="4724280"/>
                <a:ext cx="1655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4140360" y="5157720"/>
            <a:ext cx="5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7"/>
              <p:cNvSpPr txBox="1"/>
              <p:nvPr/>
            </p:nvSpPr>
            <p:spPr>
              <a:xfrm>
                <a:off x="4500720" y="4797360"/>
                <a:ext cx="12967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7" name="Text Box 33"/>
          <p:cNvSpPr/>
          <p:nvPr/>
        </p:nvSpPr>
        <p:spPr>
          <a:xfrm>
            <a:off x="5651640" y="5157720"/>
            <a:ext cx="5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4"/>
          <p:cNvSpPr/>
          <p:nvPr/>
        </p:nvSpPr>
        <p:spPr>
          <a:xfrm>
            <a:off x="5940360" y="5157720"/>
            <a:ext cx="28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3</a:t>
            </a:r>
            <a:r>
              <a:rPr b="0" lang="ru-RU" sz="3000" spc="-1" strike="noStrike" baseline="30000">
                <a:solidFill>
                  <a:srgbClr val="575f6d"/>
                </a:solidFill>
                <a:latin typeface="Times New Roman"/>
              </a:rPr>
              <a:t>4</a:t>
            </a: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75f6d"/>
                </a:solidFill>
                <a:latin typeface="Symbol"/>
                <a:ea typeface="Symbol"/>
              </a:rPr>
              <a:t></a:t>
            </a: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 3</a:t>
            </a:r>
            <a:r>
              <a:rPr b="0" lang="ru-RU" sz="3000" spc="-1" strike="noStrike" baseline="30000">
                <a:solidFill>
                  <a:srgbClr val="575f6d"/>
                </a:solidFill>
                <a:latin typeface="Times New Roman"/>
              </a:rPr>
              <a:t>9</a:t>
            </a: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3</a:t>
            </a:r>
            <a:r>
              <a:rPr b="0" lang="ru-RU" sz="3000" spc="-1" strike="noStrike" baseline="30000">
                <a:solidFill>
                  <a:srgbClr val="575f6d"/>
                </a:solidFill>
                <a:latin typeface="Times New Roman"/>
              </a:rPr>
              <a:t>8</a:t>
            </a: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=3</a:t>
            </a:r>
            <a:r>
              <a:rPr b="0" lang="ru-RU" sz="3000" spc="-1" strike="noStrike" baseline="30000">
                <a:solidFill>
                  <a:srgbClr val="575f6d"/>
                </a:solidFill>
                <a:latin typeface="Times New Roman"/>
              </a:rPr>
              <a:t>5</a:t>
            </a:r>
            <a:r>
              <a:rPr b="0" lang="ru-RU" sz="3000" spc="-1" strike="noStrike">
                <a:solidFill>
                  <a:srgbClr val="575f6d"/>
                </a:solidFill>
                <a:latin typeface="Times New Roman"/>
              </a:rPr>
              <a:t>=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Teacher"/>
          <p:cNvPicPr/>
          <p:nvPr/>
        </p:nvPicPr>
        <p:blipFill>
          <a:blip r:embed="rId1"/>
          <a:stretch/>
        </p:blipFill>
        <p:spPr>
          <a:xfrm>
            <a:off x="7929720" y="3643200"/>
            <a:ext cx="8175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Monotype Corsiva"/>
              </a:rPr>
              <a:t>ВОТ ЭТО НОМЕР!!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1" name="Рисунок 17" descr="image2"/>
          <p:cNvPicPr/>
          <p:nvPr/>
        </p:nvPicPr>
        <p:blipFill>
          <a:blip r:embed="rId1"/>
          <a:stretch/>
        </p:blipFill>
        <p:spPr>
          <a:xfrm>
            <a:off x="214200" y="1214280"/>
            <a:ext cx="88534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1:21:53Z</dcterms:created>
  <dc:creator>www.PHILka.RU</dc:creator>
  <dc:description/>
  <dc:language>en-US</dc:language>
  <cp:lastModifiedBy>EDWARD</cp:lastModifiedBy>
  <dcterms:modified xsi:type="dcterms:W3CDTF">2013-11-05T17:41:21Z</dcterms:modified>
  <cp:revision>76</cp:revision>
  <dc:subject/>
  <dc:title>« Свойства степени                      с натуральным показателем»</dc:title>
</cp:coreProperties>
</file>