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1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36FE-BF6C-4D75-8A86-ECBBAEA96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FCA1-40C5-4049-9C24-80B7F1421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78F8-0401-471C-9F7F-E732B06CF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1784-95EA-44CE-A6B6-5EC13B40F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8D21-4D98-46D1-AC21-15479A305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7177-3E4F-457D-A609-E55481755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507C-B6F5-4084-B8FF-E1E840250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33CC-3F00-4206-AC12-96EDE8256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CDAB-8526-49B2-A7FB-C1745BA14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D4DB-1E11-47C4-BB75-C1FEE3E90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64F9-F730-4486-9CAF-44A1E369A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75C1-5912-4992-96F5-9D1FBE42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11E2E-125D-4A79-9D25-B8CFEB662B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798800" y="4723920"/>
            <a:ext cx="434484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ыполнила воспитатель                             I квалификационной категории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альберт И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г. Райчихин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6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260280" y="2752560"/>
            <a:ext cx="4660920" cy="3583080"/>
          </a:xfrm>
          <a:prstGeom prst="rect">
            <a:avLst/>
          </a:prstGeom>
          <a:ln w="0">
            <a:noFill/>
          </a:ln>
        </p:spPr>
      </p:pic>
      <p:pic>
        <p:nvPicPr>
          <p:cNvPr id="43" name="WordArt 5" descr=""/>
          <p:cNvPicPr/>
          <p:nvPr/>
        </p:nvPicPr>
        <p:blipFill>
          <a:blip r:embed="rId2"/>
          <a:stretch/>
        </p:blipFill>
        <p:spPr>
          <a:xfrm>
            <a:off x="169920" y="1484280"/>
            <a:ext cx="8361360" cy="127152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1"/>
          <p:cNvSpPr/>
          <p:nvPr/>
        </p:nvSpPr>
        <p:spPr>
          <a:xfrm>
            <a:off x="324000" y="333360"/>
            <a:ext cx="87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Муниципальное  общеобразовательное автоном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сновная общеобразовательная  школа №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городского округа города Райчихинска Амур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Объект 3" descr="http://semyavdome.ru/wp-content/uploads/2014/01/%D1%87%D1%82%D0%BE-%D0%B2%D1%80%D0%B5%D0%B4%D0%BD%D0%BE-%D0%B4%D0%BB%D1%8F-%D0%B7%D1%83%D0%B1%D0%BE%D0%B2.jpg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96000" y="2781000"/>
            <a:ext cx="334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Памятка «Как правильно чистить зубы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DSC07578"/>
          <p:cNvPicPr/>
          <p:nvPr/>
        </p:nvPicPr>
        <p:blipFill>
          <a:blip r:embed="rId1"/>
          <a:stretch/>
        </p:blipFill>
        <p:spPr>
          <a:xfrm>
            <a:off x="250920" y="333360"/>
            <a:ext cx="5691240" cy="61912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699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22267"/>
                </a:solidFill>
                <a:latin typeface="Bookman Old Style"/>
              </a:rPr>
              <a:t>БУДЬТЕ    ЗДОРОВЫ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22267"/>
                </a:solidFill>
                <a:latin typeface="Bookman Old Style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белый зуб эмаль"/>
          <p:cNvPicPr/>
          <p:nvPr/>
        </p:nvPicPr>
        <p:blipFill>
          <a:blip r:embed="rId1"/>
          <a:srcRect l="0" t="0" r="0" b="51606"/>
          <a:stretch/>
        </p:blipFill>
        <p:spPr>
          <a:xfrm>
            <a:off x="1547640" y="907920"/>
            <a:ext cx="5977080" cy="57391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Сверху зуб покрыт эмаль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Стадии развития карие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развитие кариеса"/>
          <p:cNvPicPr/>
          <p:nvPr/>
        </p:nvPicPr>
        <p:blipFill>
          <a:blip r:embed="rId1"/>
          <a:stretch/>
        </p:blipFill>
        <p:spPr>
          <a:xfrm>
            <a:off x="324000" y="1916280"/>
            <a:ext cx="8642160" cy="34956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22267"/>
                </a:solidFill>
                <a:latin typeface="Arial"/>
              </a:rPr>
              <a:t>микроб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Объект 3" descr="http://lib3.podelise.ru/tw_files2/urls_20/7/d-6574/img4.jpg"/>
          <p:cNvPicPr/>
          <p:nvPr/>
        </p:nvPicPr>
        <p:blipFill>
          <a:blip r:embed="rId1"/>
          <a:stretch/>
        </p:blipFill>
        <p:spPr>
          <a:xfrm>
            <a:off x="1461960" y="1719360"/>
            <a:ext cx="6342120" cy="372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22267"/>
                </a:solidFill>
                <a:latin typeface="Arial"/>
              </a:rPr>
              <a:t>Как удалить остатки пищ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Объект 4" descr=""/>
          <p:cNvPicPr/>
          <p:nvPr/>
        </p:nvPicPr>
        <p:blipFill>
          <a:blip r:embed="rId1"/>
          <a:stretch/>
        </p:blipFill>
        <p:spPr>
          <a:xfrm>
            <a:off x="2112840" y="1576440"/>
            <a:ext cx="4919760" cy="41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Детская и взрослая </a:t>
            </a:r>
            <a:br>
              <a:rPr sz="4000"/>
            </a:b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зубные щет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взрослая зубная щетка"/>
          <p:cNvPicPr/>
          <p:nvPr/>
        </p:nvPicPr>
        <p:blipFill>
          <a:blip r:embed="rId1"/>
          <a:stretch/>
        </p:blipFill>
        <p:spPr>
          <a:xfrm>
            <a:off x="971640" y="1989000"/>
            <a:ext cx="3671640" cy="200664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5" descr="http://bioecomarket.ru/images/shop/tovars/709_1a11d2e93633a5f314c4c518c7a0fc07.jpg"/>
          <p:cNvPicPr/>
          <p:nvPr/>
        </p:nvPicPr>
        <p:blipFill>
          <a:blip r:embed="rId2"/>
          <a:stretch/>
        </p:blipFill>
        <p:spPr>
          <a:xfrm>
            <a:off x="5373720" y="3357720"/>
            <a:ext cx="272736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2267"/>
                </a:solidFill>
                <a:latin typeface="Arial"/>
              </a:rPr>
              <a:t>Детская и взрослая</a:t>
            </a:r>
            <a:br>
              <a:rPr sz="4400"/>
            </a:br>
            <a:r>
              <a:rPr b="1" lang="ru-RU" sz="4400" spc="-1" strike="noStrike">
                <a:solidFill>
                  <a:srgbClr val="222267"/>
                </a:solidFill>
                <a:latin typeface="Arial"/>
              </a:rPr>
              <a:t> зубная па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Объект 3" descr="http://pagremuski.info/wp-content/uploads/2014/03/27.jpg"/>
          <p:cNvPicPr/>
          <p:nvPr/>
        </p:nvPicPr>
        <p:blipFill>
          <a:blip r:embed="rId1"/>
          <a:stretch/>
        </p:blipFill>
        <p:spPr>
          <a:xfrm>
            <a:off x="1963800" y="2232000"/>
            <a:ext cx="50608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Хранение зубной щет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4" descr="http://i00.i.aliimg.com/img/pb/267/441/571/571441267_148.jpg"/>
          <p:cNvPicPr/>
          <p:nvPr/>
        </p:nvPicPr>
        <p:blipFill>
          <a:blip r:embed="rId1"/>
          <a:stretch/>
        </p:blipFill>
        <p:spPr>
          <a:xfrm>
            <a:off x="1843200" y="1695600"/>
            <a:ext cx="484344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2060"/>
                </a:solidFill>
                <a:latin typeface="Book Antiqua"/>
              </a:rPr>
              <a:t>ПОЛЕЗНЫЕ И НЕПОЛЕЗНЫЕ ПРОДУКТЫ ДЛЯ СОХРАНЕНИЯ ЗДОРОВЬЯ ЗУБ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Объект 3" descr="http://ppt4web.ru/images/1344/34338/640/img12.jpg"/>
          <p:cNvPicPr/>
          <p:nvPr/>
        </p:nvPicPr>
        <p:blipFill>
          <a:blip r:embed="rId1"/>
          <a:stretch/>
        </p:blipFill>
        <p:spPr>
          <a:xfrm>
            <a:off x="4716360" y="2708280"/>
            <a:ext cx="4176720" cy="367344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5" descr="http://webdiana.ru/uploads/posts/2015-09/1442784325_full-image_007.jpg"/>
          <p:cNvPicPr/>
          <p:nvPr/>
        </p:nvPicPr>
        <p:blipFill>
          <a:blip r:embed="rId2"/>
          <a:stretch/>
        </p:blipFill>
        <p:spPr>
          <a:xfrm>
            <a:off x="233280" y="1916280"/>
            <a:ext cx="426744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18:21:50Z</dcterms:created>
  <dc:creator>Сергей</dc:creator>
  <dc:description/>
  <dc:language>en-US</dc:language>
  <cp:lastModifiedBy>Admin</cp:lastModifiedBy>
  <dcterms:modified xsi:type="dcterms:W3CDTF">2018-01-06T12:37:11Z</dcterms:modified>
  <cp:revision>17</cp:revision>
  <dc:subject/>
  <dc:title>Презентация  «Чтобы зубки блестели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0.2.0.5978</vt:lpwstr>
  </property>
</Properties>
</file>