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909-880D-4619-8879-67C14EFD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8D5-6F2F-4410-960A-D7A2F91B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AED-BE6D-417D-BC83-597CD722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956F-3570-410D-9F41-3671801C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AE18-B193-48C8-A777-94A01C3B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A97F-DF9B-4D1B-A71E-249594AE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2305-DAEA-4ED3-84C0-8158B861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D108-AC91-4645-8E53-43D4026E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19FC-6AA4-4E1A-B9F6-E0349B6E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A3D3-1A6D-43AC-ABE3-8E811469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A323-C433-41B9-B00E-39850A67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A9E-5221-457C-AB5C-35536832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EED7-9367-4423-B696-5A02F3A3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CA62-3DF4-4A03-BEB0-96C6FEB2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AAC6-1553-4EAF-B13A-9F18FCC6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10BC-58DF-4C80-B2C6-329A2F9C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B303-03C9-4C8B-9B8F-2F19E94B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590-3CAD-4389-84A2-FE40535D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5CB-CA98-4452-93CB-AACD4C5C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CDE-1356-4216-A3CB-5921BF5C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780-2C4D-40D0-AA15-2C159FFF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E82-9C78-41AE-A740-270E45A0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F82-416E-400D-A9A3-779B8999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891-32AB-4824-BB26-35E30936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1" name="Freeform 2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5" name="Freeform 6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6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7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8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19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7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8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29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0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30" name="Line 31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2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3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4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5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6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7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368C0A-91A7-41FA-84DC-3DC5083487E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"/>
          <p:cNvGrpSpPr/>
          <p:nvPr/>
        </p:nvGrpSpPr>
        <p:grpSpPr>
          <a:xfrm>
            <a:off x="0" y="0"/>
            <a:ext cx="9147240" cy="6850080"/>
            <a:chOff x="0" y="0"/>
            <a:chExt cx="9147240" cy="6850080"/>
          </a:xfrm>
        </p:grpSpPr>
        <p:sp>
          <p:nvSpPr>
            <p:cNvPr id="79" name="Freeform 2"/>
            <p:cNvSpPr/>
            <p:nvPr/>
          </p:nvSpPr>
          <p:spPr>
            <a:xfrm>
              <a:off x="800748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3"/>
            <p:cNvSpPr/>
            <p:nvPr/>
          </p:nvSpPr>
          <p:spPr>
            <a:xfrm>
              <a:off x="8548560" y="6022800"/>
              <a:ext cx="59868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901548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5"/>
            <p:cNvGrpSpPr/>
            <p:nvPr/>
          </p:nvGrpSpPr>
          <p:grpSpPr>
            <a:xfrm>
              <a:off x="455760" y="0"/>
              <a:ext cx="8091360" cy="6850080"/>
              <a:chOff x="455760" y="0"/>
              <a:chExt cx="8091360" cy="6850080"/>
            </a:xfrm>
          </p:grpSpPr>
          <p:sp>
            <p:nvSpPr>
              <p:cNvPr id="83" name="Freeform 6"/>
              <p:cNvSpPr/>
              <p:nvPr/>
            </p:nvSpPr>
            <p:spPr>
              <a:xfrm>
                <a:off x="44258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7"/>
              <p:cNvSpPr/>
              <p:nvPr/>
            </p:nvSpPr>
            <p:spPr>
              <a:xfrm>
                <a:off x="49021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8"/>
              <p:cNvSpPr/>
              <p:nvPr/>
            </p:nvSpPr>
            <p:spPr>
              <a:xfrm>
                <a:off x="53290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9"/>
              <p:cNvSpPr/>
              <p:nvPr/>
            </p:nvSpPr>
            <p:spPr>
              <a:xfrm>
                <a:off x="5834160" y="0"/>
                <a:ext cx="67608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0"/>
              <p:cNvSpPr/>
              <p:nvPr/>
            </p:nvSpPr>
            <p:spPr>
              <a:xfrm>
                <a:off x="6262560" y="0"/>
                <a:ext cx="88452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1"/>
              <p:cNvSpPr/>
              <p:nvPr/>
            </p:nvSpPr>
            <p:spPr>
              <a:xfrm>
                <a:off x="6738840" y="0"/>
                <a:ext cx="109404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7176960" y="0"/>
                <a:ext cx="137016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380700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312120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5"/>
              <p:cNvSpPr/>
              <p:nvPr/>
            </p:nvSpPr>
            <p:spPr>
              <a:xfrm>
                <a:off x="2484360" y="0"/>
                <a:ext cx="67320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6"/>
              <p:cNvSpPr/>
              <p:nvPr/>
            </p:nvSpPr>
            <p:spPr>
              <a:xfrm>
                <a:off x="178920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7"/>
              <p:cNvSpPr/>
              <p:nvPr/>
            </p:nvSpPr>
            <p:spPr>
              <a:xfrm>
                <a:off x="1112760" y="0"/>
                <a:ext cx="116856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>
                <a:off x="455760" y="0"/>
                <a:ext cx="133164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19"/>
            <p:cNvSpPr/>
            <p:nvPr/>
          </p:nvSpPr>
          <p:spPr>
            <a:xfrm>
              <a:off x="792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792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1"/>
            <p:cNvSpPr/>
            <p:nvPr/>
          </p:nvSpPr>
          <p:spPr>
            <a:xfrm>
              <a:off x="75801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2"/>
            <p:cNvSpPr/>
            <p:nvPr/>
          </p:nvSpPr>
          <p:spPr>
            <a:xfrm>
              <a:off x="8001000" y="0"/>
              <a:ext cx="113976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>
              <a:off x="84945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4"/>
            <p:cNvSpPr/>
            <p:nvPr/>
          </p:nvSpPr>
          <p:spPr>
            <a:xfrm>
              <a:off x="7920" y="0"/>
              <a:ext cx="136044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5"/>
            <p:cNvSpPr/>
            <p:nvPr/>
          </p:nvSpPr>
          <p:spPr>
            <a:xfrm>
              <a:off x="792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6"/>
            <p:cNvSpPr/>
            <p:nvPr/>
          </p:nvSpPr>
          <p:spPr>
            <a:xfrm>
              <a:off x="7920" y="0"/>
              <a:ext cx="42696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7"/>
            <p:cNvSpPr/>
            <p:nvPr/>
          </p:nvSpPr>
          <p:spPr>
            <a:xfrm>
              <a:off x="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>
              <a:off x="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>
              <a:off x="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0"/>
            <p:cNvGrpSpPr/>
            <p:nvPr/>
          </p:nvGrpSpPr>
          <p:grpSpPr>
            <a:xfrm>
              <a:off x="0" y="622440"/>
              <a:ext cx="9139320" cy="2492280"/>
              <a:chOff x="0" y="622440"/>
              <a:chExt cx="9139320" cy="2492280"/>
            </a:xfrm>
          </p:grpSpPr>
          <p:sp>
            <p:nvSpPr>
              <p:cNvPr id="108" name="Line 31"/>
              <p:cNvSpPr/>
              <p:nvPr/>
            </p:nvSpPr>
            <p:spPr>
              <a:xfrm>
                <a:off x="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2"/>
              <p:cNvSpPr/>
              <p:nvPr/>
            </p:nvSpPr>
            <p:spPr>
              <a:xfrm>
                <a:off x="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3"/>
              <p:cNvSpPr/>
              <p:nvPr/>
            </p:nvSpPr>
            <p:spPr>
              <a:xfrm>
                <a:off x="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4"/>
              <p:cNvSpPr/>
              <p:nvPr/>
            </p:nvSpPr>
            <p:spPr>
              <a:xfrm>
                <a:off x="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5"/>
              <p:cNvSpPr/>
              <p:nvPr/>
            </p:nvSpPr>
            <p:spPr>
              <a:xfrm>
                <a:off x="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6"/>
            <p:cNvSpPr/>
            <p:nvPr/>
          </p:nvSpPr>
          <p:spPr>
            <a:xfrm>
              <a:off x="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>
              <a:off x="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828A88-9BF7-4EC9-AC0A-D186FC56215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МБОУ «Первомайская СОШ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ема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Глобус и географическая карт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полнил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еник 4 класса «Л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Халяпин Кирил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1680"/>
                <a:tab algn="l" pos="1486080"/>
                <a:tab algn="l" pos="2400480"/>
                <a:tab algn="l" pos="3314880"/>
                <a:tab algn="l" pos="4229280"/>
                <a:tab algn="l" pos="5143680"/>
                <a:tab algn="l" pos="6058080"/>
                <a:tab algn="l" pos="6972480"/>
                <a:tab algn="l" pos="7886880"/>
                <a:tab algn="l" pos="8801280"/>
                <a:tab algn="l" pos="97156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обус  и географическая карт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1680"/>
                <a:tab algn="l" pos="1486080"/>
                <a:tab algn="l" pos="2400480"/>
                <a:tab algn="l" pos="3314880"/>
                <a:tab algn="l" pos="4229280"/>
                <a:tab algn="l" pos="5143680"/>
                <a:tab algn="l" pos="6058080"/>
                <a:tab algn="l" pos="6972480"/>
                <a:tab algn="l" pos="7886880"/>
                <a:tab algn="l" pos="8801280"/>
                <a:tab algn="l" pos="97156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 из самых важных изобретений человека, которые позволяют изобразить земную поверх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1680"/>
                <a:tab algn="l" pos="1486080"/>
                <a:tab algn="l" pos="2400480"/>
                <a:tab algn="l" pos="3314880"/>
                <a:tab algn="l" pos="4229280"/>
                <a:tab algn="l" pos="5143680"/>
                <a:tab algn="l" pos="6058080"/>
                <a:tab algn="l" pos="6972480"/>
                <a:tab algn="l" pos="7886880"/>
                <a:tab algn="l" pos="8801280"/>
                <a:tab algn="l" pos="97156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помощью них мы можем «путешествовать» по планет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1680"/>
                <a:tab algn="l" pos="1486080"/>
                <a:tab algn="l" pos="2400480"/>
                <a:tab algn="l" pos="3314880"/>
                <a:tab algn="l" pos="4229280"/>
                <a:tab algn="l" pos="5143680"/>
                <a:tab algn="l" pos="6058080"/>
                <a:tab algn="l" pos="6972480"/>
                <a:tab algn="l" pos="7886880"/>
                <a:tab algn="l" pos="8801280"/>
                <a:tab algn="l" pos="97156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2951280" cy="226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09564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Что такое ГЛОБУС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19280" y="1052640"/>
            <a:ext cx="720072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486080"/>
                <a:tab algn="l" pos="2400480"/>
                <a:tab algn="l" pos="3314880"/>
                <a:tab algn="l" pos="4229280"/>
                <a:tab algn="l" pos="5143680"/>
                <a:tab algn="l" pos="6058080"/>
                <a:tab algn="l" pos="6972480"/>
                <a:tab algn="l" pos="7886880"/>
                <a:tab algn="l" pos="8801280"/>
                <a:tab algn="l" pos="97156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486080"/>
                <a:tab algn="l" pos="2400480"/>
                <a:tab algn="l" pos="3314880"/>
                <a:tab algn="l" pos="4229280"/>
                <a:tab algn="l" pos="5143680"/>
                <a:tab algn="l" pos="6058080"/>
                <a:tab algn="l" pos="6972480"/>
                <a:tab algn="l" pos="7886880"/>
                <a:tab algn="l" pos="8801280"/>
                <a:tab algn="l" pos="97156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486080"/>
                <a:tab algn="l" pos="2400480"/>
                <a:tab algn="l" pos="3314880"/>
                <a:tab algn="l" pos="4229280"/>
                <a:tab algn="l" pos="5143680"/>
                <a:tab algn="l" pos="6058080"/>
                <a:tab algn="l" pos="6972480"/>
                <a:tab algn="l" pos="7886880"/>
                <a:tab algn="l" pos="8801280"/>
                <a:tab algn="l" pos="97156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лобус – уменьшенная модель Земли, на которой изображена её поверхно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486080"/>
                <a:tab algn="l" pos="2400480"/>
                <a:tab algn="l" pos="3314880"/>
                <a:tab algn="l" pos="4229280"/>
                <a:tab algn="l" pos="5143680"/>
                <a:tab algn="l" pos="6058080"/>
                <a:tab algn="l" pos="6972480"/>
                <a:tab algn="l" pos="7886880"/>
                <a:tab algn="l" pos="8801280"/>
                <a:tab algn="l" pos="97156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лово «Глобус» в переводе с латинского языка означает ША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486080"/>
                <a:tab algn="l" pos="2400480"/>
                <a:tab algn="l" pos="3314880"/>
                <a:tab algn="l" pos="4229280"/>
                <a:tab algn="l" pos="5143680"/>
                <a:tab algn="l" pos="6058080"/>
                <a:tab algn="l" pos="6972480"/>
                <a:tab algn="l" pos="7886880"/>
                <a:tab algn="l" pos="8801280"/>
                <a:tab algn="l" pos="97156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мый первый земной глобус - это глобус Кратеса из Пергамы. Он был сделан во II в. до н.э. Однако, ни сам глобус, ни его изображение не найден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571680"/>
                <a:tab algn="l" pos="1486080"/>
                <a:tab algn="l" pos="2400480"/>
                <a:tab algn="l" pos="3314880"/>
                <a:tab algn="l" pos="4229280"/>
                <a:tab algn="l" pos="5143680"/>
                <a:tab algn="l" pos="6058080"/>
                <a:tab algn="l" pos="6972480"/>
                <a:tab algn="l" pos="7886880"/>
                <a:tab algn="l" pos="8801280"/>
                <a:tab algn="l" pos="97156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Первый глобу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4020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601"/>
              </a:spcBef>
              <a:buNone/>
              <a:tabLst>
                <a:tab algn="l" pos="0"/>
                <a:tab algn="l" pos="571680"/>
                <a:tab algn="l" pos="1486080"/>
                <a:tab algn="l" pos="2400480"/>
                <a:tab algn="l" pos="3314880"/>
                <a:tab algn="l" pos="4229280"/>
                <a:tab algn="l" pos="5143680"/>
                <a:tab algn="l" pos="6058080"/>
                <a:tab algn="l" pos="6972480"/>
                <a:tab algn="l" pos="7886880"/>
                <a:tab algn="l" pos="8801280"/>
                <a:tab algn="l" pos="97156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440" indent="0" algn="just">
              <a:spcBef>
                <a:spcPts val="601"/>
              </a:spcBef>
              <a:buNone/>
              <a:tabLst>
                <a:tab algn="l" pos="0"/>
                <a:tab algn="l" pos="571680"/>
                <a:tab algn="l" pos="1486080"/>
                <a:tab algn="l" pos="2400480"/>
                <a:tab algn="l" pos="3314880"/>
                <a:tab algn="l" pos="4229280"/>
                <a:tab algn="l" pos="5143680"/>
                <a:tab algn="l" pos="6058080"/>
                <a:tab algn="l" pos="6972480"/>
                <a:tab algn="l" pos="7886880"/>
                <a:tab algn="l" pos="8801280"/>
                <a:tab algn="l" pos="97156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440" indent="0" algn="just">
              <a:spcBef>
                <a:spcPts val="601"/>
              </a:spcBef>
              <a:buNone/>
              <a:tabLst>
                <a:tab algn="l" pos="0"/>
                <a:tab algn="l" pos="571680"/>
                <a:tab algn="l" pos="1486080"/>
                <a:tab algn="l" pos="2400480"/>
                <a:tab algn="l" pos="3314880"/>
                <a:tab algn="l" pos="4229280"/>
                <a:tab algn="l" pos="5143680"/>
                <a:tab algn="l" pos="6058080"/>
                <a:tab algn="l" pos="6972480"/>
                <a:tab algn="l" pos="7886880"/>
                <a:tab algn="l" pos="8801280"/>
                <a:tab algn="l" pos="97156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ервый реальный глобус создал в 1492 г. немецкий географ Мартин Бехайм и назвал его «Земное яблоко». На нем не было Америки, и расстояние между Европой и Азией было в два раза меньше, чем оно есть на самом дел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5796000" y="1790640"/>
            <a:ext cx="1839960" cy="32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Что мы видим на глобус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780000" y="1052640"/>
            <a:ext cx="4906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71680"/>
                <a:tab algn="l" pos="1486080"/>
                <a:tab algn="l" pos="2400480"/>
                <a:tab algn="l" pos="3314880"/>
                <a:tab algn="l" pos="4229280"/>
                <a:tab algn="l" pos="5143680"/>
                <a:tab algn="l" pos="6058080"/>
                <a:tab algn="l" pos="6972480"/>
                <a:tab algn="l" pos="7886880"/>
                <a:tab algn="l" pos="8801280"/>
                <a:tab algn="l" pos="97156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лобус имеет форму немного приплюснутого шара. На глобусе есть синий, желтый, коричневый, зеленый и белый цвета. Синий - вода, желтый, коричневый, зеленый — суша, белый -лед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4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71680"/>
                <a:tab algn="l" pos="1486080"/>
                <a:tab algn="l" pos="2400480"/>
                <a:tab algn="l" pos="3314880"/>
                <a:tab algn="l" pos="4229280"/>
                <a:tab algn="l" pos="5143680"/>
                <a:tab algn="l" pos="6058080"/>
                <a:tab algn="l" pos="6972480"/>
                <a:tab algn="l" pos="7886880"/>
                <a:tab algn="l" pos="8801280"/>
                <a:tab algn="l" pos="97156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лобус называют «мяч в сетке». При вращении глобуса на месте остаются только полюса: северный и южный. Главный пояс земли – «экватор», его еще называют «самая длинная параллель»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4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71680"/>
                <a:tab algn="l" pos="1486080"/>
                <a:tab algn="l" pos="2400480"/>
                <a:tab algn="l" pos="3314880"/>
                <a:tab algn="l" pos="4229280"/>
                <a:tab algn="l" pos="5143680"/>
                <a:tab algn="l" pos="6058080"/>
                <a:tab algn="l" pos="6972480"/>
                <a:tab algn="l" pos="7886880"/>
                <a:tab algn="l" pos="8801280"/>
                <a:tab algn="l" pos="97156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3032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Географическая кар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135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Географическая карта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это условное изображение поверхности Земли на плоск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рты бывают: геологические, климатические, ботанические, политические, экономические, карты населения и друг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Глобус и Кар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241280"/>
          <a:ext cx="8715600" cy="5612040"/>
        </p:xfrm>
        <a:graphic>
          <a:graphicData uri="http://schemas.openxmlformats.org/drawingml/2006/table">
            <a:tbl>
              <a:tblPr/>
              <a:tblGrid>
                <a:gridCol w="1443240"/>
                <a:gridCol w="3816360"/>
                <a:gridCol w="345600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9200" bIns="46800" anchor="t">
                      <a:noAutofit/>
                    </a:bodyPr>
                    <a:p>
                      <a:pPr>
                        <a:lnSpc>
                          <a:spcPct val="92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Обще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9200" bIns="46800" anchor="t">
                      <a:noAutofit/>
                    </a:bodyPr>
                    <a:p>
                      <a:pPr>
                        <a:lnSpc>
                          <a:spcPct val="92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Различн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Глобу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c"/>
                        </a:rPr>
                        <a:t>встречаются одни и те же цвета: синий, белый, коричневый, зеленый, желтый. На карте, и на глобусе указаны материки и океаны. На карте и на глобусе мы видим экватор, параллели и меридианы. Также  указаны Северный Полюс и Южный Полюс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c"/>
                        </a:rPr>
                        <a:t>целый ша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Карт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c"/>
                        </a:rPr>
                        <a:t>две половинки – Западное и Восточное полушария</a:t>
                      </a: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c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07:24:44Z</dcterms:created>
  <dc:creator>C10</dc:creator>
  <dc:description/>
  <dc:language>en-US</dc:language>
  <cp:lastModifiedBy>123</cp:lastModifiedBy>
  <dcterms:modified xsi:type="dcterms:W3CDTF">2018-01-05T21:30:36Z</dcterms:modified>
  <cp:revision>74</cp:revision>
  <dc:subject/>
  <dc:title>Слайд 1</dc:title>
</cp:coreProperties>
</file>