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D67-ABE3-4A58-BCA2-58527A0D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A94-D659-44F9-9FEF-05326C80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624-B53A-4C3A-B75B-6D4565C5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3D9-0472-435A-ABA7-ED7AEED8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5821-6DB6-492F-9997-0780F725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7625-EACA-4437-B9C5-7E45FEE4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99E4-E53C-4672-B558-FC6D2580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9060-ABAA-413F-98C8-EBAEE4B5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6E02-1ADF-4E38-8E8D-66DD36DE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5DB5-CB9C-481A-BF15-AB11E559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6D57-52F5-4D84-8719-DB536CE0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AC8-9400-4851-AA49-B063BB26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B376-E89A-4FA9-BF11-7E9837DB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363F-3F46-4F38-A005-F14B26D7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9C94-6303-45FB-BE81-E742E5F2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A559-D7E7-4A83-AC56-86023EB3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FF5F-1F6E-4D2A-A669-81066B61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1BE-9BCE-4620-B930-8745A289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872-9620-4A4B-A9B1-3FD04914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A06-B8D8-4CD1-AE02-A72B4CFD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8E4-9070-4F62-A866-6B0DB95C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F10-6670-46AC-8B17-DBBF6A67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F24-C976-484B-902A-C70A9B2C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E25-8DD5-498F-B349-A5969592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0AC2-88E2-42F3-ADDB-70F4DBCFC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16AF-3C11-4AC4-9A44-40F97D01A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Calibri"/>
              </a:rPr>
              <a:t>Классный ча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7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ea900"/>
                </a:solidFill>
                <a:latin typeface="Calibri"/>
              </a:rPr>
              <a:t>Автор: Парадовская Елена Александровн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ea900"/>
                </a:solidFill>
                <a:latin typeface="Calibri"/>
              </a:rPr>
              <a:t>учитель начальных классо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ea900"/>
                </a:solidFill>
                <a:latin typeface="Calibri"/>
              </a:rPr>
              <a:t>МОУ «СОШ № 21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ведение, образ действий, склонность, ставшие для кого-нибудь в жизни обычными, постоянны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004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ru-RU" sz="4400" spc="-1" strike="noStrike">
                <a:solidFill>
                  <a:srgbClr val="dea900"/>
                </a:solidFill>
                <a:latin typeface="Calibri"/>
              </a:rPr>
              <a:t>Привы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редные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полез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( - 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( +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5726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Эзоп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– основоположник жанра басня, жил в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VI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веке до нашей эры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Древней Гре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207180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Эзопов язык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– речь, которая изобилует иносказаниями, недомолвками и другими приёмами для сокрытия прямого смы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C:\Documents and Settings\Administrator\Рабочий стол\Цветочки\Эзоп.jpg"/>
          <p:cNvPicPr/>
          <p:nvPr/>
        </p:nvPicPr>
        <p:blipFill>
          <a:blip r:embed="rId1"/>
          <a:stretch/>
        </p:blipFill>
        <p:spPr>
          <a:xfrm>
            <a:off x="500040" y="2071800"/>
            <a:ext cx="3952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3 февраля – Всемирный день борьбы с ненормативной лекси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Documents and Settings\Administrator\Рабочий стол\Картинки к кл часу\Сквернословие.jpg"/>
          <p:cNvPicPr/>
          <p:nvPr/>
        </p:nvPicPr>
        <p:blipFill>
          <a:blip r:embed="rId1"/>
          <a:stretch/>
        </p:blipFill>
        <p:spPr>
          <a:xfrm>
            <a:off x="785880" y="1714680"/>
            <a:ext cx="7572240" cy="46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Икона Божьей матери «Семистрельна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Administrator\Рабочий стол\Картинки к кл часу\nb583233_(1).jpg"/>
          <p:cNvPicPr/>
          <p:nvPr/>
        </p:nvPicPr>
        <p:blipFill>
          <a:blip r:embed="rId1"/>
          <a:stretch/>
        </p:blipFill>
        <p:spPr>
          <a:xfrm>
            <a:off x="571680" y="1571760"/>
            <a:ext cx="3922560" cy="478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Administrator\Рабочий стол\Картинки к кл часу\imgpreviewOHTRCBMY.jpg"/>
          <p:cNvPicPr/>
          <p:nvPr/>
        </p:nvPicPr>
        <p:blipFill>
          <a:blip r:embed="rId2"/>
          <a:stretch/>
        </p:blipFill>
        <p:spPr>
          <a:xfrm>
            <a:off x="5014800" y="1571760"/>
            <a:ext cx="35323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Любовь </a:t>
            </a: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и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благодарн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" descr="C:\Documents and Settings\Administrator\Рабочий стол\1360411135_happines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Продолжите фраз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Я сегодня задумался о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Меня сегодня поразило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Я изменил мнение о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Calibri"/>
              </a:rPr>
              <a:t>Добрые </a:t>
            </a:r>
            <a:r>
              <a:rPr b="1" lang="ru-RU" sz="5400" spc="-1" strike="noStrike">
                <a:solidFill>
                  <a:srgbClr val="00b050"/>
                </a:solidFill>
                <a:latin typeface="Calibri"/>
              </a:rPr>
              <a:t>слова</a:t>
            </a:r>
            <a:r>
              <a:rPr b="1" lang="ru-RU" sz="5400" spc="-1" strike="noStrike">
                <a:solidFill>
                  <a:srgbClr val="cc00cc"/>
                </a:solidFill>
                <a:latin typeface="Calibri"/>
              </a:rPr>
              <a:t> – </a:t>
            </a: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это</a:t>
            </a:r>
            <a:r>
              <a:rPr b="1" lang="ru-RU" sz="5400" spc="-1" strike="noStrike">
                <a:solidFill>
                  <a:srgbClr val="cc00cc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3300"/>
                </a:solidFill>
                <a:latin typeface="Calibri"/>
              </a:rPr>
              <a:t>цветы</a:t>
            </a:r>
            <a:r>
              <a:rPr b="1" lang="ru-RU" sz="5400" spc="-1" strike="noStrike">
                <a:solidFill>
                  <a:srgbClr val="cc00cc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человеческой</a:t>
            </a:r>
            <a:r>
              <a:rPr b="1" lang="ru-RU" sz="5400" spc="-1" strike="noStrike">
                <a:solidFill>
                  <a:srgbClr val="cc00cc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e46c0a"/>
                </a:solidFill>
                <a:latin typeface="Calibri"/>
              </a:rPr>
              <a:t>душ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Administrator\Рабочий стол\Цветочки\цветы 1.jpg"/>
          <p:cNvPicPr/>
          <p:nvPr/>
        </p:nvPicPr>
        <p:blipFill>
          <a:blip r:embed="rId1"/>
          <a:stretch/>
        </p:blipFill>
        <p:spPr>
          <a:xfrm>
            <a:off x="500040" y="4400640"/>
            <a:ext cx="2928960" cy="20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Administrator\Рабочий стол\Цветочки\цветы 3.jpg"/>
          <p:cNvPicPr/>
          <p:nvPr/>
        </p:nvPicPr>
        <p:blipFill>
          <a:blip r:embed="rId2"/>
          <a:stretch/>
        </p:blipFill>
        <p:spPr>
          <a:xfrm>
            <a:off x="500040" y="1857240"/>
            <a:ext cx="4214880" cy="278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Administrator\Рабочий стол\Цветочки\цветы.jpg"/>
          <p:cNvPicPr/>
          <p:nvPr/>
        </p:nvPicPr>
        <p:blipFill>
          <a:blip r:embed="rId3"/>
          <a:stretch/>
        </p:blipFill>
        <p:spPr>
          <a:xfrm>
            <a:off x="5715000" y="4643280"/>
            <a:ext cx="2986200" cy="17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Documents and Settings\Administrator\Рабочий стол\Цветочки\цветы 6.jpg"/>
          <p:cNvPicPr/>
          <p:nvPr/>
        </p:nvPicPr>
        <p:blipFill>
          <a:blip r:embed="rId4"/>
          <a:stretch/>
        </p:blipFill>
        <p:spPr>
          <a:xfrm>
            <a:off x="4643280" y="1857240"/>
            <a:ext cx="4064040" cy="2786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Documents and Settings\Administrator\Рабочий стол\Цветочки\цветы 7.jpg"/>
          <p:cNvPicPr/>
          <p:nvPr/>
        </p:nvPicPr>
        <p:blipFill>
          <a:blip r:embed="rId5"/>
          <a:stretch/>
        </p:blipFill>
        <p:spPr>
          <a:xfrm>
            <a:off x="3071880" y="3571920"/>
            <a:ext cx="2925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49:14Z</dcterms:created>
  <dc:creator>Helen</dc:creator>
  <dc:description/>
  <dc:language>en-US</dc:language>
  <cp:lastModifiedBy>Admin</cp:lastModifiedBy>
  <dcterms:modified xsi:type="dcterms:W3CDTF">2016-02-15T18:28:57Z</dcterms:modified>
  <cp:revision>16</cp:revision>
  <dc:subject/>
  <dc:title>Слайд 1</dc:title>
</cp:coreProperties>
</file>