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07B-9FF4-4A87-988E-072DD3E4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43B-89D7-4D5A-B02E-234D8ED7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609-6C10-486F-B574-61F768A3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CD3-6936-4FED-8419-F74A7E62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E2C-2FCD-4ABE-92D7-2C48D01E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121-2294-4438-8B5E-CEACAA4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485-3F7A-44CE-9B44-4B2E1C68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E73-CD43-4B1B-97C7-743DB62C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52B-EA1C-4FFB-BD82-EF1AA51D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388-F2AE-400F-AE4D-FF18F3D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72E-57DA-4572-918E-903EF4F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738-AF34-4D6F-9D10-7A263078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511A-A55B-4C23-898B-D201E9D288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7520" y="333360"/>
            <a:ext cx="919152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9280" y="1413000"/>
            <a:ext cx="8280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то за прелесть эти кош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6120000" cy="4162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76360" y="115920"/>
            <a:ext cx="856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деальный профиль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9001080" cy="503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140360" y="5445000"/>
            <a:ext cx="482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ЕРИФ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68360" y="1268280"/>
            <a:ext cx="5185080" cy="388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826920" y="189000"/>
            <a:ext cx="7345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Всё семейство в сбор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35280" y="963720"/>
            <a:ext cx="5689440" cy="426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58920" y="189000"/>
            <a:ext cx="7129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тота - залог здоровья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6049800" cy="370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8360" y="115920"/>
            <a:ext cx="80643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йте дети молоко...</a:t>
            </a:r>
            <a:endParaRPr b="0" lang="en-US" sz="24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50920" y="189000"/>
            <a:ext cx="85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ама спит, а я охраня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9200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5185080" cy="379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755640" y="260280"/>
            <a:ext cx="806436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леобеденный сон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32000" y="549360"/>
            <a:ext cx="5976720" cy="448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00720" y="5373720"/>
            <a:ext cx="42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 не сплю 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8208720" cy="3892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39640" y="189000"/>
            <a:ext cx="813600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 не подсматриваю</a:t>
            </a:r>
            <a:endParaRPr b="0" lang="en-US" sz="24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5472000" cy="4216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24000" y="115920"/>
            <a:ext cx="849600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лубоглазая   блондинка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09:40:56Z</dcterms:created>
  <dc:creator>пользователь</dc:creator>
  <dc:description/>
  <dc:language>en-US</dc:language>
  <cp:lastModifiedBy>пользователь</cp:lastModifiedBy>
  <dcterms:modified xsi:type="dcterms:W3CDTF">2018-01-06T13:55:56Z</dcterms:modified>
  <cp:revision>9</cp:revision>
  <dc:subject/>
  <dc:title>Слайд 1</dc:title>
</cp:coreProperties>
</file>