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FF1-A3F7-4614-B8D4-DF92DD6A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A0D-0BC3-4E4A-8EF9-730CF8B3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7DC-5C7A-415C-98E3-99452D1E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9B4-8E32-43E2-922D-B95B0C45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786-EC6D-4752-A83D-B4B787A7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366-CCB1-4854-8893-5E6AC0B6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66A-BBA0-46D6-A4A6-3EA6C55F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38F-8C8E-42A6-9029-A3CA43CB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3AF-658D-4ABD-B8CA-B972ECFB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3BE-5782-4792-BF2A-4F9C9C0E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EFE-E31C-48FF-BC6B-50C0D99F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F53-B57D-49BF-883E-76128342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C28E-3678-4513-A208-B00658C32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блако 3">
            <a:hlinkClick r:id="rId1" action="ppaction://hlinksldjump"/>
          </p:cNvPr>
          <p:cNvSpPr/>
          <p:nvPr/>
        </p:nvSpPr>
        <p:spPr>
          <a:xfrm>
            <a:off x="1600200" y="380880"/>
            <a:ext cx="7543800" cy="5105520"/>
          </a:xfrm>
          <a:prstGeom prst="pie">
            <a:avLst/>
          </a:prstGeom>
          <a:solidFill>
            <a:srgbClr val="00206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4181760" cy="55753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2743200" y="5943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И. А. Крылову в Летнем с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бронза, гранит, 1848—18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14240" y="304920"/>
            <a:ext cx="6172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бавой он людей исправил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метая с них пороков пыль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н баснями себя прославил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слава эта – наша был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не забудут этой были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ка по-русски говоря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е давно мы затвердил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ё и внуки затвердя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.Вяземский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Овал 3"/>
          <p:cNvSpPr/>
          <p:nvPr/>
        </p:nvSpPr>
        <p:spPr>
          <a:xfrm>
            <a:off x="2514600" y="1371600"/>
            <a:ext cx="914400" cy="914400"/>
          </a:xfrm>
          <a:prstGeom prst="ellipse">
            <a:avLst/>
          </a:prstGeom>
          <a:solidFill>
            <a:srgbClr val="ff0000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4"/>
          <p:cNvSpPr/>
          <p:nvPr/>
        </p:nvSpPr>
        <p:spPr>
          <a:xfrm>
            <a:off x="2590920" y="228600"/>
            <a:ext cx="914400" cy="914400"/>
          </a:xfrm>
          <a:prstGeom prst="ellipse">
            <a:avLst/>
          </a:prstGeom>
          <a:solidFill>
            <a:srgbClr val="ff0000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5"/>
          <p:cNvSpPr/>
          <p:nvPr/>
        </p:nvSpPr>
        <p:spPr>
          <a:xfrm>
            <a:off x="2514600" y="2590920"/>
            <a:ext cx="914400" cy="914400"/>
          </a:xfrm>
          <a:prstGeom prst="ellipse">
            <a:avLst/>
          </a:prstGeom>
          <a:solidFill>
            <a:srgbClr val="ff0000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6"/>
          <p:cNvSpPr/>
          <p:nvPr/>
        </p:nvSpPr>
        <p:spPr>
          <a:xfrm>
            <a:off x="8001000" y="152280"/>
            <a:ext cx="914400" cy="91440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7">
            <a:hlinkClick r:id="rId1" action="ppaction://hlinksldjump"/>
          </p:cNvPr>
          <p:cNvSpPr/>
          <p:nvPr/>
        </p:nvSpPr>
        <p:spPr>
          <a:xfrm>
            <a:off x="8001000" y="1447920"/>
            <a:ext cx="914400" cy="91440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8"/>
          <p:cNvSpPr/>
          <p:nvPr/>
        </p:nvSpPr>
        <p:spPr>
          <a:xfrm>
            <a:off x="7924680" y="2666880"/>
            <a:ext cx="914400" cy="91440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12"/>
          <p:cNvSpPr/>
          <p:nvPr/>
        </p:nvSpPr>
        <p:spPr>
          <a:xfrm>
            <a:off x="4114800" y="2362320"/>
            <a:ext cx="3124080" cy="1981080"/>
          </a:xfrm>
          <a:prstGeom prst="triangle">
            <a:avLst>
              <a:gd name="adj" fmla="val 51435"/>
            </a:avLst>
          </a:prstGeom>
          <a:solidFill>
            <a:srgbClr val="00b050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Равнобедренный треугольник 13"/>
          <p:cNvSpPr/>
          <p:nvPr/>
        </p:nvSpPr>
        <p:spPr>
          <a:xfrm>
            <a:off x="4724280" y="1219320"/>
            <a:ext cx="1905120" cy="1523880"/>
          </a:xfrm>
          <a:prstGeom prst="triangle">
            <a:avLst>
              <a:gd name="adj" fmla="val 51435"/>
            </a:avLst>
          </a:prstGeom>
          <a:solidFill>
            <a:srgbClr val="00b050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внобедренный треугольник 14"/>
          <p:cNvSpPr/>
          <p:nvPr/>
        </p:nvSpPr>
        <p:spPr>
          <a:xfrm>
            <a:off x="3657600" y="3657600"/>
            <a:ext cx="3886200" cy="1905120"/>
          </a:xfrm>
          <a:prstGeom prst="triangle">
            <a:avLst>
              <a:gd name="adj" fmla="val 51435"/>
            </a:avLst>
          </a:prstGeom>
          <a:solidFill>
            <a:srgbClr val="00b050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5"/>
          <p:cNvSpPr/>
          <p:nvPr/>
        </p:nvSpPr>
        <p:spPr>
          <a:xfrm>
            <a:off x="2590920" y="3733920"/>
            <a:ext cx="914400" cy="914400"/>
          </a:xfrm>
          <a:prstGeom prst="ellipse">
            <a:avLst/>
          </a:prstGeom>
          <a:solidFill>
            <a:srgbClr val="ff0000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6"/>
          <p:cNvSpPr/>
          <p:nvPr/>
        </p:nvSpPr>
        <p:spPr>
          <a:xfrm>
            <a:off x="8001000" y="3886200"/>
            <a:ext cx="914400" cy="91440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2438280" y="609480"/>
            <a:ext cx="6705720" cy="59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флекс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Урок полезен, всё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ишь кое-что чуть-чуть нея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щё придётся потру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а, трудно всё-таки у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ение басни по рол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ткое сообщение «Крылатые выражения  в басне «Волк на псарне» и их иносказательный харак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нный альбом «Герои басен Крылова в иллюстрация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я раздела учебника «Литература и изобразительное искусств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ить викторину по басням Кры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исовать иллюстрацию к басне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90920" y="2438280"/>
            <a:ext cx="64008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зентаци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готов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лина Вера Вениами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БОУ – СЕБЯКИНСКАЯ ООШ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ИЦКОГО РАЙОНА ОРЛОВ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Облако 3"/>
          <p:cNvSpPr/>
          <p:nvPr/>
        </p:nvSpPr>
        <p:spPr>
          <a:xfrm>
            <a:off x="2362320" y="1371600"/>
            <a:ext cx="5486400" cy="3200400"/>
          </a:xfrm>
          <a:prstGeom prst="pie">
            <a:avLst/>
          </a:prstGeom>
          <a:solidFill>
            <a:srgbClr val="00206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Выноска со стрелкой вниз 4"/>
          <p:cNvSpPr/>
          <p:nvPr/>
        </p:nvSpPr>
        <p:spPr>
          <a:xfrm rot="19961400">
            <a:off x="6873480" y="3571560"/>
            <a:ext cx="395280" cy="175248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00206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Выноска со стрелкой вниз 5"/>
          <p:cNvSpPr/>
          <p:nvPr/>
        </p:nvSpPr>
        <p:spPr>
          <a:xfrm rot="20335800">
            <a:off x="3792240" y="3835080"/>
            <a:ext cx="468360" cy="175248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0206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Выноска со стрелкой вниз 6"/>
          <p:cNvSpPr/>
          <p:nvPr/>
        </p:nvSpPr>
        <p:spPr>
          <a:xfrm rot="12855600">
            <a:off x="7085160" y="1038240"/>
            <a:ext cx="434880" cy="175248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00206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6629400" y="609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А.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3809880" y="5791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514600" y="533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Выноска со стрелкой вниз 11"/>
          <p:cNvSpPr/>
          <p:nvPr/>
        </p:nvSpPr>
        <p:spPr>
          <a:xfrm rot="7861800">
            <a:off x="3256920" y="843840"/>
            <a:ext cx="436320" cy="1752480"/>
          </a:xfrm>
          <a:prstGeom prst="downArrowCallout">
            <a:avLst>
              <a:gd name="adj1" fmla="val 25002"/>
              <a:gd name="adj2" fmla="val 25000"/>
              <a:gd name="adj3" fmla="val 25010"/>
              <a:gd name="adj4" fmla="val 64977"/>
            </a:avLst>
          </a:prstGeom>
          <a:solidFill>
            <a:srgbClr val="00206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6781680" y="52578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сар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лнце 13"/>
          <p:cNvSpPr/>
          <p:nvPr/>
        </p:nvSpPr>
        <p:spPr>
          <a:xfrm>
            <a:off x="3124080" y="1600200"/>
            <a:ext cx="4496040" cy="3352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6629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И.А. Крылов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«Волк на псарн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F:\альфия картинки\pushkin.jpg"/>
          <p:cNvPicPr/>
          <p:nvPr/>
        </p:nvPicPr>
        <p:blipFill>
          <a:blip r:embed="rId1"/>
          <a:stretch/>
        </p:blipFill>
        <p:spPr>
          <a:xfrm>
            <a:off x="6211800" y="360360"/>
            <a:ext cx="2200320" cy="257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альфия картинки\47d006f732fee.jpg"/>
          <p:cNvPicPr/>
          <p:nvPr/>
        </p:nvPicPr>
        <p:blipFill>
          <a:blip r:embed="rId2"/>
          <a:stretch/>
        </p:blipFill>
        <p:spPr>
          <a:xfrm>
            <a:off x="2932200" y="133200"/>
            <a:ext cx="2157480" cy="224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F:\альфия картинки\writers_port_nekrasov.jpg"/>
          <p:cNvPicPr/>
          <p:nvPr/>
        </p:nvPicPr>
        <p:blipFill>
          <a:blip r:embed="rId3"/>
          <a:stretch/>
        </p:blipFill>
        <p:spPr>
          <a:xfrm>
            <a:off x="6589800" y="3486240"/>
            <a:ext cx="2120760" cy="255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альфия картинки\41b47ce35b387e8dae115468779.jpg"/>
          <p:cNvPicPr/>
          <p:nvPr/>
        </p:nvPicPr>
        <p:blipFill>
          <a:blip r:embed="rId4"/>
          <a:stretch/>
        </p:blipFill>
        <p:spPr>
          <a:xfrm>
            <a:off x="3468600" y="2951280"/>
            <a:ext cx="2189160" cy="26683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7"/>
          <p:cNvSpPr/>
          <p:nvPr/>
        </p:nvSpPr>
        <p:spPr>
          <a:xfrm>
            <a:off x="3275280" y="2362320"/>
            <a:ext cx="1558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6562080" y="28954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6863400" y="6019920"/>
            <a:ext cx="16894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.А. Некр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3890520" y="5715000"/>
            <a:ext cx="15339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.А. Кры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4764240" cy="563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66680" y="762120"/>
          <a:ext cx="7696440" cy="3643200"/>
        </p:xfrm>
        <a:graphic>
          <a:graphicData uri="http://schemas.openxmlformats.org/drawingml/2006/table">
            <a:tbl>
              <a:tblPr/>
              <a:tblGrid>
                <a:gridCol w="1909800"/>
                <a:gridCol w="1447920"/>
                <a:gridCol w="1446120"/>
                <a:gridCol w="1446120"/>
                <a:gridCol w="1446480"/>
              </a:tblGrid>
              <a:tr h="8413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бас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нровые особенности бас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л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о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зи-ция (где находится морал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и языка и сти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лк на псарн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04920" y="0"/>
          <a:ext cx="8610480" cy="71848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990360"/>
                <a:gridCol w="1295640"/>
                <a:gridCol w="3581280"/>
              </a:tblGrid>
              <a:tr h="771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-ние бас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нровые особенности бас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л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о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зи-ция (где нахо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я морал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язы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ти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лк на псарн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авши-еся перегово-ры Кутузова и Наполе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к, Ловч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нце бас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ы, передающие тревогу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е и образные выражения; использование интонации и диалога как средства характеристики героев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просторечной лексик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ониз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ористичность язы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й басенный  стих (строчки разной длины), передающий разговорную реч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ицетвор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Крылатые крыловские сл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5640" y="1600200"/>
            <a:ext cx="6629400" cy="4525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ы сер, а я, приятель, сед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лчью вашу я давно натуру знаю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****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379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Люблю, где случай     есть, пороки пощип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И.А. Крыл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43:13Z</dcterms:created>
  <dc:creator>Катенок</dc:creator>
  <dc:description/>
  <dc:language>en-US</dc:language>
  <cp:lastModifiedBy>Администратор</cp:lastModifiedBy>
  <dcterms:modified xsi:type="dcterms:W3CDTF">2014-12-08T16:38:27Z</dcterms:modified>
  <cp:revision>60</cp:revision>
  <dc:subject/>
  <dc:title>При использовании шаблона ссылка на Pedsovet.su обязательна</dc:title>
</cp:coreProperties>
</file>