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7F7-B8F7-47AD-87D0-5A7D50F8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570-3AB4-4017-B51F-822F2694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88D-964A-4B36-A8B4-0CC7EE8A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ADF-9CD6-4B5D-B6CC-FED32AB9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13E1-689C-4BE4-9C93-EF7E4B82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A296-BF9E-492D-B09F-5557B22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2C01-4C6D-4D6F-85EF-87DE4F1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339D-B929-4638-BFA9-0B26E17A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2FEC-5D21-400E-A5CC-AB2D0E9F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79FE-F705-4856-B4F1-37F9E9F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93C1-8DB9-4BDF-9203-A359117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D80-FCC1-40D2-B596-480BA29E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E03A-4FBA-474C-A249-00A7423A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5A87-2658-44BD-BAE1-D0CA7D7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3883-AC97-4BC4-916E-8AF9C3E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643C-6EDD-41F3-A90F-1CCC33BE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9374-CCC0-48DA-88E6-10E7C7C9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03D-B7BC-43F6-AC8C-A7BF81CA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5A8-526B-481F-8ED6-E421165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978-9F41-4359-92F9-0C5375BE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3A0-698C-4286-B30C-8BFB50CD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B16-143C-4EAE-9D0E-F8B00056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1EB-9F6B-41EA-8225-166D810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1A6-C3A0-4ECE-8AEE-6D1182C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289-6B04-40A7-827D-1AFD03AFE7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15A-4C37-4DB5-8019-2A54AF77ED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Использование музейной педагогики в образовательном процессе ДО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016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ahoma"/>
              </a:rPr>
              <a:t>Принципы построения музейной экспозиции</a:t>
            </a:r>
            <a:r>
              <a:rPr b="1" lang="en-US" sz="27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imes New Roman"/>
              </a:rPr>
              <a:t>Научности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Любая экспозиция должна строится на основе научной концепции, соответствующей общественному развитию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imes New Roman"/>
              </a:rPr>
              <a:t>Предметности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Основу экспозиции составляют подлинные предметы, которые ярко характеризуют эпоху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Times New Roman"/>
              </a:rPr>
              <a:t>Коммуникативно – информационный</a:t>
            </a: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3333cc"/>
                </a:solidFill>
                <a:latin typeface="Times New Roman"/>
              </a:rPr>
              <a:t>Дизайн экспозиции должен быть таким, чтобы заключенная в ней информация легко воспринималась посетителями различного возраста и любых социальных групп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19680" y="310788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23920"/>
                <a:tab algn="l" pos="3133800"/>
                <a:tab algn="l" pos="4257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23920"/>
                <a:tab algn="l" pos="3133800"/>
                <a:tab algn="l" pos="4257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Формы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19000" y="2041560"/>
          <a:ext cx="7562880" cy="3402000"/>
        </p:xfrm>
        <a:graphic>
          <a:graphicData uri="http://schemas.openxmlformats.org/drawingml/2006/table">
            <a:tbl>
              <a:tblPr/>
              <a:tblGrid>
                <a:gridCol w="2151360"/>
                <a:gridCol w="2892240"/>
                <a:gridCol w="251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 педагог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 родител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еминары-практику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Рекомендации по организации мини-муз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мотры-кон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роведение досуг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«Познавательное» сотрудн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«Аналитическое» сотрудн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отрудничество в рамках музейной педаг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Бес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Эксперимен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рогулки-п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Развлечения, дос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Интеграция в воспитательно-образовательный процесс придает музею более высокий статус, он становится важной составляющей жизни ДОО и импульсом для социализации ребёнка в атмосфере творчества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680" y="2285640"/>
            <a:ext cx="472464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Если мы рассмотрим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то-то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Это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то-то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–  для чего-т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Это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то-то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–  из чего-т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Это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то-то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- часть чего-т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Чем-то было раньше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то-т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Чем- то будет это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Что-т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ЖЕЛАЮ УСПЕХОВ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овременный детский сад все в большей степени становится открытой в социуме культурной системой. Кругозор современных детей значительно шире, чем был у сверстников 15-20 лет наза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оддержка познава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нтереса в старшем дошкольном возрасте требует использования разных форм и приёмов работы, в том числе характерных для музейной педагогик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77920"/>
            <a:ext cx="80773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Музе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- храм муз, научно-исследовательское учреждение, осуществляющее хранение, изучение и популяризация памятников истории, материальной и духовной культуры. 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                                                                               (</a:t>
            </a:r>
            <a:r>
              <a:rPr b="0" i="1" lang="ru-RU" sz="1800" spc="-1" strike="noStrike">
                <a:solidFill>
                  <a:srgbClr val="3333cc"/>
                </a:solidFill>
                <a:latin typeface="Tahoma"/>
              </a:rPr>
              <a:t>Энциклопедический словарь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34960" y="2224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133800"/>
                <a:tab algn="l" pos="4257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147760"/>
            <a:ext cx="7543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Музейная педагогика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это научно-практическая дисциплина на стыке музееведения, педагогики и психологии, рассматривающая музей как образовательную систему, и направленна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оптимизацию взаимодействия музея и посет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Музейная педагогика в ДОО –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область образовательно-воспитательной деятельности, направленная на формирование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ребёнка ценностного отношения к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Цель при организации  музея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66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851840"/>
            <a:ext cx="78487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остроение диалогического взаимодействия    взрослого и воспитанника в музейной среде, способствующей развитию у детей исследовательской, созида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 познавательной деятельности</a:t>
            </a: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Задачи мини-музея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458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еализовать направления музейной педагог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богащать развивающую предметно-пространственную  сре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богащать познавательный процесс новыми форм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ормировать у дошкольников представления о музе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асширять кругозор воспитанни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азвивать познавательные способности и познавательную дея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ормировать проектно-исследовательские умения и навы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ормировать активную жизненную позици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Услов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оритетность регионального культурного наслед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нтегративность знани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Удовлетворение потребностей в познан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иалогич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азвитие ребёнка в деятельност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пора на эмоционально-чувственную сферу ребён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Профили музея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краеведческий с широкой или конкретной тематико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этнографически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естественно-научны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одного образа</a:t>
            </a:r>
            <a:r>
              <a:rPr b="0" lang="en-US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2971800"/>
            <a:ext cx="2133360" cy="3200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572000"/>
            <a:ext cx="2514600" cy="1752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572000"/>
            <a:ext cx="2514600" cy="1752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47242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629400" y="3200400"/>
            <a:ext cx="188928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205740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Жанры</a:t>
            </a:r>
            <a:r>
              <a:rPr b="1" lang="en-US" sz="3800" spc="-1" strike="noStrike">
                <a:solidFill>
                  <a:srgbClr val="9966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музей-экспози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музей-лаборато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музей-театр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музей-игроте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музей-мастерская (студия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1828800"/>
            <a:ext cx="2743200" cy="2209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2514600" cy="2057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191120"/>
            <a:ext cx="2743200" cy="2057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191120"/>
            <a:ext cx="2362320" cy="2057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48520" y="1968480"/>
            <a:ext cx="2286000" cy="1892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2438640" cy="167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2133720" cy="152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Методы и приём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Нагляд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р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сследователь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гровы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ловес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прос населения, анкетировани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Встречи с интересными людьми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6-03-22T16:34:2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