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camera.wav" ContentType="audio/x-wav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2D3-5DFA-4B74-B4DA-054BFBAA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D60-4378-4611-8056-9E7ED07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49C-84A6-4E24-84FD-2692239D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D1D-7110-40F2-B6C9-BC3131F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280-2606-4B0A-8C22-EE10A7F7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DE5-AAE4-40BB-AC34-E2690844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253-BEB6-4844-BAE0-40C52811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D4F-D9BF-4862-BE1B-8A3AE4C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355-BE1A-4BAD-91A0-FB87E200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68F-39E8-4A13-8D4C-2688DD43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58A-5510-49C1-B955-70D2239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13B-5751-4E81-89E2-46110DE3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CC6C-A399-49C6-96EA-843C8DC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5BB-C5A4-451D-BCFA-BBFAF2E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F6D-99AA-4A92-BB96-ABEA7CC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899-A3BC-48AC-9BD2-CDBD382E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4B87-2063-4E5B-9A7E-C1F7503D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002-A4CA-440E-BAD5-2C80EE6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482-1E8A-4FD4-9A01-8C2C538D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6CA-EC6D-4D30-8881-9AE41E09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A41-BE50-41E2-B007-218869EF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F0-172A-4666-B6C9-243E404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7C0-3B4D-4568-A749-D1EC61D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E87-6EDD-4E0F-845F-D13AFC0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24D-C849-4E60-9E83-C404BB391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утешествие в зелёную аптеку. Нечаева Оксана Павл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911-273F-4F8A-8241-13B4806D2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nterweb.spb.ru/present/page.asp?4_1_11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web.spb.ru/present/page.asp?4_1_11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119077_1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 бюджетное общеобразовательное  учреждение  «Красивская СОШ» Филиал «Кулевчинский»</a:t>
            </a:r>
            <a:br>
              <a:rPr sz="2000"/>
            </a:br>
            <a:br>
              <a:rPr sz="2000"/>
            </a:br>
            <a:br>
              <a:rPr sz="24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неурочное занятие по программе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«Школа докторов Здоровья»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классе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c0504d"/>
                </a:solidFill>
                <a:latin typeface="Graceful Mazurka"/>
              </a:rPr>
              <a:t> "Фитотерапия как один из </a:t>
            </a:r>
            <a:br>
              <a:rPr sz="3200"/>
            </a:br>
            <a:r>
              <a:rPr b="1" lang="ru-RU" sz="3200" spc="-1" strike="noStrike">
                <a:solidFill>
                  <a:srgbClr val="c0504d"/>
                </a:solidFill>
                <a:latin typeface="Graceful Mazurka"/>
              </a:rPr>
              <a:t>способов укрепления и оздоровления организма"</a:t>
            </a:r>
            <a:br>
              <a:rPr sz="3200"/>
            </a:br>
            <a:r>
              <a:rPr b="1" lang="ru-RU" sz="3200" spc="-1" strike="noStrike">
                <a:solidFill>
                  <a:srgbClr val="c0504d"/>
                </a:solidFill>
                <a:latin typeface="Graceful Mazurka"/>
              </a:rPr>
              <a:t> </a:t>
            </a:r>
            <a:br>
              <a:rPr sz="3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984807"/>
                </a:solidFill>
                <a:latin typeface="Monotype Corsiva"/>
              </a:rPr>
              <a:t>Фитотерап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46c0a"/>
                </a:solidFill>
                <a:latin typeface="Calibri"/>
              </a:rPr>
              <a:t>Как сохран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ни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мешочках из тк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мажных пакетах, банках, коро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хучие хранить отдельно от непахуч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ок хран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вы, листья, цветы – 1-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или корневища – 3-4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  <p:pic>
        <p:nvPicPr>
          <p:cNvPr id="120" name="Звуки природы для релаксации – Шум воды, пение птиц (www.petamusic.ru).mp3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121" name="Enerwood׃ чаепитие для долголетия. Все про чай, NL Products.mp4" descr=""/>
          <p:cNvPicPr/>
          <p:nvPr/>
        </p:nvPicPr>
        <p:blipFill>
          <a:blip r:embed="rId3"/>
          <a:stretch/>
        </p:blipFill>
        <p:spPr>
          <a:xfrm>
            <a:off x="8317080" y="6072120"/>
            <a:ext cx="358560" cy="270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339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красивое лиственное дерево с тёмной корой и раскидистой кроной. Цветки этого дерева – старинное народное средство, применяемое при просту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мая часть. Цветки с прицветниками, почки, листья, кора, с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сбора: цветки и листья  - в июне — августе, почки — весной, кору — ранней весной или поздней осен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ww.vitusltd.ru/V-images/derev_lipa_melkolist.jpg"/>
          <p:cNvPicPr/>
          <p:nvPr/>
        </p:nvPicPr>
        <p:blipFill>
          <a:blip r:embed="rId1"/>
          <a:stretch/>
        </p:blipFill>
        <p:spPr>
          <a:xfrm>
            <a:off x="1042920" y="4005360"/>
            <a:ext cx="2808360" cy="24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house-help.info/wp-content/uploads/2010/06/lipa_melkolist.jpg"/>
          <p:cNvPicPr/>
          <p:nvPr/>
        </p:nvPicPr>
        <p:blipFill>
          <a:blip r:embed="rId2"/>
          <a:stretch/>
        </p:blipFill>
        <p:spPr>
          <a:xfrm>
            <a:off x="4788000" y="3860640"/>
            <a:ext cx="3456000" cy="250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Берё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928800"/>
            <a:ext cx="87138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т дерева прекрасней берёзки. Берёза- значит светлый, белый. Как выяснилось она не только красавица, но и лекарь прекрасный. Березовый деготь врачует раны, язвы, ожоги, кожные заболевания. Листья берёзы помогают снять отёки сердечно -сосудистого и почечного происхожд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 – при заболеваниях легк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ют: почки и лист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ремя сбора – март, апр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leksad.ru/himage/19_42.jpg"/>
          <p:cNvPicPr/>
          <p:nvPr/>
        </p:nvPicPr>
        <p:blipFill>
          <a:blip r:embed="rId1"/>
          <a:stretch/>
        </p:blipFill>
        <p:spPr>
          <a:xfrm>
            <a:off x="826920" y="3641760"/>
            <a:ext cx="3457800" cy="2614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s41.radikal.ru/i091/0906/31/1f822bb27b58.jpg"/>
          <p:cNvPicPr/>
          <p:nvPr/>
        </p:nvPicPr>
        <p:blipFill>
          <a:blip r:embed="rId2"/>
          <a:stretch/>
        </p:blipFill>
        <p:spPr>
          <a:xfrm>
            <a:off x="5292720" y="2421000"/>
            <a:ext cx="290844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Сос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4920" y="119664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стои и отвары из почек действуют как     дезинфицирующее, отхаркивающее, и мочегонное  средс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http://herba.worldsoul.ru/wp-content/uploads/2010/08/sosna.jpg"/>
          <p:cNvPicPr/>
          <p:nvPr/>
        </p:nvPicPr>
        <p:blipFill>
          <a:blip r:embed="rId1"/>
          <a:stretch/>
        </p:blipFill>
        <p:spPr>
          <a:xfrm>
            <a:off x="5364000" y="2133720"/>
            <a:ext cx="3071880" cy="388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354120" cy="3841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Шипов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836280"/>
            <a:ext cx="80647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ая лаборатория, аккумулятор здоровья. Витамина С в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их больше, чем в смородине и лимоне.  Имеются витамины группы В, К, Р, каротин, сахара, дубильные вещества, органические кислоты, пектины,  микроэлементы. В семенах содержится, витамин 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епараты плодов этого природного поливитаминного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центрата используют для профилактики и лечения  цинги, куриной слепоты и других авитаминозов, при   малокровии, атеросклерозе, гиперто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бирают плоды шиповника до заморозков, поскольку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аже слабое подмораживание уничтожает их лекарственные свойства.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3" descr="C:\Documents and Settings\1\Local Settings\Temporary Internet Files\Content.Word\шиповник.jpg"/>
          <p:cNvPicPr/>
          <p:nvPr/>
        </p:nvPicPr>
        <p:blipFill>
          <a:blip r:embed="rId1"/>
          <a:stretch/>
        </p:blipFill>
        <p:spPr>
          <a:xfrm>
            <a:off x="5435640" y="4365720"/>
            <a:ext cx="2643120" cy="207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Смород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785880"/>
            <a:ext cx="87854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ары и настои, которые используют при лечении болезней желудочно-кишечного тракта, мочевого пузыря, для лечения ревматизма и подагры, почечно-каменной болезни и водянки, а также других заболеваниях. Ягоды черной смородины используют при авитаминозах, при анемии, а также после перенесенных заболеваниях, которые истощили ваш организ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обострении желудочно-кишечных заболеваний можно использовать кисели, отвары и сок черной смород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4" descr="Безимени-1.jpg"/>
          <p:cNvPicPr/>
          <p:nvPr/>
        </p:nvPicPr>
        <p:blipFill>
          <a:blip r:embed="rId1"/>
          <a:stretch/>
        </p:blipFill>
        <p:spPr>
          <a:xfrm>
            <a:off x="3708360" y="3500280"/>
            <a:ext cx="3714840" cy="2907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201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Малина  обыкнов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850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ют плод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виде чая - потогонное средство при простуд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9692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2" descr="C:\Documents and Settings\PUNKROCKER\Рабочий стол\Лек.раст\малина.jpg"/>
          <p:cNvPicPr/>
          <p:nvPr/>
        </p:nvPicPr>
        <p:blipFill>
          <a:blip r:embed="rId2"/>
          <a:stretch/>
        </p:blipFill>
        <p:spPr>
          <a:xfrm>
            <a:off x="2987640" y="2997360"/>
            <a:ext cx="3960720" cy="273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Тысячелис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3840" y="1213920"/>
            <a:ext cx="8642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роде называют солдатской травой. И действительно: оно выносливое, смелое, не боится ни жары, ни морозов, ни плохих почв. Оно останавливает кровь и заживляет раны. Другое его название «Ахиллесова тра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мая часть. Трава (стебли, листья, цве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сбора. Май — авгу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http://lekartrav.narod.ru/images/tisyachelist.jpg"/>
          <p:cNvPicPr/>
          <p:nvPr/>
        </p:nvPicPr>
        <p:blipFill>
          <a:blip r:embed="rId1"/>
          <a:stretch/>
        </p:blipFill>
        <p:spPr>
          <a:xfrm>
            <a:off x="4716360" y="3357720"/>
            <a:ext cx="3240360" cy="2933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Крап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981000"/>
            <a:ext cx="8569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то и сорняк и лекарство одновременно. Его древнее название от слова «коприна» – шёлк. Из его стеблей получали волокно для выработки тканей. Это растение умеет останавливать кровь и насытить наш организм витамин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меняемая часть. Листья и корни с корневищ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ремя сбора. Листья собирают в июне — августе, корни — поздней осен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http://zelenplaneta.ru/uploads/posts/2010-02/1267214630_1264959249_nettle_4.jpg"/>
          <p:cNvPicPr/>
          <p:nvPr/>
        </p:nvPicPr>
        <p:blipFill>
          <a:blip r:embed="rId1"/>
          <a:stretch/>
        </p:blipFill>
        <p:spPr>
          <a:xfrm>
            <a:off x="4788000" y="3716280"/>
            <a:ext cx="3600360" cy="251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476360" y="3573360"/>
            <a:ext cx="245736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Зверо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713880"/>
            <a:ext cx="8713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Руси считалось «травой от девяносто девяти болезней». «Как без муки нельзя испечь хлеба, так без зверобоя нельзя лечить многие недуги», – говорит народная медицина. Народ наделил её «страшной силой», говорили, что косит она зверьё направо и нале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юда и название. Зверобой обладает сильным бактерицидным действием, используется как вяжущее, кровоостанавливающее, противовоспалительное, ранозаживляющее средств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ют: трава (стебли, листья, цветки) и лист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ремя сбора. Июнь — ию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http://style-hairs.ru/uploads/posts/2009-08/1249141298_zveroboi.jpg"/>
          <p:cNvPicPr/>
          <p:nvPr/>
        </p:nvPicPr>
        <p:blipFill>
          <a:blip r:embed="rId1"/>
          <a:stretch/>
        </p:blipFill>
        <p:spPr>
          <a:xfrm>
            <a:off x="5000760" y="3429000"/>
            <a:ext cx="3286080" cy="324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785880" y="3929040"/>
            <a:ext cx="3500280" cy="2786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Травы – лек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26560" y="1599840"/>
            <a:ext cx="770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ть в травах и цветах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тельная с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всех уме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х тайну разгад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.Ряз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://discussiya.com/wp-content/uploads/2010/05/01may.jpg"/>
          <p:cNvPicPr/>
          <p:nvPr/>
        </p:nvPicPr>
        <p:blipFill>
          <a:blip r:embed="rId1"/>
          <a:stretch/>
        </p:blipFill>
        <p:spPr>
          <a:xfrm>
            <a:off x="5148360" y="1700280"/>
            <a:ext cx="37926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Мята  переч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та широко применяется в народной медицине. Усиливает аппетит, улучшает пищеварение, прекращает спазмы желудка и колики, обладает, успокаивающим, противовоспалительным и обезболивающим действием. Настой травы применяют как средство, возбуждающее аппетит, а также при кашле, удушье, головной б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мая часть. Трава (стебли, листья, цвет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сбора. Июнь — сентяб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www.hefesti.ru/userfiles/%D0%BC%D1%8F%D1%82%D0%B0.png"/>
          <p:cNvPicPr/>
          <p:nvPr/>
        </p:nvPicPr>
        <p:blipFill>
          <a:blip r:embed="rId1"/>
          <a:stretch/>
        </p:blipFill>
        <p:spPr>
          <a:xfrm>
            <a:off x="6012000" y="3860640"/>
            <a:ext cx="2520720" cy="253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Ромаш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892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шка аптечная отличается от ромашки непахучей сильным ароматическим запахом Растение широко применяют в народной медицине. Водный настой - как болеутоляющее, успокаивающее, болях в желудке. Настой - для полоскания горла и промывания гнойных ран, язв и нарывов. При мытье светлых волос настой ромашки придает им красивый золотистый ц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мая часть. Цветочные корзинки (цве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сбора. Май — авгу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519640" cy="2378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213840"/>
            <a:ext cx="7620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Одуванчик лекарстве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4607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тся корен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стой – для возбуждения аппетита, желчегонное средств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алат из листьев полезен при гипо- и авитаминозах, малокров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95120" y="258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Клип 9" descr="C:\Documents and Settings\PUNKROCKER\Рабочий стол\Лек.раст\одуванчик.jpg"/>
          <p:cNvPicPr/>
          <p:nvPr/>
        </p:nvPicPr>
        <p:blipFill>
          <a:blip r:embed="rId2"/>
          <a:stretch/>
        </p:blipFill>
        <p:spPr>
          <a:xfrm>
            <a:off x="611280" y="1484280"/>
            <a:ext cx="3809880" cy="394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14200"/>
            <a:ext cx="7620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Подорож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0" y="1268280"/>
            <a:ext cx="460044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щное обезболивающее, противовоспалительное и антисептическое средство. При помощи настоя из листьев можно избавиться от кашля, респираторного заболевания, туберкулеза лёгких, плеврита, катара верхних дыхательных путей, бронхиальной аст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конечно всем известное и незаменимое средство от повреждений кож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5" descr="Безимени-1.jpg"/>
          <p:cNvPicPr/>
          <p:nvPr/>
        </p:nvPicPr>
        <p:blipFill>
          <a:blip r:embed="rId1"/>
          <a:stretch/>
        </p:blipFill>
        <p:spPr>
          <a:xfrm>
            <a:off x="755640" y="1628640"/>
            <a:ext cx="308772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-14292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Лоп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28720" y="714240"/>
            <a:ext cx="43909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беги и корни съедобны, в ряде стран лопух культивируется как овощное растение. Корни некоторых видов используются в медицине (мочегонное, потогонное средство и др.). Медоно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PUNKROCKER\Рабочий стол\Лек.раст\Лопух цветёт.jpg"/>
          <p:cNvPicPr/>
          <p:nvPr/>
        </p:nvPicPr>
        <p:blipFill>
          <a:blip r:embed="rId2"/>
          <a:stretch/>
        </p:blipFill>
        <p:spPr>
          <a:xfrm>
            <a:off x="5580000" y="4076640"/>
            <a:ext cx="2662200" cy="249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14200"/>
            <a:ext cx="7620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Лу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08360" y="1268280"/>
            <a:ext cx="50292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вежий лук усиливает аппет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пиртовая настойка лука обладает мочегонным и легким слабительным действием, предупреждает запоры, снимает боль, способствует растворению песка и мелких камней при почечнокаменной болезни. Лук, жаренный на сливочном масле или отваренный в молоке, смягчает кашель и способствует отхаркиванию мокр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1" descr="Картинка 165 из 4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143160" cy="3051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07640" y="5013000"/>
            <a:ext cx="54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Documents and Settings\PUNKROCKER\Рабочий стол\ЧКР. Степанова Т.В\Чай.jpg"/>
          <p:cNvPicPr/>
          <p:nvPr/>
        </p:nvPicPr>
        <p:blipFill>
          <a:blip r:embed="rId1"/>
          <a:stretch/>
        </p:blipFill>
        <p:spPr>
          <a:xfrm>
            <a:off x="1979640" y="836640"/>
            <a:ext cx="5335560" cy="4162320"/>
          </a:xfrm>
          <a:prstGeom prst="rect">
            <a:avLst/>
          </a:prstGeom>
          <a:ln w="0">
            <a:noFill/>
          </a:ln>
        </p:spPr>
      </p:pic>
      <p:pic>
        <p:nvPicPr>
          <p:cNvPr id="191" name="Физминутка “Кошка беспородная“.mp4" descr=""/>
          <p:cNvPicPr/>
          <p:nvPr/>
        </p:nvPicPr>
        <p:blipFill>
          <a:blip r:embed="rId2"/>
          <a:stretch/>
        </p:blipFill>
        <p:spPr>
          <a:xfrm>
            <a:off x="6875640" y="189000"/>
            <a:ext cx="1914480" cy="863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1619280" y="333360"/>
            <a:ext cx="41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ван Гроз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Аптекарская изб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Picture 6" descr="C:\Documents and Settings\admin\Рабочий стол\для публикации\Новая папка\images_15.jpg"/>
          <p:cNvPicPr/>
          <p:nvPr/>
        </p:nvPicPr>
        <p:blipFill>
          <a:blip r:embed="rId2"/>
          <a:stretch/>
        </p:blipFill>
        <p:spPr>
          <a:xfrm>
            <a:off x="1979640" y="1557360"/>
            <a:ext cx="3571920" cy="501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admin\Рабочий стол\для публикации\Новая папка\podorojnik.jpg"/>
          <p:cNvPicPr/>
          <p:nvPr/>
        </p:nvPicPr>
        <p:blipFill>
          <a:blip r:embed="rId3"/>
          <a:stretch/>
        </p:blipFill>
        <p:spPr>
          <a:xfrm>
            <a:off x="6300720" y="476280"/>
            <a:ext cx="1357560" cy="2017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zverob1"/>
          <p:cNvPicPr/>
          <p:nvPr/>
        </p:nvPicPr>
        <p:blipFill>
          <a:blip r:embed="rId4"/>
          <a:stretch/>
        </p:blipFill>
        <p:spPr>
          <a:xfrm>
            <a:off x="6227640" y="3429000"/>
            <a:ext cx="1214640" cy="287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admin\Рабочий стол\для публикации\Новая папка\5a9d4bfa9925d281a5d1191319f191cc.jpg"/>
          <p:cNvPicPr/>
          <p:nvPr/>
        </p:nvPicPr>
        <p:blipFill>
          <a:blip r:embed="rId5"/>
          <a:stretch/>
        </p:blipFill>
        <p:spPr>
          <a:xfrm>
            <a:off x="324000" y="2133720"/>
            <a:ext cx="1457280" cy="3527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1403280" y="404640"/>
            <a:ext cx="460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тр 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Аптекарские огород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6" descr="C:\Documents and Settings\admin\Рабочий стол\для публикации\Новая папка\31-image001.jpg"/>
          <p:cNvPicPr/>
          <p:nvPr/>
        </p:nvPicPr>
        <p:blipFill>
          <a:blip r:embed="rId2"/>
          <a:stretch/>
        </p:blipFill>
        <p:spPr>
          <a:xfrm>
            <a:off x="2124000" y="1844640"/>
            <a:ext cx="3576600" cy="466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admin\Рабочий стол\для публикации\Новая папка\749.jpg"/>
          <p:cNvPicPr/>
          <p:nvPr/>
        </p:nvPicPr>
        <p:blipFill>
          <a:blip r:embed="rId3"/>
          <a:stretch/>
        </p:blipFill>
        <p:spPr>
          <a:xfrm>
            <a:off x="250920" y="2421000"/>
            <a:ext cx="1614240" cy="33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admin\Рабочий стол\для публикации\Новая папка\oduvanchik.jpg"/>
          <p:cNvPicPr/>
          <p:nvPr/>
        </p:nvPicPr>
        <p:blipFill>
          <a:blip r:embed="rId4"/>
          <a:stretch/>
        </p:blipFill>
        <p:spPr>
          <a:xfrm>
            <a:off x="6300720" y="1700280"/>
            <a:ext cx="1262160" cy="17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\Рабочий стол\для публикации\Новая папка\Urtica_dioica_L_-1.jpg"/>
          <p:cNvPicPr/>
          <p:nvPr/>
        </p:nvPicPr>
        <p:blipFill>
          <a:blip r:embed="rId5"/>
          <a:srcRect l="0" t="0" r="0" b="7505"/>
          <a:stretch/>
        </p:blipFill>
        <p:spPr>
          <a:xfrm>
            <a:off x="6227640" y="4292640"/>
            <a:ext cx="135756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577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Фит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915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чение травами, при котором прием внутрь настоев всевозможных трав и растений оказывает благотворное действие на работу всего организма, происходит очищение крови и жизненно важных органов от шлаков и токсинов, повышаются его защитные функ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zoojournal.ru/perev_fotos/19-2_600ocopy1111.jpg"/>
          <p:cNvPicPr/>
          <p:nvPr/>
        </p:nvPicPr>
        <p:blipFill>
          <a:blip r:embed="rId1"/>
          <a:stretch/>
        </p:blipFill>
        <p:spPr>
          <a:xfrm>
            <a:off x="3348000" y="4005360"/>
            <a:ext cx="2524320" cy="20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Преиму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правильном применении растительные препараты обладают более мягким действием, менее токсичны, чем синтетические и не вызывают привыкания и аллерг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ны усиливать иммунитет человека, помогая ему тем самым справиться с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ако следует заметить, что всё это верно только при грамотном и правильном их использова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http://images-partners.google.com/images?q=tbn:ANd9GcTN2KktHCs57sJwX95_6I_UijWzf7-A6BZnG_xk5FYxQLq0HQqff6Z0aEo:http://img0.liveinternet.ru/images/attach/c/1//56/832/56832849_tz3.gif"/>
          <p:cNvPicPr/>
          <p:nvPr/>
        </p:nvPicPr>
        <p:blipFill>
          <a:blip r:embed="rId1"/>
          <a:stretch/>
        </p:blipFill>
        <p:spPr>
          <a:xfrm>
            <a:off x="214200" y="14292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76520" cy="73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Сбор лекарственного сыр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ды собирают во время полного созре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у собирают во время весеннего соко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ни и корневища – поздней осен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чки – ранней весной, когда они набухли, но не тронулись в р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дземные части собирают в хорошую сухую по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земные части можно собирать в любую погоду, так как перед сушкой их мо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travamed.ru/wp-content/uploads/2011/02/sbor.jpg"/>
          <p:cNvPicPr/>
          <p:nvPr/>
        </p:nvPicPr>
        <p:blipFill>
          <a:blip r:embed="rId1"/>
          <a:stretch/>
        </p:blipFill>
        <p:spPr>
          <a:xfrm>
            <a:off x="3564000" y="4005360"/>
            <a:ext cx="2376360" cy="2303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Где можно собир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6920" y="1052280"/>
            <a:ext cx="7490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льзя собирать у шоссейных дорог, в местах, которые подвергались обработке ядохимикатами, а также в местах, где лекарственных растений очень ма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http://www.rgo.ru/wp-content/uploads/2010/06/182.jpg"/>
          <p:cNvPicPr/>
          <p:nvPr/>
        </p:nvPicPr>
        <p:blipFill>
          <a:blip r:embed="rId1"/>
          <a:stretch/>
        </p:blipFill>
        <p:spPr>
          <a:xfrm>
            <a:off x="2268360" y="3068640"/>
            <a:ext cx="4659480" cy="3060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Заготавливают разные части раст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чки – берёза повислая, сосна обыкновенна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истья – подорожник большой, крапива двудомна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ава (стебли с листьями и цветами) – пастушья сумка, зверобой, ландыш, пижма обыкновенная, тысячелистник обыкновенны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лоды – шиповник, можжевельник обыкновенный, черёмуха, мали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рни и корневища – одуванчик лекарственный, петрушка, лопу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веты и соцветия – календула, полынь, василек синий соцветия лип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ра – верба, дуб, кал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016360" cy="2009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user</cp:lastModifiedBy>
  <dcterms:modified xsi:type="dcterms:W3CDTF">2016-11-09T16:44:13Z</dcterms:modified>
  <cp:revision>76</cp:revision>
  <dc:subject/>
  <dc:title>Лекарственные растения.</dc:title>
</cp:coreProperties>
</file>