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27A-973C-4031-97D8-A5C8F34D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FF8-F1C6-46BF-9C65-9681E55E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653-E321-4EDF-B27B-510B985D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094-F191-4794-B477-68A4EB05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232A-3074-44C1-BD56-DA8B9BA6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15C2-12F6-42E5-A08D-820EBB7C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99D-943A-4354-A144-B29123D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D75-2C15-4F28-91D8-0B86B881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AED7-2317-4157-A4F6-C3EF4528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D4E-0293-4600-8AB8-9B6041B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EFE-6B6C-47F3-A0B6-7279F4D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8A0-39DE-4B43-81E8-0B6450F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178-3537-4804-80E9-0228268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5720-E015-43A4-BE2A-ACBA60C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17A0-403B-461D-9EE6-3B5F83E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51F6-B6E7-4EA8-B8EC-9A25BD27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1721-D14F-466C-8750-54109069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434F-BCE8-49C9-A8D7-BCD5E58D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F66B-6FF7-4198-BBCA-231AFAD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B338-148A-4946-908C-7A6B3510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4845-7225-4D19-8273-51ACB1F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26E6-2E83-4750-B665-80F6BA8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5C0-029D-417B-94AD-F7F57E9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03AE-D1DC-40D8-BF0D-A3C4CAE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F393-F59D-4087-9EB9-731D2152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C963-A165-4857-90F4-9C276FA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0FD5-1047-4777-8386-38A5F21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7995-372D-4413-99BA-871CB7C7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987A-8B66-46A6-A2BE-208A44E1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EADB-0C33-4939-8CBA-0554CFDA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51E9-CD29-4511-A408-7EB62486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58CE-68CC-4D31-A751-D6CEF6E7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C07BD-7C6D-4CFC-A3D0-BC4639D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5FB-61C6-43C1-A979-C1DB2C6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54EA-4C5E-4CD0-A838-C46828BB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DA8C-2B32-4325-9C8A-71D962D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B3CA-40E4-4827-BA4D-E47DDFE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99CD-86C2-4F2C-A761-36C25E2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C99C-7873-4CF0-8BFD-3CC8ACC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352E-C091-49F5-9F74-C62CEA9B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E5E1-D0CB-4DB5-8E5B-845EDDD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A3C4-1D65-418B-90F9-D5D5638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4D49-2696-42FA-93C5-FEF13EBA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EA9-7B51-4BF4-9101-70F017E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43A-FC09-4936-94A6-C3B352E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CD4-289F-4DC6-A6A0-B7405EA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619-E9C6-4ABB-AD6D-A6BC06E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5F2-C379-42E9-92CC-5326BD5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C8718-2E8C-4333-ADD3-BF45BBAFCC8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10BCF-326F-4FD3-A562-B4C03740A35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266CC-9AB6-41E5-9B45-48889F7FB14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3D216-F6A4-4B2F-86CB-0697ED4D456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1e4649"/>
                </a:solidFill>
                <a:latin typeface="Monotype Corsiva"/>
                <a:ea typeface="Times New Roman"/>
              </a:rPr>
              <a:t>Самосознание и самооценка у детей дошкольного возраста </a:t>
            </a:r>
            <a:br>
              <a:rPr sz="5600"/>
            </a:b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 algn="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600" spc="-1" strike="noStrike">
                <a:solidFill>
                  <a:srgbClr val="1e4649"/>
                </a:solidFill>
                <a:latin typeface="Monotype Corsiva"/>
                <a:ea typeface="Times New Roman"/>
              </a:rPr>
              <a:t>                               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imes New Roman"/>
              </a:rPr>
              <a:t>Факторы, влияющие на формирование низкой или высокой самооценки  у ребенка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4920" y="1196640"/>
            <a:ext cx="41720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Условия формирования низкой самооценки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родителей поставить детей в подчиненное, зависим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ребуя от ребенка послушания, воспитывая у не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траиваться к другим людям; зависимость о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 в повседневной жизни, бесконфликтное взаимодействие со сверстник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 родители внутренне не принимают ребенка, он оказывается для них неинтересен, вызывает неодобр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фликтные отношения меж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тел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заинтересованности окружающих в ребенк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1640" y="1196640"/>
            <a:ext cx="410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Условия формирования высокой самооценки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ая самооценка развивается у детей в семьях, отличающихся сплоченностью и солидар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арит атмосфера взаимного доверия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принимаю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его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им, какой он есть, невзирая на его умственные или физические данны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ъявл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бен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ум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ей в результатах учебы ребенк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е родителями друзей ребенк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такж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аимодействие родителей с ребенком в беседе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-468360" y="3284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88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imes New Roman"/>
              </a:rPr>
              <a:t>Особенности развития самооценки в младенческом возрасте.            (1-2м.-1г.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4920" y="1197000"/>
            <a:ext cx="83026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бщение со взрослыми, в особенности с матерью - необходимое условие развития самооценки в этот период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-  главный источником информации для ребенка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б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и о других)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с первых дней оценивает малыша. В любой оценке главным для ребенка является доброжелательное вним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, выделяя ребенка из окружающего мира как нечто ценное, важное, значимое для себя, формируют у малыша ощущение своей важности, положительное отношение к другим людям и положительное самоощущение, что в дальнейшем поможет сформировать и положительную самооценку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я поступки ребенка, взрослые вырабатывают у него определенное эмоциональное отношение к себе, чувство собственной ценности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эмоционального климата первых месяцев и даже дней жизни ребенка во многом зависит будущий характер самооценки взросл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66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imes New Roman"/>
              </a:rPr>
              <a:t>Особенности развития самооценки в период раннего детства (1-3г.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3668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едущим фактором развития самосознания и самооценки в этот период продолжает оставаться взаимоотношение ребенка со взрослы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еще не складывается собственная, устойчивая самооценка, ребенок стихийно принимает отношение к себе взрослого, и, таким образом, истоком первоначальной самооценки его личности является «на веру» принятое отношение взрослого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 себя, своего «Я» происходит через телесные чувствования, визуальный образ своего отражения в зеркал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ая самооценка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формированная в этот период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лияет на процесс дальнейшего ее становления в более поздние этапы развития его личности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imes New Roman"/>
              </a:rPr>
              <a:t>Особенности развития самооценки в дошкольном возрасте (3-7л.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5280" y="1143000"/>
            <a:ext cx="8362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амооценка становится достаточно устойчивой, более или менее объективно отражающей реальное состояние развития ребен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одержание самооценки ребенка составляет осознание практических умений, поступков, его моральных свойств, которые он обнаруживает в себе, соотносит свои поступки с требованиями взрослы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дошкольником самого себя во многом зависит от того, как его оценивает взрослы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точнее оценочное воздействие взрослого, тем точнее представление ребенка о результатах своих действ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у оценить себя гораздо труднее, чем сверстника.. Самооценка дошкольника очень эмоциональ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 года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цен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из общей становится дифференцированно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imes New Roman"/>
              </a:rPr>
              <a:t>На основе особенностей развития самооценки  сделаны выводы</a:t>
            </a:r>
            <a:r>
              <a:rPr b="1" lang="en-US" sz="2800" spc="-1" strike="noStrike">
                <a:solidFill>
                  <a:srgbClr val="3f781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12536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На формирование и развитие самооценки наибольшее влияние оказывают социальные факторы, в особенности отношение родителей к детям в периоды младенческого возраста и раннего детст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Самооценка активно развивается в разные возрастные периоды, каждый из которых является важным в формировании личности ребен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В период младенчества важным условием для развития адекватной самооценки в будущем является доброжелательное отношение к ребенку со стороны окружающих его людей, в частности родителей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В период раннего детства основным источником информации о себе и о других людях являются взрослые. И от того, как будут относиться, и оценивать ребенка взрослые зависит и самооценка самого ребенка, так как он принимает на веру все, что ему говорят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В дошкольном возрасте формирование самооценки опирается на производимый детьми учет успешности своих действий, оценок окружающих и одобрение родителей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120" y="609480"/>
            <a:ext cx="6348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сознание - это осознание и отношение к себе как физическому, духовному и общественному существу. Человек не рождается с готовым самосознанием самосознание является продуктом развития человека развивается в процессе собственной активной деятельности ребёнка, на основе взаимодействий с окружающим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60280"/>
            <a:ext cx="634860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тие самосознания протекает индивидуально у каждого ребёнка. Первые признаки возникновения : начинает выделять себя, своё тело из окружающего пространства ( к концу 1 года жизни ) Дальнейшее развитие - осознание своих желаний, мотивов своих действий Следующая ступень - отделение себя от своих действ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тие самосознания Ребёнок начинает отделять действие от предмета, за которым оно первоначально было закреплено ( на 3 году жизни ) Возникает в результате выполнения ребёнком предметного действия в новых условиях и переноса его на другие предметы ( кормление куклы не только маленькой алюминиевой ложечкой, но и пластмассовой, могут использовать палочку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6348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Действуя с предметами, ребёнок сравнивает свои действия с действиями взрослых, находит в них сходство, различие, чаще действует без помощи взрослого ( самостоятельное действие, часто отличное от желания взрослого ) Я « играюсь », я « одеваюсь », я « ем » и всё чаще я « сам »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Объект 3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4392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933720"/>
            <a:ext cx="6348600" cy="31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и других новообразований, появляющихся вслед за этим, особое значение для развития ребёнка как личности имеет самооценка. Решающее значение в развитии самооценки на первых этапах становления личности имеет общение ребёнка со взрослыми.</a:t>
            </a:r>
            <a:br>
              <a:rPr sz="25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5367240"/>
            <a:ext cx="7418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Картинки по запросу картинка счастливого ребенка"/>
          <p:cNvPicPr/>
          <p:nvPr/>
        </p:nvPicPr>
        <p:blipFill>
          <a:blip r:embed="rId1"/>
          <a:srcRect l="0" t="1101" r="0" b="1101"/>
          <a:stretch/>
        </p:blipFill>
        <p:spPr>
          <a:xfrm>
            <a:off x="609480" y="260280"/>
            <a:ext cx="6483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Самооценка как один из компонентов</a:t>
            </a:r>
            <a:br>
              <a:rPr sz="2800"/>
            </a:b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 Я-концепции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23" name="Organization Chart 8"/>
          <p:cNvGrpSpPr/>
          <p:nvPr/>
        </p:nvGrpSpPr>
        <p:grpSpPr>
          <a:xfrm>
            <a:off x="250920" y="2089080"/>
            <a:ext cx="3960360" cy="2514600"/>
            <a:chOff x="250920" y="2089080"/>
            <a:chExt cx="3960360" cy="2514600"/>
          </a:xfrm>
        </p:grpSpPr>
        <p:cxnSp>
          <p:nvCxnSpPr>
            <p:cNvPr id="224" name="_s1028"/>
            <p:cNvCxnSpPr>
              <a:stCxn id="225" idx="1"/>
              <a:endCxn id="226" idx="2"/>
            </p:cNvCxnSpPr>
            <p:nvPr/>
          </p:nvCxnSpPr>
          <p:spPr>
            <a:xfrm rot="10800000">
              <a:off x="1889280" y="2545560"/>
              <a:ext cx="249840" cy="182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029"/>
            <p:cNvCxnSpPr>
              <a:stCxn id="228" idx="1"/>
              <a:endCxn id="226" idx="2"/>
            </p:cNvCxnSpPr>
            <p:nvPr/>
          </p:nvCxnSpPr>
          <p:spPr>
            <a:xfrm rot="10800000">
              <a:off x="1889280" y="2545560"/>
              <a:ext cx="2498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6" idx="2"/>
            </p:cNvCxnSpPr>
            <p:nvPr/>
          </p:nvCxnSpPr>
          <p:spPr>
            <a:xfrm rot="10800000">
              <a:off x="1889280" y="2545560"/>
              <a:ext cx="249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6" name="_s1031"/>
            <p:cNvSpPr/>
            <p:nvPr/>
          </p:nvSpPr>
          <p:spPr>
            <a:xfrm>
              <a:off x="250920" y="2089080"/>
              <a:ext cx="3278520" cy="45720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</a:rPr>
                <a:t>Компоненты Я-концепции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0" name="_s1032"/>
            <p:cNvSpPr/>
            <p:nvPr/>
          </p:nvSpPr>
          <p:spPr>
            <a:xfrm>
              <a:off x="2139480" y="27748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</a:rPr>
                <a:t>Образ-Я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2139480" y="34606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</a:rPr>
                <a:t>Самооценка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2139480" y="41464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</a:rPr>
                <a:t>Поведенческий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11280" y="119700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Я - концепци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это описание черт своей личности и вся совокупность их оценочных характеристик и связанных с ними переживаний, она способствует достижению внутренней согласованности личности, определяет интерпретацию опыта и является источником ожидан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Образ-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это представление о себе и отношение к себе: довольства и недовольств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веденческ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ий компонент-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это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 конкретные действия, которые могут быть вызваны образом Я и самооценко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Самооценка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- это нравственная оценка  своих  собственных поступков, моральных качеств, убеждений, мотивов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f7819"/>
                </a:solidFill>
                <a:latin typeface="Trebuchet MS"/>
              </a:rPr>
              <a:t>Виды самооценки</a:t>
            </a:r>
            <a:r>
              <a:rPr b="1" lang="en-US" sz="3200" spc="-1" strike="noStrike">
                <a:solidFill>
                  <a:srgbClr val="3f781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33" name="Diagram 7"/>
          <p:cNvGrpSpPr/>
          <p:nvPr/>
        </p:nvGrpSpPr>
        <p:grpSpPr>
          <a:xfrm>
            <a:off x="360000" y="1568520"/>
            <a:ext cx="3957840" cy="3886200"/>
            <a:chOff x="360000" y="1568520"/>
            <a:chExt cx="3957840" cy="3886200"/>
          </a:xfrm>
        </p:grpSpPr>
        <p:sp>
          <p:nvSpPr>
            <p:cNvPr id="234" name="_s2052"/>
            <p:cNvSpPr/>
            <p:nvPr/>
          </p:nvSpPr>
          <p:spPr>
            <a:xfrm flipV="1">
              <a:off x="2338200" y="25783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5" name="_s2053"/>
            <p:cNvSpPr/>
            <p:nvPr/>
          </p:nvSpPr>
          <p:spPr>
            <a:xfrm>
              <a:off x="1833480" y="1568520"/>
              <a:ext cx="100944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актуальна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6" name="_s2054"/>
            <p:cNvSpPr/>
            <p:nvPr/>
          </p:nvSpPr>
          <p:spPr>
            <a:xfrm flipV="1">
              <a:off x="2731680" y="2957400"/>
              <a:ext cx="395280" cy="31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_s2055"/>
            <p:cNvSpPr/>
            <p:nvPr/>
          </p:nvSpPr>
          <p:spPr>
            <a:xfrm>
              <a:off x="3016080" y="2138400"/>
              <a:ext cx="100944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</a:rPr>
                <a:t>прогностическая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_s2056"/>
            <p:cNvSpPr/>
            <p:nvPr/>
          </p:nvSpPr>
          <p:spPr>
            <a:xfrm>
              <a:off x="2830320" y="3697200"/>
              <a:ext cx="49212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9" name="_s2057"/>
            <p:cNvSpPr/>
            <p:nvPr/>
          </p:nvSpPr>
          <p:spPr>
            <a:xfrm>
              <a:off x="3308040" y="3417840"/>
              <a:ext cx="100980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</a:rPr>
                <a:t>заниженная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0" name="_s2058"/>
            <p:cNvSpPr/>
            <p:nvPr/>
          </p:nvSpPr>
          <p:spPr>
            <a:xfrm>
              <a:off x="2558880" y="4040280"/>
              <a:ext cx="217440" cy="45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_s2059"/>
            <p:cNvSpPr/>
            <p:nvPr/>
          </p:nvSpPr>
          <p:spPr>
            <a:xfrm>
              <a:off x="2490480" y="4443480"/>
              <a:ext cx="100980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завышенна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2" name="_s2060"/>
            <p:cNvSpPr/>
            <p:nvPr/>
          </p:nvSpPr>
          <p:spPr>
            <a:xfrm flipH="1">
              <a:off x="1899720" y="4041720"/>
              <a:ext cx="220680" cy="45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3" name="_s2061"/>
            <p:cNvSpPr/>
            <p:nvPr/>
          </p:nvSpPr>
          <p:spPr>
            <a:xfrm>
              <a:off x="1179360" y="4444920"/>
              <a:ext cx="100944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неадекватна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_s2062"/>
            <p:cNvSpPr/>
            <p:nvPr/>
          </p:nvSpPr>
          <p:spPr>
            <a:xfrm flipH="1">
              <a:off x="1353600" y="3700440"/>
              <a:ext cx="4921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5" name="_s2063"/>
            <p:cNvSpPr/>
            <p:nvPr/>
          </p:nvSpPr>
          <p:spPr>
            <a:xfrm>
              <a:off x="360000" y="3419640"/>
              <a:ext cx="1009800" cy="100944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адекватна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6" name="_s2064"/>
            <p:cNvSpPr/>
            <p:nvPr/>
          </p:nvSpPr>
          <p:spPr>
            <a:xfrm flipH="1" flipV="1">
              <a:off x="1549080" y="2955960"/>
              <a:ext cx="393840" cy="3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_s2065"/>
            <p:cNvSpPr/>
            <p:nvPr/>
          </p:nvSpPr>
          <p:spPr>
            <a:xfrm>
              <a:off x="650520" y="2139840"/>
              <a:ext cx="1009800" cy="10098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</a:rPr>
                <a:t>ретроспективная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8" name="_s2066"/>
            <p:cNvSpPr/>
            <p:nvPr/>
          </p:nvSpPr>
          <p:spPr>
            <a:xfrm>
              <a:off x="1833480" y="3083040"/>
              <a:ext cx="1009440" cy="100944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амооценк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27280" y="404280"/>
            <a:ext cx="4537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ктуальна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оценка себя в настояще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етроспективна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оценка себя в прошл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гностическа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оценка себя в будуще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декватна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достаточно объективная оценка собственных способностей, свойств и качеств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еадекватна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(представление личности о себе далеко от реального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Заниженная -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дет к неуверенности в себе, робости, невозможности реализовывать свои задатки и способнос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вышенн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 человека возникает идеализированное представление о своей личности, своей ценности для окружающи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044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f7819"/>
                </a:solidFill>
                <a:latin typeface="Times New Roman"/>
              </a:rPr>
              <a:t>Механизмы формирования самооценк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51" name="Diagram 7"/>
          <p:cNvGrpSpPr/>
          <p:nvPr/>
        </p:nvGrpSpPr>
        <p:grpSpPr>
          <a:xfrm>
            <a:off x="291240" y="1779480"/>
            <a:ext cx="3588480" cy="2354400"/>
            <a:chOff x="291240" y="1779480"/>
            <a:chExt cx="3588480" cy="2354400"/>
          </a:xfrm>
        </p:grpSpPr>
        <p:sp>
          <p:nvSpPr>
            <p:cNvPr id="252" name="_s3076"/>
            <p:cNvSpPr/>
            <p:nvPr/>
          </p:nvSpPr>
          <p:spPr>
            <a:xfrm>
              <a:off x="1353240" y="2197440"/>
              <a:ext cx="1466640" cy="1196640"/>
            </a:xfrm>
            <a:prstGeom prst="ellipse">
              <a:avLst/>
            </a:prstGeom>
            <a:solidFill>
              <a:srgbClr val="54a021">
                <a:alpha val="50000"/>
              </a:srgbClr>
            </a:solidFill>
            <a:ln w="4680">
              <a:solidFill>
                <a:srgbClr val="54a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3" name="_s3077"/>
            <p:cNvSpPr/>
            <p:nvPr/>
          </p:nvSpPr>
          <p:spPr>
            <a:xfrm>
              <a:off x="1810080" y="1779480"/>
              <a:ext cx="5508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4" name="_s3078"/>
            <p:cNvSpPr/>
            <p:nvPr/>
          </p:nvSpPr>
          <p:spPr>
            <a:xfrm>
              <a:off x="1834920" y="2879640"/>
              <a:ext cx="1466640" cy="1196640"/>
            </a:xfrm>
            <a:prstGeom prst="ellipse">
              <a:avLst/>
            </a:prstGeom>
            <a:solidFill>
              <a:srgbClr val="99ca3c">
                <a:alpha val="50000"/>
              </a:srgbClr>
            </a:solidFill>
            <a:ln w="4680">
              <a:solidFill>
                <a:srgbClr val="99ca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5" name="_s3079"/>
            <p:cNvSpPr/>
            <p:nvPr/>
          </p:nvSpPr>
          <p:spPr>
            <a:xfrm>
              <a:off x="3329280" y="3835080"/>
              <a:ext cx="550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6" name="_s3080"/>
            <p:cNvSpPr/>
            <p:nvPr/>
          </p:nvSpPr>
          <p:spPr>
            <a:xfrm>
              <a:off x="869760" y="2878200"/>
              <a:ext cx="1466640" cy="1196640"/>
            </a:xfrm>
            <a:prstGeom prst="ellipse">
              <a:avLst/>
            </a:prstGeom>
            <a:solidFill>
              <a:srgbClr val="b9d181">
                <a:alpha val="50000"/>
              </a:srgbClr>
            </a:solidFill>
            <a:ln w="4680">
              <a:solidFill>
                <a:srgbClr val="b9d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7" name="_s3081"/>
            <p:cNvSpPr/>
            <p:nvPr/>
          </p:nvSpPr>
          <p:spPr>
            <a:xfrm>
              <a:off x="291240" y="3835080"/>
              <a:ext cx="550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5640" y="765000"/>
            <a:ext cx="4897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Идентификаци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представлена как процесс эмоционального и иного самоотождествления человека с другим человеком, группой, образцом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тремление индивида выделиться из числа других, сформировать свою собственную внутреннюю позицию относительно других людей и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знать свою собственную целос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флекс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эт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и самонаблюдение за собственным поведением в деятельности и общ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 средством котор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стремится получить наиболее полные знания о себе, что позво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 контролировать себя, осуществлять самооценку, имеющую огромное значение для самовоспитания и саморегулировани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900000" y="403236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36"/>
          <p:cNvSpPr/>
          <p:nvPr/>
        </p:nvSpPr>
        <p:spPr>
          <a:xfrm>
            <a:off x="2424960" y="41022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1116000" y="2637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иза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a3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-459000"/>
            <a:ext cx="6348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f7819"/>
                </a:solidFill>
                <a:latin typeface="Times New Roman"/>
              </a:rPr>
              <a:t>Факторы, влияющие на развитие самооценк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238040"/>
            <a:ext cx="6348600" cy="54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Собственные достижения личности в  различных видах деятельности, их оценка ею и соотнесение с общественной оценкой и оценкой теми членами коллектива, мнение которых по определенным для нее критериям является значимы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тношения личности к себе под влиянием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общественного мнени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ставление образа реального «Я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о каким  человек является на данный момен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бразом идеального «Я», то есть с представлением о том, каким человек хотел бы быть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формирования эмоционально-ценностного отношения личности к себе в большой степени сказывается влияние восприятия художественной литературы и различных видов искусств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оценку личности также влияют ее индивидуальные особенности и то насколько важно для нее то или иное оцениваемое качество или деятельность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20:05Z</dcterms:created>
  <dc:creator>1</dc:creator>
  <dc:description/>
  <dc:language>en-US</dc:language>
  <cp:lastModifiedBy>Sergei Kazanin</cp:lastModifiedBy>
  <dcterms:modified xsi:type="dcterms:W3CDTF">2018-01-06T12:32:45Z</dcterms:modified>
  <cp:revision>16</cp:revision>
  <dc:subject/>
  <dc:title>Курсовая работа по теме:  Особенности развития самооценки в онтогенезе. </dc:title>
</cp:coreProperties>
</file>