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B1B-6AF5-4FDA-BC94-A2130B76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2B7-D091-4116-A867-46456002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501-F10E-45A7-85E8-A49D4784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2D4-C5FE-4534-B690-6BFECB8C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ADE-8F9F-4C8D-B6AC-97B2834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0BB-9997-4D2E-997F-B0CB4F0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BBB-F595-493F-B3E0-1843696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BA7-76B3-4872-B9DF-2572979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937-032B-4E70-92C4-D84122C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98E-B68C-43FF-995A-0BB8E561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70C-FEBF-4BAB-8492-B7C55B2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FF6-E576-4E29-A1A0-8B578C2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A9DC1-C66F-4FC5-974C-B385EA0D3E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ложение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1415880"/>
            <a:ext cx="8624880" cy="4734000"/>
            <a:chOff x="762120" y="1415880"/>
            <a:chExt cx="8624880" cy="4734000"/>
          </a:xfrm>
        </p:grpSpPr>
        <p:sp>
          <p:nvSpPr>
            <p:cNvPr id="43" name=""/>
            <p:cNvSpPr/>
            <p:nvPr/>
          </p:nvSpPr>
          <p:spPr>
            <a:xfrm>
              <a:off x="762120" y="1415880"/>
              <a:ext cx="862488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388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54160"/>
                  <a:tab algn="l" pos="507960"/>
                  <a:tab algn="l" pos="763560"/>
                  <a:tab algn="l" pos="1017720"/>
                  <a:tab algn="l" pos="1273320"/>
                  <a:tab algn="l" pos="1527120"/>
                  <a:tab algn="l" pos="1781280"/>
                  <a:tab algn="l" pos="2036880"/>
                  <a:tab algn="l" pos="2290680"/>
                  <a:tab algn="l" pos="2546280"/>
                  <a:tab algn="l" pos="2800440"/>
                  <a:tab algn="l" pos="3056040"/>
                  <a:tab algn="l" pos="3309840"/>
                  <a:tab algn="l" pos="3565440"/>
                  <a:tab algn="l" pos="3819600"/>
                  <a:tab algn="l" pos="4075200"/>
                  <a:tab algn="l" pos="4329000"/>
                  <a:tab algn="l" pos="4583160"/>
                  <a:tab algn="l" pos="4838760"/>
                  <a:tab algn="l" pos="509256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есенка успех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/>
            <p:nvPr/>
          </p:nvCxnSpPr>
          <p:spPr>
            <a:xfrm rot="10800000">
              <a:off x="1145520" y="3238560"/>
              <a:ext cx="3967920" cy="1649520"/>
            </a:xfrm>
            <a:prstGeom prst="bentConnector3">
              <a:avLst>
                <a:gd name="adj1" fmla="val 49986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45" name=""/>
            <p:cNvSpPr/>
            <p:nvPr/>
          </p:nvSpPr>
          <p:spPr>
            <a:xfrm>
              <a:off x="5078520" y="4872240"/>
              <a:ext cx="0" cy="1272240"/>
            </a:xfrm>
            <a:prstGeom prst="line">
              <a:avLst/>
            </a:prstGeom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8520" y="6149880"/>
              <a:ext cx="2392200" cy="0"/>
            </a:xfrm>
            <a:prstGeom prst="line">
              <a:avLst/>
            </a:prstGeom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й результат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0000" y="2384280"/>
            <a:ext cx="5761080" cy="37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-612720"/>
            <a:ext cx="907092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айлики</a:t>
            </a:r>
            <a:br>
              <a:rPr sz="44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смайлом дети оценивают себя, если задание выполняется без ошибок. (Индивидуальный , дифференцированный подход: слабым детям возможно допустить 1 ошибку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 смайлом дети оценивают себя, если задание выполняется с 1 ошибкой (слабым детям возможно допустить 2 ошибки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им смайлом дети оценивают себя, если задание выполняется с 2-мя ошибками и больше, либо они совсем не работали (слабые дети -   3 ошиб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76899" b="74683"/>
          <a:stretch/>
        </p:blipFill>
        <p:spPr>
          <a:xfrm>
            <a:off x="981000" y="4695840"/>
            <a:ext cx="1581120" cy="173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75791" t="76156" r="0" b="0"/>
          <a:stretch/>
        </p:blipFill>
        <p:spPr>
          <a:xfrm>
            <a:off x="3645000" y="4986360"/>
            <a:ext cx="162216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22370" t="0" r="57732" b="76521"/>
          <a:stretch/>
        </p:blipFill>
        <p:spPr>
          <a:xfrm>
            <a:off x="5632560" y="4533840"/>
            <a:ext cx="14824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6T11:55:21Z</dcterms:created>
  <dc:creator/>
  <dc:description/>
  <dc:language>en-US</dc:language>
  <cp:lastModifiedBy/>
  <dcterms:modified xsi:type="dcterms:W3CDTF">2018-01-06T12:02:13Z</dcterms:modified>
  <cp:revision>4</cp:revision>
  <dc:subject/>
  <dc:title/>
</cp:coreProperties>
</file>