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F2976-0B54-4863-A920-1BE32EE07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727C8-3D86-48B7-BA7B-65061E123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0DCD0-40C8-4783-BD36-5981AEA7B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A9972-3C70-4544-BC12-B3BAF3499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76EC5-9AA2-486E-A980-3B5A41968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1BC82-86B3-4BC3-A6D9-38843A255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7F235-F514-4B44-9841-2B29D4D38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C43BA-411B-499B-BF04-97A529E28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84E30-8999-4515-881C-0CF12200B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81AEE-7D5A-4E2E-BD61-54BB88B34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1A2AC-7B50-43F6-AC1F-010A4B387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9859F-1CAF-475D-ADD8-A8CF170D8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9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3F307-D8AE-4732-BA8C-232A91927D8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785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mparati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азывает, что объект, описываемый     прилагательным,  имеет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ее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раженное, более интенсивное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ойство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 сравнению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другим объектом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ование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250560" y="1268280"/>
            <a:ext cx="87138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уется путём прибавления суффикса –</a:t>
            </a:r>
            <a:r>
              <a:rPr b="1" lang="de-DE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r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,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также частицы </a:t>
            </a:r>
            <a:r>
              <a:rPr b="1" lang="de-DE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ls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которая переводится «чем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de-DE" sz="4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modern</a:t>
            </a:r>
            <a:r>
              <a:rPr b="0" lang="ru-RU" sz="4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-</a:t>
            </a:r>
            <a:r>
              <a:rPr b="0" lang="de-DE" sz="4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 modern</a:t>
            </a:r>
            <a:r>
              <a:rPr b="1" lang="de-DE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de-DE" sz="4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bequem </a:t>
            </a:r>
            <a:r>
              <a:rPr b="0" lang="ru-RU" sz="4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-</a:t>
            </a:r>
            <a:r>
              <a:rPr b="0" lang="de-DE" sz="4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 bequem</a:t>
            </a:r>
            <a:r>
              <a:rPr b="1" lang="de-DE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de-DE" sz="4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schnell </a:t>
            </a:r>
            <a:r>
              <a:rPr b="0" lang="ru-RU" sz="4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–</a:t>
            </a:r>
            <a:r>
              <a:rPr b="0" lang="de-DE" sz="4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 schnell</a:t>
            </a:r>
            <a:r>
              <a:rPr b="1" lang="de-DE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Dieter fährt schnell</a:t>
            </a:r>
            <a:r>
              <a:rPr b="1" lang="de-DE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r</a:t>
            </a:r>
            <a:r>
              <a:rPr b="0" lang="de-DE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de-DE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ls</a:t>
            </a:r>
            <a:r>
              <a:rPr b="0" lang="de-DE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de-DE" sz="4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Thomas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" dur="5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ключе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осложные прилагательные с корневой гласной </a:t>
            </a:r>
            <a:r>
              <a:rPr b="1" lang="de-DE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, o, u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учают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млаут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g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de-DE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de-DE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ä</a:t>
            </a:r>
            <a:r>
              <a:rPr b="0" lang="de-DE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ger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de-DE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r l</a:t>
            </a:r>
            <a:r>
              <a:rPr b="1" lang="de-DE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ä</a:t>
            </a:r>
            <a:r>
              <a:rPr b="0" lang="de-DE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gste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de-DE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 l</a:t>
            </a:r>
            <a:r>
              <a:rPr b="1" lang="de-DE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ä</a:t>
            </a:r>
            <a:r>
              <a:rPr b="0" lang="de-DE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gsten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de-DE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t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lang="de-DE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ä</a:t>
            </a:r>
            <a:r>
              <a:rPr b="0" lang="de-DE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ter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de-DE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r </a:t>
            </a:r>
            <a:r>
              <a:rPr b="1" lang="de-DE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ä</a:t>
            </a:r>
            <a:r>
              <a:rPr b="0" lang="de-DE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teste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de-DE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 </a:t>
            </a:r>
            <a:r>
              <a:rPr b="1" lang="de-DE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ä</a:t>
            </a:r>
            <a:r>
              <a:rPr b="0" lang="de-DE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testen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ng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de-DE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1" lang="de-DE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ü</a:t>
            </a:r>
            <a:r>
              <a:rPr b="0" lang="de-DE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ger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de-DE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r j</a:t>
            </a:r>
            <a:r>
              <a:rPr b="1" lang="de-DE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ü</a:t>
            </a:r>
            <a:r>
              <a:rPr b="0" lang="de-DE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gste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de-DE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 j</a:t>
            </a:r>
            <a:r>
              <a:rPr b="1" lang="de-DE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ü</a:t>
            </a:r>
            <a:r>
              <a:rPr b="0" lang="de-DE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gsten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umm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de-DE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1" lang="de-DE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ü</a:t>
            </a:r>
            <a:r>
              <a:rPr b="0" lang="de-DE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mer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de-DE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r d</a:t>
            </a:r>
            <a:r>
              <a:rPr b="1" lang="de-DE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ü</a:t>
            </a:r>
            <a:r>
              <a:rPr b="0" lang="de-DE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mste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de-DE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 d</a:t>
            </a:r>
            <a:r>
              <a:rPr b="1" lang="de-DE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ü</a:t>
            </a:r>
            <a:r>
              <a:rPr b="0" lang="de-DE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msten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ключе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 умлаута остаются прилагательные с дифтонгом </a:t>
            </a:r>
            <a:r>
              <a:rPr b="1" lang="de-DE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u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de-DE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de-DE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u</a:t>
            </a:r>
            <a:r>
              <a:rPr b="0" lang="de-DE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de-DE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de-DE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u</a:t>
            </a:r>
            <a:r>
              <a:rPr b="0" lang="de-DE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r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de-DE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r l</a:t>
            </a:r>
            <a:r>
              <a:rPr b="1" lang="de-DE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u</a:t>
            </a:r>
            <a:r>
              <a:rPr b="0" lang="de-DE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e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de-DE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 l</a:t>
            </a:r>
            <a:r>
              <a:rPr b="1" lang="de-DE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u</a:t>
            </a:r>
            <a:r>
              <a:rPr b="0" lang="de-DE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en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1" lang="de-DE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u</a:t>
            </a:r>
            <a:r>
              <a:rPr b="0" lang="de-DE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de-DE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1" lang="de-DE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u</a:t>
            </a:r>
            <a:r>
              <a:rPr b="0" lang="de-DE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r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de-DE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r f</a:t>
            </a:r>
            <a:r>
              <a:rPr b="1" lang="de-DE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u</a:t>
            </a:r>
            <a:r>
              <a:rPr b="0" lang="de-DE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ste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de-DE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 f</a:t>
            </a:r>
            <a:r>
              <a:rPr b="1" lang="de-DE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u</a:t>
            </a:r>
            <a:r>
              <a:rPr b="0" lang="de-DE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sten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ключе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ена прилагательные на –</a:t>
            </a:r>
            <a:r>
              <a:rPr b="0" lang="de-DE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de-DE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de-DE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меют следующие формы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unk</a:t>
            </a:r>
            <a:r>
              <a:rPr b="1" lang="de-DE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l</a:t>
            </a:r>
            <a:r>
              <a:rPr b="0" lang="de-DE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de-DE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un</a:t>
            </a:r>
            <a:r>
              <a:rPr b="1" lang="de-DE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kl</a:t>
            </a:r>
            <a:r>
              <a:rPr b="0" lang="de-DE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de-DE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 dun</a:t>
            </a:r>
            <a:r>
              <a:rPr b="1" lang="de-DE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kel</a:t>
            </a:r>
            <a:r>
              <a:rPr b="0" lang="de-DE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e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u</a:t>
            </a:r>
            <a:r>
              <a:rPr b="1" lang="de-DE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r</a:t>
            </a:r>
            <a:r>
              <a:rPr b="0" lang="de-DE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de-DE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u</a:t>
            </a:r>
            <a:r>
              <a:rPr b="1" lang="de-DE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</a:t>
            </a:r>
            <a:r>
              <a:rPr b="0" lang="de-DE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de-DE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 teu</a:t>
            </a:r>
            <a:r>
              <a:rPr b="1" lang="de-DE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r</a:t>
            </a:r>
            <a:r>
              <a:rPr b="0" lang="de-DE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e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ключе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457200" y="1268280"/>
          <a:ext cx="8229600" cy="529920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422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ожительна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авнительна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восходна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8780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u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ess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m best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r bes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780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oc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öh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m höchst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r höchs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8776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roß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röß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m größt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r größ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780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äh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m nächst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r nächs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8776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er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ieb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m liebst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87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ie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eh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m meist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авьте прилагательное в сравнительную степен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1.</a:t>
            </a:r>
            <a:r>
              <a:rPr b="0" lang="ru-RU" sz="4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 </a:t>
            </a:r>
            <a:r>
              <a:rPr b="0" lang="de-DE" sz="4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Der Herbst ist </a:t>
            </a:r>
            <a:r>
              <a:rPr b="0" lang="ru-RU" sz="4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(</a:t>
            </a:r>
            <a:r>
              <a:rPr b="0" lang="de-DE" sz="4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kalt</a:t>
            </a:r>
            <a:r>
              <a:rPr b="0" lang="ru-RU" sz="4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)</a:t>
            </a:r>
            <a:r>
              <a:rPr b="0" lang="de-DE" sz="4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 als der Sommer. </a:t>
            </a:r>
            <a:r>
              <a:rPr b="1" lang="de-DE" sz="4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2.</a:t>
            </a:r>
            <a:r>
              <a:rPr b="0" lang="de-DE" sz="4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 Mein Vater ist </a:t>
            </a:r>
            <a:r>
              <a:rPr b="0" lang="ru-RU" sz="4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(</a:t>
            </a:r>
            <a:r>
              <a:rPr b="0" lang="de-DE" sz="4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alt</a:t>
            </a:r>
            <a:r>
              <a:rPr b="0" lang="ru-RU" sz="4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)</a:t>
            </a:r>
            <a:r>
              <a:rPr b="0" lang="de-DE" sz="4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 als meine Mutter. </a:t>
            </a:r>
            <a:r>
              <a:rPr b="1" lang="de-DE" sz="4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3.</a:t>
            </a:r>
            <a:r>
              <a:rPr b="0" lang="de-DE" sz="4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 Ich stehe </a:t>
            </a:r>
            <a:r>
              <a:rPr b="0" lang="ru-RU" sz="4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(</a:t>
            </a:r>
            <a:r>
              <a:rPr b="0" lang="de-DE" sz="4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früh</a:t>
            </a:r>
            <a:r>
              <a:rPr b="0" lang="ru-RU" sz="4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)</a:t>
            </a:r>
            <a:r>
              <a:rPr b="0" lang="de-DE" sz="4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 als meine Schwester. </a:t>
            </a:r>
            <a:r>
              <a:rPr b="1" lang="de-DE" sz="4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4.</a:t>
            </a:r>
            <a:r>
              <a:rPr b="0" lang="de-DE" sz="4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 Berlin ist </a:t>
            </a:r>
            <a:r>
              <a:rPr b="0" lang="ru-RU" sz="4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(</a:t>
            </a:r>
            <a:r>
              <a:rPr b="0" lang="de-DE" sz="4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groß</a:t>
            </a:r>
            <a:r>
              <a:rPr b="0" lang="ru-RU" sz="4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)</a:t>
            </a:r>
            <a:r>
              <a:rPr b="0" lang="de-DE" sz="4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 als Bonn. </a:t>
            </a:r>
            <a:r>
              <a:rPr b="1" lang="de-DE" sz="4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5.</a:t>
            </a:r>
            <a:r>
              <a:rPr b="0" lang="de-DE" sz="4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 Die Wolga ist </a:t>
            </a:r>
            <a:r>
              <a:rPr b="0" lang="ru-RU" sz="4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(</a:t>
            </a:r>
            <a:r>
              <a:rPr b="0" lang="de-DE" sz="4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lang</a:t>
            </a:r>
            <a:r>
              <a:rPr b="0" lang="ru-RU" sz="4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)</a:t>
            </a:r>
            <a:r>
              <a:rPr b="0" lang="de-DE" sz="4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 als die Oka. </a:t>
            </a:r>
            <a:r>
              <a:rPr b="1" lang="de-DE" sz="4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6.</a:t>
            </a:r>
            <a:r>
              <a:rPr b="0" lang="de-DE" sz="4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 Der Löwe ist </a:t>
            </a:r>
            <a:r>
              <a:rPr b="0" lang="ru-RU" sz="4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(</a:t>
            </a:r>
            <a:r>
              <a:rPr b="0" lang="de-DE" sz="4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stark</a:t>
            </a:r>
            <a:r>
              <a:rPr b="0" lang="ru-RU" sz="4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)</a:t>
            </a:r>
            <a:r>
              <a:rPr b="0" lang="de-DE" sz="4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 als der Hase. </a:t>
            </a:r>
            <a:r>
              <a:rPr b="1" lang="de-DE" sz="4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7.</a:t>
            </a:r>
            <a:r>
              <a:rPr b="0" lang="de-DE" sz="4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 Die Jacke ist </a:t>
            </a:r>
            <a:r>
              <a:rPr b="0" lang="ru-RU" sz="4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(</a:t>
            </a:r>
            <a:r>
              <a:rPr b="0" lang="de-DE" sz="4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billig</a:t>
            </a:r>
            <a:r>
              <a:rPr b="0" lang="ru-RU" sz="4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)</a:t>
            </a:r>
            <a:r>
              <a:rPr b="0" lang="de-DE" sz="4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 als der Pelzmantel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2T16:48:00Z</dcterms:created>
  <dc:creator>Катенок</dc:creator>
  <dc:description/>
  <dc:language>en-US</dc:language>
  <cp:lastModifiedBy>Машенька</cp:lastModifiedBy>
  <dcterms:modified xsi:type="dcterms:W3CDTF">2017-11-21T14:43:42Z</dcterms:modified>
  <cp:revision>62</cp:revision>
  <dc:subject/>
  <dc:title>Шаблон презентации</dc:title>
</cp:coreProperties>
</file>