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151-BEEC-4A15-9DA7-26EA8D8F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E14-0A42-4B84-B4D4-310EDBB3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B7A-A3AA-4FBE-9BAB-6F7F2630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EE8-9E3E-4C61-9F71-43EE1311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5CAC-9DC8-490A-B879-2ED24FBA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B636-EC62-4D00-8886-57F768A8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2BAE-260F-41D9-AE55-598D4506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0D93-DD01-4759-8EB5-42028448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A041-7A54-4E2C-A87E-0657E93C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778E-D1B2-44E0-AD10-9B7EDB6E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A8A8-78FD-4271-96A4-27828709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B1C-A319-4725-8DFC-32273A92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D53B-564C-48F1-890A-BC1D7A97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07B7-AEE8-4A84-B043-0721E34D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DBB0-BCED-46E8-9883-9C16044C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98B7-1AC2-4C05-A2A7-B3DA95D8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02EE-ADBD-4E04-971A-19741D75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79A7-B4B4-4D34-8709-32ADD661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20DA-39B1-4F17-8EE2-0BA4D1C2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8D8EB-47A8-4921-A449-CA1ACB30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BB46-B2C1-4C68-9665-1B00CA8C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140F-4527-40B8-91CC-406429F9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476-001F-4FE1-9603-B7809E0F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1555-6228-4A77-8C69-7DE92704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EFD0C-BEAD-4D51-B2DD-D043503F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9D09-95DB-464F-953A-A88394D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3025F-A6BC-45D6-8D30-53C6667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18D1-4469-4DA7-AA34-03A797ED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6D31-4CE6-41FF-BFD0-16004B5C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FFF7-C60A-4BAD-9D94-FF119225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FB16D-5B83-403B-9C37-F8BAA32A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5F8E7-9F55-41CA-93A7-AC7A0A62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D102D-9628-496C-A898-F0ED2161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C3D-AD22-4DBD-9112-6127D545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EFAEF-4529-4AAB-A3BC-00A347C9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697C0-8D50-4E09-B6DD-F8C427D6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2CC2-C90A-43DB-B876-489EB1AC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6A0C5-B9AA-4A26-8885-21BD27CE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EA96-8C65-4F8F-8CDD-6606B218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1ECCC-DEB0-4756-BD59-676CB83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96F7-D07F-4703-831A-3CA2A8DE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D5E2-B36D-48E5-B464-9AC5B099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2F4E8-ED16-4E6C-B10C-6EA1FB39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A0251-0C2E-4B34-82A4-DAAB9751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9A5-B0F3-409C-B142-D4B5EB88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75BE-91C7-4A7E-B68E-71342B77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74B3C-6308-4A62-8C66-5500B206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60131-E36B-47BA-BDC8-D2E61660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55E21-CBD1-4DE7-9DA3-788C0709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CE1BF-FF5D-47CB-A7B8-532F6397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06FA3-0D3D-48CE-BB35-26B0712B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A4B0B-4CA5-4E66-937F-3E7E8BDE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8E9F-31C7-451D-B301-E35CD8E6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508DC-7C42-4BEB-9058-B77527C2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14158-303E-4947-B4E3-C0CF5D7C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653-B73B-496D-9E90-CE6DAD89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AD463-847C-45DC-9323-813CB085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272-62F9-4042-925E-DBB3778A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E4B-E8F0-452E-9E8B-404D76C2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EF6-2341-4CEC-A227-BE240120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6F9C-EE64-4A50-B6D5-CAF138735BD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96D6-EE7A-4727-A5E9-808A44961CD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3324-7333-4E83-B62E-53093959C3B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33CF-9D44-4AFD-8F12-DCA2C6C0D1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E8A8-96FE-4764-8928-273C37FF59B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28840" y="40716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Проблема ВИЧ касается сегодня каждого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в том числе и тебя. Вирус не выбирает людей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по социальному положению, образу жизни и привычкам и может попасть в организм любого человек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dobe Garamond Pro Bold"/>
              </a:rPr>
              <a:t>STOP </a:t>
            </a: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СПИД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Содержимое 4" descr="AIDS__1.jpg"/>
          <p:cNvPicPr/>
          <p:nvPr/>
        </p:nvPicPr>
        <p:blipFill>
          <a:blip r:embed="rId1"/>
          <a:stretch/>
        </p:blipFill>
        <p:spPr>
          <a:xfrm>
            <a:off x="142920" y="1857240"/>
            <a:ext cx="4284720" cy="397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6" name=""/>
          <p:cNvSpPr txBox="1"/>
          <p:nvPr/>
        </p:nvSpPr>
        <p:spPr>
          <a:xfrm>
            <a:off x="4460400" y="1412640"/>
            <a:ext cx="46832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 мнению другого исследователя, профессора Р. Гэрри, СПИД гораздо старше: его история насчитывает от 100 до 1000 лет. Один из самых серьезных аргументов, подтверждающих эту гипотезу – саркома Капоши, описанная в начале XX века венгерским врачом Капоши как "редкая форма злокачественного новообразования", свидетельствовала о наличии у больного вируса имуннодефицита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ногие ученые считают родиной СПИДа Центральную Африку. Эта гипотеза, в свою очередь, разделяется на две версии. Согласно одной из них, ВИЧ уже давно существовал в изолированных от внешнего мира районах, например, в племенных поселениях, затерянных в джунглях. Со временем, когда миграция населения увеличилась, вирус вырвался "наружу" и начал быстро распространятьс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ЗАПОМНИ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ВИЧ не передается при бытовых контактах между людьми. Этот факт доказан научными исследованиями, медицинской практикой и многолетним опытом миллионов людей. Неповрежденная кожа является непреодолимым барьером для вируса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через рукопожатия и объятия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28440" y="2000160"/>
            <a:ext cx="37494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одержание вируса в слюне незначительно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через поцелуй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Содержимое 4" descr="поцелуй_конец_публикация.jpg"/>
          <p:cNvPicPr/>
          <p:nvPr/>
        </p:nvPicPr>
        <p:blipFill>
          <a:blip r:embed="rId1"/>
          <a:stretch/>
        </p:blipFill>
        <p:spPr>
          <a:xfrm>
            <a:off x="5143680" y="1714680"/>
            <a:ext cx="3449520" cy="35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Содержимое 4" descr="26170124_23841333.jpg"/>
          <p:cNvPicPr/>
          <p:nvPr/>
        </p:nvPicPr>
        <p:blipFill>
          <a:blip r:embed="rId1"/>
          <a:stretch/>
        </p:blipFill>
        <p:spPr>
          <a:xfrm>
            <a:off x="857160" y="928800"/>
            <a:ext cx="3448080" cy="517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Недостаточно вируса для его передачи ни в слезной жидкости, ни в пот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оч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кале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при совместном пользовани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едметами обиход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 пищеварительном тракте вирус погибает, так что, если содержащая вирус жидкость попадает в желудок человека, заражение не наступает. Поэтому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ВИЧ не передается при совместном использовании столовых приборов, посуды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5" name="Содержимое 4" descr="192477.jpg"/>
          <p:cNvPicPr/>
          <p:nvPr/>
        </p:nvPicPr>
        <p:blipFill>
          <a:blip r:embed="rId1"/>
          <a:stretch/>
        </p:blipFill>
        <p:spPr>
          <a:xfrm>
            <a:off x="5000760" y="1785960"/>
            <a:ext cx="3466800" cy="38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4" descr="hiv2.jpg"/>
          <p:cNvPicPr/>
          <p:nvPr/>
        </p:nvPicPr>
        <p:blipFill>
          <a:blip r:embed="rId1"/>
          <a:stretch/>
        </p:blipFill>
        <p:spPr>
          <a:xfrm>
            <a:off x="714240" y="1571760"/>
            <a:ext cx="3556080" cy="428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7" name=""/>
          <p:cNvSpPr txBox="1"/>
          <p:nvPr/>
        </p:nvSpPr>
        <p:spPr>
          <a:xfrm>
            <a:off x="4500360" y="1447920"/>
            <a:ext cx="418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ирус быстро теряет жизнеспособность при высыхании, под воздействием ультрафиолета, высокой температуры и других факторов. Поэтому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ВИЧ не передается по воздуху, при совместном пользовании мебелью, телефонной трубко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28760" y="5000400"/>
            <a:ext cx="8215200" cy="14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ВИЧ не передается через укусы насекомых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Комар не может оказаться источником инфицирования, потому что при укусе он впрыскивает человеку не кровь предыдущей жертвы, а собственную слюну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9" name="Рисунок 7" descr="culex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ВИЧ может передаватьс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mbria"/>
              </a:rPr>
              <a:t>От заражённого человека к здоровому только тремя путями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Cambria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при половом контакт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2" name="Содержимое 4" descr="5538900_3cd105e5fc82.jpg"/>
          <p:cNvPicPr/>
          <p:nvPr/>
        </p:nvPicPr>
        <p:blipFill>
          <a:blip r:embed="rId1"/>
          <a:stretch/>
        </p:blipFill>
        <p:spPr>
          <a:xfrm>
            <a:off x="5159520" y="1447920"/>
            <a:ext cx="329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одержимое 4" descr="pereliv.jpg"/>
          <p:cNvPicPr/>
          <p:nvPr/>
        </p:nvPicPr>
        <p:blipFill>
          <a:blip r:embed="rId1"/>
          <a:stretch/>
        </p:blipFill>
        <p:spPr>
          <a:xfrm>
            <a:off x="357120" y="1357200"/>
            <a:ext cx="4543560" cy="454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428800" y="1785600"/>
            <a:ext cx="3429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2) с кровью или её препарата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Что такое ВИЧ и СПИД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оворя о проблеме ВИЧ/СПИДа, люди часто упускают важную деталь: ВИЧ и СПИД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разные, пусть и  взаимосвязанные явления. Надо понимать, что СПИД – это состояние, вызываемое вирусом иммунодефицита человека (ВИЧ). Называя проблему как таковую, правильнее говорить о ВИЧ/СПИДе. И уж совсем неверно говорить о любом ВИЧ-положительном человеке, что он "болен СПИДом".  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 матери к плод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6" name="Рисунок 4" descr="28(1)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42560" y="1500120"/>
            <a:ext cx="600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ИЧ – это вирус иммунодефицита человека.  Вирус живет только в организме человека и при попадании на открытый воздух погибает в течение нескольких минут. Следует отметить, что в использованных нестерилизованных шприцах вирус может сохранять жизнеспособность в течение нескольких дней за счет находящихся внутри иглы остатков крови или другой жидкост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3" name="Содержимое 5" descr="014.jpg"/>
          <p:cNvPicPr/>
          <p:nvPr/>
        </p:nvPicPr>
        <p:blipFill>
          <a:blip r:embed="rId1"/>
          <a:stretch/>
        </p:blipFill>
        <p:spPr>
          <a:xfrm>
            <a:off x="6000840" y="1928880"/>
            <a:ext cx="285732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и попадании в кровоток человека ВИЧ поражает определенную категорию клеток, имеющих на поверхности так называемые CD-4-рецепторы. К ним относятся иммунные клетки. Вирус проникает внутрь этих клеток и начинает размножаться, тем самым сокращая срок жизни лимфоцитов. Если человек не предпринимает никаких мер для борьбы с ВИЧ, то через 5-10 (иногда и до 20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иммунитет – способность организма противостоять различным болезням – начинает постепенно снижаться и развивается СПИД, синдром приобретенного иммунодефицита.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57120" y="500040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ммунная система ослабевает, то есть развивается иммунодефицит: человек оказывается уязвим для многих инфекций, наприм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6" name="Содержимое 4" descr="42315.JPE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Лечение СПИД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8400" y="1447560"/>
            <a:ext cx="485748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ществующие на сегодня методы лечения (высокоактивная антиретровирусная терапия, или ВААРТ) позволяют ВИЧ-положительному человеку сохранять нормальный уровень иммунной защиты, то есть предотвращают наступление стадии СПИДа на протяжении очень долгого времен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9" name="Содержимое 4" descr="13.jpg"/>
          <p:cNvPicPr/>
          <p:nvPr/>
        </p:nvPicPr>
        <p:blipFill>
          <a:blip r:embed="rId1"/>
          <a:stretch/>
        </p:blipFill>
        <p:spPr>
          <a:xfrm>
            <a:off x="5214960" y="2143080"/>
            <a:ext cx="3749760" cy="24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99680" y="1356840"/>
            <a:ext cx="82580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ПИД является обратимым состоянием: при применении антиретровирусной терапии концентрация вируса в крови уменьшается, число иммунных клеток увеличивается и состояние человека переходит в бессимптомную стадию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аким образом, лечение дает возможность ВИЧ-положительному человеку жить долгой и полноценной жизнью. Человек остается ВИЧ-положительным, но СПИД не развивается. При лечении также снижается риск передачи вируса, так как его концентрация в крови сильно уменьшается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Откуда взялся вирус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57120" y="1447920"/>
            <a:ext cx="430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днозначного ответа на этот вопрос, к сожалению, нет. Существуют только гипотезы. Каждая из них имеет свое обоснование, но в научном мире все они продолжают оставаться лишь предположениями – возможными и для кого-то весьма спорными версиями произошедшего.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3" name="Содержимое 5" descr="aids.jpg"/>
          <p:cNvPicPr/>
          <p:nvPr/>
        </p:nvPicPr>
        <p:blipFill>
          <a:blip r:embed="rId1"/>
          <a:stretch/>
        </p:blipFill>
        <p:spPr>
          <a:xfrm>
            <a:off x="4643280" y="1714680"/>
            <a:ext cx="4286520" cy="36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амая первая гипотеза происхождения ВИЧ связа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обезьянами. Ее высказал более 20 лет назад американский исследователь Б. Корбетт. По мнению этого ученого, ВИЧ впервые попал в кровь челове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30-х годах прошлого века от шимпанзе – возможно, при укусе животного или в процессе разделывания человеком туши. В пользу этой версии есть серьезные аргументы. Один из них – в крови шимпанзе действительно был найден редкий вирус, способный при попадании в человеческий организм вызывать состояние, похожее на СПИД. 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04:08Z</dcterms:created>
  <dc:creator>Admin</dc:creator>
  <dc:description/>
  <dc:language>en-US</dc:language>
  <cp:lastModifiedBy>Dima</cp:lastModifiedBy>
  <dcterms:modified xsi:type="dcterms:W3CDTF">2018-01-05T22:52:36Z</dcterms:modified>
  <cp:revision>32</cp:revision>
  <dc:subject/>
  <dc:title>Слайд 1</dc:title>
</cp:coreProperties>
</file>