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8E60-4CFD-4E80-8743-62C1D7906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6C16-C856-4B24-B1CF-D490E3CDE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2B14-A9EB-4379-AA12-E6FF26A6F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5B9D-7EAA-4FF4-88E9-33E13359A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8CDB-8C77-4A11-97F6-E384DC45A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1E2F-2983-4984-A534-2042B246F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C62E-6C99-4297-992A-DA53FBA44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F57C-5BA9-4803-B044-5A2AE7BEB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C865-4242-4232-8865-EDDD0CA7F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2B61-BAF7-409D-8201-481840857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75A2-30D6-463C-BA1E-4A274EEF0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4DBC-545E-4D3B-B585-A855108A8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E705DE-F7F4-4792-BBFA-2F579B5119A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0010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Формирование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УУД учащихся 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на уроках английского языка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162320" cy="232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24280" y="38098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знавательные универсальные учебны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учеб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еск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йствия постановки и решения проб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3714840"/>
            <a:ext cx="3886200" cy="291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cc0000"/>
                </a:solidFill>
                <a:latin typeface="Arial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Работа с текстами - обучение 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мение выделять гла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мение строить высказывания с опорой на карт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нимание  содержания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ставление  оригинального текста на основе п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762120" indent="-760680" algn="ctr">
              <a:tabLst>
                <a:tab algn="l" pos="0"/>
                <a:tab algn="l" pos="762120"/>
                <a:tab algn="l" pos="1676520"/>
                <a:tab algn="l" pos="2590920"/>
                <a:tab algn="l" pos="3505320"/>
                <a:tab algn="l" pos="4419720"/>
                <a:tab algn="l" pos="5334120"/>
                <a:tab algn="l" pos="6248520"/>
                <a:tab algn="l" pos="7162920"/>
                <a:tab algn="l" pos="8077320"/>
                <a:tab algn="l" pos="8991720"/>
                <a:tab algn="l" pos="9906120"/>
                <a:tab algn="l" pos="10820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та с грамматическим и лексическим материалом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ить анал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полни табл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0866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57800" y="4424400"/>
            <a:ext cx="3048120" cy="2433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352680" cy="225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3276360" cy="212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19320" y="1981080"/>
            <a:ext cx="3047760" cy="2320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838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59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верши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990720"/>
            <a:ext cx="4191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.....mer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267440" cy="3213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76920" y="1828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….me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04920"/>
            <a:ext cx="815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8080"/>
            <a:ext cx="103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тавь недостающие 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мени картинк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725400"/>
            <a:ext cx="82296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ксические игр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использование ребусов и кроссвордо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528" t="0" r="4048" b="0"/>
          <a:stretch/>
        </p:blipFill>
        <p:spPr>
          <a:xfrm>
            <a:off x="1371600" y="1830240"/>
            <a:ext cx="5638680" cy="5027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Использование ребуса, как средство введения новой тем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2133720"/>
          <a:ext cx="9145080" cy="4496760"/>
        </p:xfrm>
        <a:graphic>
          <a:graphicData uri="http://schemas.openxmlformats.org/drawingml/2006/table">
            <a:tbl>
              <a:tblPr/>
              <a:tblGrid>
                <a:gridCol w="531720"/>
                <a:gridCol w="532080"/>
                <a:gridCol w="528480"/>
                <a:gridCol w="531720"/>
                <a:gridCol w="532080"/>
                <a:gridCol w="532080"/>
                <a:gridCol w="531720"/>
                <a:gridCol w="530280"/>
                <a:gridCol w="530640"/>
                <a:gridCol w="531720"/>
                <a:gridCol w="531720"/>
                <a:gridCol w="530280"/>
                <a:gridCol w="532080"/>
                <a:gridCol w="532080"/>
                <a:gridCol w="529920"/>
                <a:gridCol w="532080"/>
                <a:gridCol w="644400"/>
              </a:tblGrid>
              <a:tr h="74916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52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52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t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b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z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Отработка Н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-146160" y="1604880"/>
          <a:ext cx="7004160" cy="5253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6160" y="1604880"/>
                    <a:ext cx="700416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работка лексических и фонетических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ь слова из букв другого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5080" y="1535040"/>
            <a:ext cx="4041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неси слова со зв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952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c0066"/>
                </a:solidFill>
                <a:latin typeface="Arial"/>
              </a:rPr>
              <a:t>«Ученик - не сосуд, который надо наполнить, а факел, который необходимо зажечь».</a:t>
            </a: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6781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Использование ребусов и кроссвордов в качестве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2895480"/>
            <a:ext cx="4876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74680"/>
            <a:ext cx="88390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762120" indent="-760680" algn="ctr">
              <a:tabLst>
                <a:tab algn="l" pos="0"/>
                <a:tab algn="l" pos="762120"/>
                <a:tab algn="l" pos="1676520"/>
                <a:tab algn="l" pos="2590920"/>
                <a:tab algn="l" pos="3505320"/>
                <a:tab algn="l" pos="4419720"/>
                <a:tab algn="l" pos="5334120"/>
                <a:tab algn="l" pos="6248520"/>
                <a:tab algn="l" pos="7162920"/>
                <a:tab algn="l" pos="8077320"/>
                <a:tab algn="l" pos="8991720"/>
                <a:tab algn="l" pos="9906120"/>
                <a:tab algn="l" pos="10820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тановка и решение проблем осуществляется при проектной деятельности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40384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рисуй  и расскажи о своей любимой игр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10516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Коммуникативны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ются во всех видах речевой деятельности: аудировании, говорении, чтении и пись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276720" cy="2210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259056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76720" y="3733920"/>
            <a:ext cx="1650960" cy="24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029200" y="4876920"/>
          <a:ext cx="3885840" cy="1701360"/>
        </p:xfrm>
        <a:graphic>
          <a:graphicData uri="http://schemas.openxmlformats.org/drawingml/2006/table">
            <a:tbl>
              <a:tblPr/>
              <a:tblGrid>
                <a:gridCol w="368280"/>
                <a:gridCol w="2223360"/>
                <a:gridCol w="129420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What is your na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How old are yo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Can you read wel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Can you play ches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Can you ride a bik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Have you got a famil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Have you got a pe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1360" y="828720"/>
            <a:ext cx="8601120" cy="75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859120" y="1590840"/>
            <a:ext cx="3541680" cy="235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553080" y="1676520"/>
            <a:ext cx="2590920" cy="205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69920" y="3629160"/>
            <a:ext cx="2268360" cy="32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590920" y="4662360"/>
            <a:ext cx="3429000" cy="21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172200" y="40384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52280" y="152388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ктивизация монологическ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Создание  на уроках ситуации успех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152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Разучивание пес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l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663300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990099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исую твой портрет: ротик будет красный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ки голуб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эту краску я люб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давайте мы один сделаем зеленым-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чки вымазались в соус - стали розовые-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вки нарисуй скорей ка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дашик серый-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grey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олетовый жилет - карандашик 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violet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бчик будет черный 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атичный челов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0" y="4419720"/>
            <a:ext cx="214776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33720" y="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тихов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оговоро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 разучивании лекс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Правила наше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 algn="ctr">
              <a:buClr>
                <a:srgbClr val="000000"/>
              </a:buClr>
              <a:buFont typeface="Wingdings" charset="2"/>
              <a:buChar char=""/>
              <a:tabLst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тям должно быть интересно учиться, важно, чтобы они с большим желанием шли на за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ctr">
              <a:buClr>
                <a:srgbClr val="000000"/>
              </a:buClr>
              <a:buFont typeface="Wingdings" charset="2"/>
              <a:buChar char=""/>
              <a:tabLst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дители должны видеть               положительные результаты работы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ctr">
              <a:buClr>
                <a:srgbClr val="000000"/>
              </a:buClr>
              <a:buFont typeface="Wingdings" charset="2"/>
              <a:buChar char=""/>
              <a:tabLst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подаватель должен получать удовольствие от кажд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ctr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нятия с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cc0000"/>
                </a:solidFill>
                <a:latin typeface="Times New Roman"/>
              </a:rPr>
              <a:t>Важнейшей задачей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современной системы образования является формирование совокупности универсальных учебных действий, обеспечивающих компетенцию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«научить учиться»,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 не только освоение обучающимися конкретных предметных знаний и навыков в рамках отдельных дисциплин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77724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ы второго поко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т следу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цели обучения иностранному язык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оязычной коммуникативной компетенции в совокупности ее составляющих: речевая, языковая, социокультурная/межкультурная, компенсаторная, учебно-познавательная компетен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личности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и развитие универсальных учебных действий (УУД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0000" y="5486400"/>
            <a:ext cx="473400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К «Английский в фокусе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УД в УМК «Английский в фокусе ». предлагает широкий спектр увлекательных заданий, позволяющих расширить и углубить изучаемый матери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629400" y="419112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155268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Виды Универсальных Учебных Действ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1100"/>
              </a:spcBef>
              <a:buClr>
                <a:srgbClr val="3366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Личнос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buClr>
                <a:srgbClr val="3366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Регулятив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buClr>
                <a:srgbClr val="3366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Познавате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buClr>
                <a:srgbClr val="3366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Коммуникатив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74680"/>
            <a:ext cx="8305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Личностные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универсальные учебные действи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ют развитию личностных качеств и способностей ребёнка</a:t>
            </a:r>
            <a:r>
              <a:rPr b="0" i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cc0000"/>
                </a:solidFill>
                <a:latin typeface="Arial"/>
              </a:rPr>
              <a:t>Формирование Личностных УУ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971800"/>
            <a:ext cx="784872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о себе, своей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3630600"/>
            <a:ext cx="5790960" cy="292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572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лог со сверстниками и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мство с традициями и обычаями страны изучаем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35004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99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гулятивны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ниверсальные учебные действия</a:t>
            </a:r>
            <a:br>
              <a:rPr sz="32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ют организацию и регулирование учащимися своей учебной деятельности и формируются при помощ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7432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ы в процессе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ценировок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ыгрывания ди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я рассказа по цепочке, по опорной схеме, по картин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овых заданий для само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27T20:27:39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