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3BB1-B609-4063-B7BE-6A59CEDE87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94AD-DACC-4659-A075-FCA9A394C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D32-3636-448B-AFEE-4BC1E345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808-B891-43C0-B064-06DC0F4D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8DA-809A-4369-9547-0E52210B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161-783D-45E9-A59A-A49A6FB3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1CD-CBCC-49B6-8CBB-C47E190A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58B-2BF3-4B48-9B5F-BE7A7F03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1BF-4E73-4505-A613-52A0C43D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BBD-9708-49B1-8491-87BE6209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0E3-F2CF-48C9-9540-44F7345C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86B-7011-4066-93EB-172A6261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A44-E542-4FBC-9ED2-80CE2AC3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478-5965-4CCA-83F2-8542AB53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1D5E-BF2F-41BE-823B-DC6ADBC3D0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648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                         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2" descr="6"/>
          <p:cNvPicPr/>
          <p:nvPr/>
        </p:nvPicPr>
        <p:blipFill>
          <a:blip r:embed="rId1"/>
          <a:stretch/>
        </p:blipFill>
        <p:spPr>
          <a:xfrm>
            <a:off x="468360" y="1125360"/>
            <a:ext cx="2778120" cy="4375440"/>
          </a:xfrm>
          <a:prstGeom prst="rect">
            <a:avLst/>
          </a:prstGeom>
          <a:ln w="0">
            <a:noFill/>
          </a:ln>
        </p:spPr>
      </p:pic>
      <p:sp>
        <p:nvSpPr>
          <p:cNvPr id="56" name="WordArt 14"/>
          <p:cNvSpPr txBox="1"/>
          <p:nvPr/>
        </p:nvSpPr>
        <p:spPr>
          <a:xfrm>
            <a:off x="3851280" y="765000"/>
            <a:ext cx="45370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 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WordArt 16"/>
          <p:cNvSpPr txBox="1"/>
          <p:nvPr/>
        </p:nvSpPr>
        <p:spPr>
          <a:xfrm>
            <a:off x="3419640" y="1989000"/>
            <a:ext cx="52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ый образ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18"/>
          <p:cNvSpPr txBox="1"/>
          <p:nvPr/>
        </p:nvSpPr>
        <p:spPr>
          <a:xfrm>
            <a:off x="4572000" y="3213000"/>
            <a:ext cx="31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зн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462880" cy="86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ФИЗИЧЕСКАЯ КУЛЬТУРА И СПОР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4608360" cy="475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Физическая культура и спорт помогают раскрыть свои силы, увидеть свои возможности. Это могучий источник молодости и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Физические упражнения, спорт, закаливание, правильный режим – это  эффективные средства укрепления здоровья и мощные факторы долгол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8"/>
          <p:cNvPicPr/>
          <p:nvPr/>
        </p:nvPicPr>
        <p:blipFill>
          <a:blip r:embed="rId1"/>
          <a:stretch/>
        </p:blipFill>
        <p:spPr>
          <a:xfrm>
            <a:off x="5148360" y="1844640"/>
            <a:ext cx="37558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5616720" cy="4840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оказывают тонизирующее, укрепляющее, стимулирующее воздейств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повышают мышечную сил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помогают стабилизировать работу сердечно</a:t>
            </a:r>
            <a:r>
              <a:rPr b="1" lang="en-US" sz="2400" spc="-1" strike="noStrike">
                <a:solidFill>
                  <a:srgbClr val="003300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сосудистой систе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улучшает состояние нервной системы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6"/>
          <p:cNvPicPr/>
          <p:nvPr/>
        </p:nvPicPr>
        <p:blipFill>
          <a:blip r:embed="rId1"/>
          <a:stretch/>
        </p:blipFill>
        <p:spPr>
          <a:xfrm>
            <a:off x="5940360" y="1844640"/>
            <a:ext cx="3065400" cy="4824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735120" y="784080"/>
            <a:ext cx="81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ФИЗИЧЕСКИЕ УПРАЖ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5280" y="1699920"/>
            <a:ext cx="4969080" cy="3530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Comic Sans MS"/>
              </a:rPr>
              <a:t>Если будешь вовремя отдыхать,  есть простую и здоровую пищу,  спать полноценно, содержать в чистоте свое тело, дружить с гимнастикой,  физкультурой и спортом -  значит будешь здоровым и будешь долго жить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95280" y="5373720"/>
            <a:ext cx="4969080" cy="1224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mic Sans MS"/>
              </a:rPr>
              <a:t>Начинай и заканчивай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mic Sans MS"/>
              </a:rPr>
              <a:t>занятиями гимнастикой и массаж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826920" y="620640"/>
            <a:ext cx="799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КОМЕНД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5" name="Picture 5" descr="7"/>
          <p:cNvPicPr/>
          <p:nvPr/>
        </p:nvPicPr>
        <p:blipFill>
          <a:blip r:embed="rId1"/>
          <a:stretch/>
        </p:blipFill>
        <p:spPr>
          <a:xfrm>
            <a:off x="250920" y="1700280"/>
            <a:ext cx="3600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ЧТО ТАКОЕ ЗДОРОВЬЕ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640" y="1828800"/>
            <a:ext cx="6119640" cy="4302000"/>
          </a:xfrm>
          <a:prstGeom prst="rect">
            <a:avLst/>
          </a:prstGeom>
          <a:solidFill>
            <a:srgbClr val="ffe7e7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«ЗДОРОВЬЕ – ЭТО СОСТОЯНИЕ ПОЛНОГО ФИЗИЧЕСКОГО, ДУШЕВНОГО И СОЦИАЛЬНОГО БЛАГОПОЛУЧИЯ, А НЕ ТОЛЬКО ОТСУТСТВИЕ БОЛЕЗНЕЙ И ФИЗИЧЕСКИХ НЕДОСТАТКОВ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PE02711_"/>
          <p:cNvPicPr/>
          <p:nvPr/>
        </p:nvPicPr>
        <p:blipFill>
          <a:blip r:embed="rId1"/>
          <a:stretch/>
        </p:blipFill>
        <p:spPr>
          <a:xfrm>
            <a:off x="6084720" y="2060640"/>
            <a:ext cx="2724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Comic Sans MS"/>
              </a:rPr>
              <a:t>Здоровье - </a:t>
            </a:r>
            <a:r>
              <a:rPr b="1" lang="en-US" sz="4800" spc="-1" strike="noStrike">
                <a:solidFill>
                  <a:srgbClr val="ff5050"/>
                </a:solidFill>
                <a:latin typeface="Comic Sans MS"/>
              </a:rPr>
              <a:t>основа</a:t>
            </a:r>
            <a:r>
              <a:rPr b="1" lang="en-US" sz="4400" spc="-1" strike="noStrike">
                <a:solidFill>
                  <a:srgbClr val="ff5050"/>
                </a:solidFill>
                <a:latin typeface="Comic Sans MS"/>
              </a:rPr>
              <a:t> жиз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140000" y="1988640"/>
            <a:ext cx="4679640" cy="4465800"/>
          </a:xfrm>
          <a:prstGeom prst="rect">
            <a:avLst/>
          </a:prstGeom>
          <a:solidFill>
            <a:srgbClr val="a0dca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Здоровье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 – важнейшее состояние человека, основа его жизнедеятельности, материального благополучия, трудовой активности, творческих успехов, долголе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9"/>
          <p:cNvPicPr/>
          <p:nvPr/>
        </p:nvPicPr>
        <p:blipFill>
          <a:blip r:embed="rId1"/>
          <a:stretch/>
        </p:blipFill>
        <p:spPr>
          <a:xfrm>
            <a:off x="395280" y="198900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Comic Sans MS"/>
              </a:rPr>
              <a:t>ТРИ УРОВНЯ ЦЕННОСТИ ЗДОРОВЬ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2340000" y="2133720"/>
            <a:ext cx="4537080" cy="938160"/>
          </a:xfrm>
          <a:prstGeom prst="downArrowCallout">
            <a:avLst>
              <a:gd name="adj1" fmla="val 35871"/>
              <a:gd name="adj2" fmla="val 120904"/>
              <a:gd name="adj3" fmla="val 12014"/>
              <a:gd name="adj4" fmla="val 6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mic Sans MS"/>
              </a:rPr>
              <a:t>БИОЛОГИЧЕСК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484360" y="3429000"/>
            <a:ext cx="4608720" cy="936720"/>
          </a:xfrm>
          <a:prstGeom prst="downArrowCallout">
            <a:avLst>
              <a:gd name="adj1" fmla="val 34079"/>
              <a:gd name="adj2" fmla="val 123002"/>
              <a:gd name="adj3" fmla="val 13898"/>
              <a:gd name="adj4" fmla="val 6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mic Sans MS"/>
              </a:rPr>
              <a:t>СОЦИАЛЬНЫ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484360" y="4941720"/>
            <a:ext cx="4537080" cy="935280"/>
          </a:xfrm>
          <a:prstGeom prst="downArrowCallout">
            <a:avLst>
              <a:gd name="adj1" fmla="val 32613"/>
              <a:gd name="adj2" fmla="val 121276"/>
              <a:gd name="adj3" fmla="val 13921"/>
              <a:gd name="adj4" fmla="val 6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mic Sans MS"/>
              </a:rPr>
              <a:t>ЛИЧНО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ФАКТОР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2565000"/>
            <a:ext cx="7931160" cy="30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ОБРАЗ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НАСЛЕДСТВ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ВНЕШНЯЯ СРЕДА И ПРИРОДНО-КЛИМАТИЧЕСКИЕ УСЛО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МЕДИЦИНСКОЕ ОБСЛУЖИ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9414"/>
          <p:cNvPicPr/>
          <p:nvPr/>
        </p:nvPicPr>
        <p:blipFill>
          <a:blip r:embed="rId1"/>
          <a:stretch/>
        </p:blipFill>
        <p:spPr>
          <a:xfrm>
            <a:off x="7670880" y="2060640"/>
            <a:ext cx="900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95640" y="1628280"/>
            <a:ext cx="4826160" cy="4969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Как сохранить и чем измерить этот драгоценный, но, увы, убывающий с годами</a:t>
            </a: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дар природ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р15"/>
          <p:cNvPicPr/>
          <p:nvPr/>
        </p:nvPicPr>
        <p:blipFill>
          <a:blip r:embed="rId1"/>
          <a:stretch/>
        </p:blipFill>
        <p:spPr>
          <a:xfrm>
            <a:off x="185760" y="1628640"/>
            <a:ext cx="3665520" cy="5040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50920" y="6922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66"/>
                </a:solidFill>
                <a:latin typeface="Comic Sans MS"/>
              </a:rPr>
              <a:t>ТВОЕ ЗДОРОВЬЕ - В ТВОИХ РУ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СЛАГАЕМЫ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651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РЕЖИМ ДН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ГИГИ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РАЦИОНАЛЬНОЕ ПИТАНИЕ, ЗАКАЛИВА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ЧЕРЕДОВАНИЕ ТРУДА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ОТДЫХ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ЗАНЯТИЯ ФИЗИЧЕСКИ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УПРАЖНЕНИЯМИ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СПОРТ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14"/>
          <p:cNvPicPr/>
          <p:nvPr/>
        </p:nvPicPr>
        <p:blipFill>
          <a:blip r:embed="rId1"/>
          <a:stretch/>
        </p:blipFill>
        <p:spPr>
          <a:xfrm>
            <a:off x="5364000" y="1744560"/>
            <a:ext cx="36799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71280" y="1844280"/>
            <a:ext cx="6193080" cy="2808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Утренняя гимнастика (зарядка) – комплекс физических упражнений, облегчающих переход от сна к бодрствованию. После ее выполнения чувствуется прилив энерг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4797000"/>
            <a:ext cx="8785440" cy="180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3399"/>
                </a:solidFill>
                <a:latin typeface="Comic Sans MS"/>
              </a:rPr>
              <a:t>Утренняя  гимнастика  укрепляет  здоровье, потому что  даёт  человеку  физическую  нагрузку, без  которой  не  может  нормально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Comic Sans MS"/>
              </a:rPr>
              <a:t>функционировать  ни  одна  система  организма.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250920" y="620640"/>
            <a:ext cx="8713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ье  в  порядке  -   спасибо   зарядке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9" descr="10"/>
          <p:cNvPicPr/>
          <p:nvPr/>
        </p:nvPicPr>
        <p:blipFill>
          <a:blip r:embed="rId1"/>
          <a:stretch/>
        </p:blipFill>
        <p:spPr>
          <a:xfrm>
            <a:off x="179280" y="1844640"/>
            <a:ext cx="2376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87480" y="-10588680"/>
            <a:ext cx="874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11280" y="1628280"/>
            <a:ext cx="4753080" cy="5040360"/>
          </a:xfrm>
          <a:prstGeom prst="rect">
            <a:avLst/>
          </a:prstGeom>
          <a:solidFill>
            <a:srgbClr val="ccecff">
              <a:alpha val="69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44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66"/>
                </a:solidFill>
                <a:latin typeface="Comic Sans MS"/>
              </a:rPr>
              <a:t>Повысить устойчивость, которая поможет справиться со всем «набором» неблагоприятных воздействий, можно с помощью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физической тренировки, закаливания, правильного режима пит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р17"/>
          <p:cNvPicPr/>
          <p:nvPr/>
        </p:nvPicPr>
        <p:blipFill>
          <a:blip r:embed="rId1"/>
          <a:stretch/>
        </p:blipFill>
        <p:spPr>
          <a:xfrm>
            <a:off x="122400" y="1628640"/>
            <a:ext cx="3944880" cy="4967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250920" y="76500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ДВИЖЕНИЕ – ЗАЛОГ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2:15:49Z</dcterms:created>
  <dc:creator>User</dc:creator>
  <dc:description/>
  <dc:language>en-US</dc:language>
  <cp:lastModifiedBy>Dima</cp:lastModifiedBy>
  <dcterms:modified xsi:type="dcterms:W3CDTF">2018-01-05T23:09:11Z</dcterms:modified>
  <cp:revision>37</cp:revision>
  <dc:subject/>
  <dc:title>Слайд 1</dc:title>
</cp:coreProperties>
</file>