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5A3-6C71-487D-AD54-6697E8F1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CBB-8BB5-40B4-84DB-BF3F51C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1E7-6AEA-4ABE-8F74-4ED61095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EAD-5BF0-4E48-BEDC-FAAC022E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FBDE-962A-4506-963F-0DAF2043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670B-AC0D-4E9F-93CE-86CCF1A3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A690-CDA3-4237-9ECA-E437B5E3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D548-0E45-4D25-BE85-959E423F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9908-3647-4AE7-8E81-3D64CFB3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C3D3-EAC3-48E7-92C1-2BB5E735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98BE-9847-4D05-93A9-323EAEC6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EF0-312F-4654-A0EC-9120AB77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858F-9C34-45D2-AB2E-60075A8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0B1A-4C23-4347-A78C-22003B45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3052-857C-46B5-8E23-DEB5E478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B9EC-C513-4FE5-9080-23BDFE23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62E-D6B5-4805-BCEB-CFB75E89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2E1-6974-4062-883A-BB465557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513-139F-49B1-87EE-6C2469D5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152-6BB3-4C83-83C7-1AD38404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0CE-0955-463C-9E8F-826BF52A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254-0F35-4518-868B-7D55438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9F0-C855-423C-A38D-63FBFA9C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547-23B4-4655-838C-7A68BEDF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CB62-7AB1-4C0F-A8E4-9B96295836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CD1F-BAE6-46EC-9FBB-864CF8BF2D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Алгоритм конструирования урока открытия нового знания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еятельностная цель: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у учащихся умений реализации новых способов действия.</a:t>
            </a:r>
            <a:br>
              <a:rPr sz="3200"/>
            </a:br>
            <a:br>
              <a:rPr sz="3200"/>
            </a:b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Содержательная цель: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ширение понятийной базы за счет включения в нее новых элемент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лгоритм конструирования урока открытия нового знан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ыделить и сформулировать новое зн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моделировать способ открытия нового зн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ычленить мыслительные операции, используемые при открытии нового зн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пределить необходимые ЗУН и способы его повтор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одобрать упражнения для этапа актуализации, опираясь на перечень необходимых мыслительных операций и ЗУН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моделировать затруднение и способ его фикс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моделировать проблемную ситуацию и диало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оставить самостоятельную работу и объективно обоснованный этало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пределить приемы организации и проведения первичного закреп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брать задания для этапа повторения по уровня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сти анализ урока по конспек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сти при необходимости коррективы в план конспек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05:39:27Z</dcterms:created>
  <dc:creator>Ольга</dc:creator>
  <dc:description/>
  <dc:language>en-US</dc:language>
  <cp:lastModifiedBy>Ольга</cp:lastModifiedBy>
  <dcterms:modified xsi:type="dcterms:W3CDTF">2017-04-16T05:44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