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0C9-A1AD-4234-A560-464457A4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23E-9515-4135-B718-E1DE05CF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D70-EEA3-4909-82E0-4DCCAE2F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F8C-6640-435A-964C-CB2990F4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02E1-8606-44DF-A07C-F3210F9F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F1F2-64B5-4D0B-968B-A7D21A6F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4835-E655-400D-80C1-E4531ECB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88E5-E10E-48A2-AB57-2D110B86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A7F2-AE93-4F0F-95A3-6007CA32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882F-E446-48F7-A250-3FA56D08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6CEA-470D-4116-AC7A-E9D3D0F0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B8D-FB9B-4E68-B355-E8A137A7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E7B9-A46A-4020-9567-FF08AF3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C335-E758-4E22-B305-5B74087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4566-4B84-4E49-B1CB-2A14BFCD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C5DA-25B5-4BE6-943A-7FAA3EF5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EF07-E6A3-4E0F-9B9B-E632E4A3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9B8-BDFE-4BDA-A491-43E062A0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D60-AF40-4842-B8C4-B3530A4E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6F6-CF58-42D2-AE59-8128F5BD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1FF-27E7-4FFE-B12E-D830E8C6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EBB-CC33-4DB7-A108-68D19EF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3C6-2804-43FF-9540-F78401F6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0E3-E497-4D42-8A59-A4BD4330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37C2-86F1-45B2-B308-4F9A526A7E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F4C3-EC36-4828-AB4C-0188DA46F2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Анализ урока на основе системно-деятельностного подхо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Время самостоятельной работы учеников (не менее 50% времени урока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Время, в течение которого говорил учитель (не более 10 минут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Сколько учеников отвечали устно на уроке и сколько времени (должны все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Сколько учеников получили оценки (должны все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Время, в течение которого ученики двигались (не менее 5 минут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. Сколько учеников готовы к восприятию нового материала (как проверено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. Сколько учеников ушли с урока с полным пониманием нового учебного материала (как проверено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 Соответствует ли объем домашнего задания норме (да – нет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6T07:28:27Z</dcterms:created>
  <dc:creator>Ольга</dc:creator>
  <dc:description/>
  <dc:language>en-US</dc:language>
  <cp:lastModifiedBy>acer</cp:lastModifiedBy>
  <dcterms:modified xsi:type="dcterms:W3CDTF">2018-01-06T21:18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