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E26-FFC5-4068-95F1-845D8831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A33-5741-42A7-8023-5B77CF9A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E97B5-EEC8-41E5-A622-683B4FE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FC5C4-32CA-42FB-A46A-B5A869CB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4C95-C085-4837-A9B4-0E49F3A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3529-F23B-447E-BB04-146DE11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10737-83A9-4A9C-9FAF-BA80B45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959E6-D3BE-416A-ADEE-BC9C86F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1740-488C-4530-82FC-F6C6CC4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10331-E78E-4130-A5C7-CB3DEFD6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77D1F-01F3-43E4-BF6E-2C897818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1B9E2-1CAA-4F72-B245-BE3417E5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CD8-58AA-4C99-BDCB-9B76462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32C7F-56BF-4694-97AA-1647B9C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145B5-F150-4507-8AF3-705F9BB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09AAB-55B4-449C-896D-1C1AE00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EE44E-5B97-45C1-8D2B-4A2900F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0A979-0111-488C-94CD-65E724CF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3CF3C-802F-4D28-9383-B07F952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E063A-35BD-4732-AC96-EA7C145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9716-E651-4A8C-BA3D-55CE62A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FBDB5-763E-45CA-955E-8F52E5A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6FFC6-8FA6-45FD-83B0-EE6B0CF7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300-E97E-4CCE-8925-C8BEBB69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9BDDF-F850-429D-94AF-4E9CB241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FB989-1D0E-4942-AF48-E630E2EB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081D-FA22-4BCD-A5EB-0C565F0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5159A-692D-4CE9-869F-5D8C9359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1A6C-ACE3-4976-A29B-E599B4E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9E6F-A37B-4AFE-815A-E290D87D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D5A02-8562-4892-B233-C70B8B8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6B97-7391-456A-BC9D-97F44CA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333E1-394F-4D5A-8CE9-0FA3873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B2ECF-2B14-49DB-9103-DC9FBF7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68FC-6BFC-4ABA-A978-34EA144A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808CF-BB95-46A0-A261-E69EEC2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8C93-951C-4D45-8350-C1C4348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92E65-59B1-444F-AA24-95F971F0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FA26C-25C2-4F73-A264-E4C36D9F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811D4-E93D-4DCB-B5D1-A7BFAEFF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126B0-BC61-4EB9-BA8C-770A85B2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997F8-D1FA-4549-9ADF-EAA1EE1F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82C1E-70E1-4CC1-8544-F91EB2C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346C8-F8CC-426B-B296-BCCC1C4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E5366-495E-46CC-B46A-EC2C4C7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E990-D5C6-45BC-98C0-ADDBB40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F3D03-9D75-43D3-A61A-AD2A0DE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66A21-9DB1-43EE-92E8-2489BC1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B83A2-D7F1-4F26-8721-13EEEED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3C297-854A-4F51-B9AD-2BF71DB9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76D4D-A09E-48B2-9C2B-91002BD8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80477-844B-4BDE-8AC3-8C65ED2B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DDECA-617B-406B-8647-8543EAE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FFBD3-481E-4031-9F8A-9572C08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A080F-BD68-4C55-9B4C-8A419DE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70752-A5E8-4C3B-A126-21D0214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AD7-CA91-45D5-A956-7ECDB22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03EB9-1EC6-46E7-B3C0-F687E3E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47AAC-9E4A-4999-A91D-BC7C076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DF37B-842B-4CF3-84C1-40784D2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47B84-BC59-4503-B21F-EA6610C9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203F3-BF4A-4975-9DED-A6B1D56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E9FDC-94ED-49AE-B70F-399A791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231A6-3DD3-4B8F-82B2-FA7AA86B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E1401-7F30-4F1D-8330-03FA60BD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774A8-5D33-4409-BB91-F6214DF0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F14C7-0E78-4B58-823B-F3F856BF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0966-6640-4DB8-BE23-6FF1C4B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F5BAA-43E3-468F-A104-A4941AA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02BC5-6BC2-457E-BE9A-EA40355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35786-1301-456B-A46B-145B665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EBCBA-1351-4E2D-B3D1-4525BD8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82E2E-709E-4DE2-B309-51F5EBB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84B61-8527-40A8-97C1-54AB34D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0AAF9-699E-4DBF-9C0A-9262278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AAB2D-C20F-47D1-AF7B-6920AAC3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C7F24-C97F-4882-850C-BAD09471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18C57-AFD6-42BF-B7BA-ACA876A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8B1-3AB3-4A6E-A694-B404BC0D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5E46C-051F-4C29-B70E-95E3522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8B4A6-5B66-43BD-B5F0-30A41743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82E5E-5B13-4523-929B-0ACD323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C0BAC-07B7-4470-8730-A24E934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86EBC-455A-4128-8538-395A091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F51C9-EFB8-4587-83E6-AF08BBA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1C014-3A90-43E1-AC8D-224FCA1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72F27-B60A-4E39-AF73-8E2B575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8A399-C7D2-4D47-BF68-E08AFCD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6B4C8-7665-49F3-92B0-E5985CC1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3E8A-3A52-457B-B7D1-76A56C0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03FEA-7362-4755-A446-E23B25F7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074C5-765C-49E7-8CEC-91F1A514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7562B-111B-475B-AA29-186FA0D3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D4A85-DF44-4CC6-9184-7A3A01E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D8EE7-4C19-4473-956D-1ADDE4A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77ADC-2A3E-4B0B-A780-EAD69FC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47DBC-FA97-407E-92A2-1B46B0B9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E069C-C188-4EF2-893E-BBD0A8DB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44649-4F97-4EBB-B1E3-4E0F382B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4EE2D-2F18-49CF-9E76-E6EBFF1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A9DB-4330-402F-AE8C-5207C95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EEFFF-B7C8-4921-AC6B-E600D68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A3925B-CE55-4844-9E0E-9B0CBD3D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B6CAB-AFC8-490A-A975-C788EA12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0189D-524C-42C7-B9C3-33BAC8E9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346BC-40FE-4C4A-BA2B-72A30F3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24B3B-02B6-4AB3-817C-3C47D3DA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A23B6-26D2-4D42-81DA-2BB4E2EE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BC901-BB13-4CA6-902A-8DA5B99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6257A-4C75-4867-A937-F2A5282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AE95D-379C-4A1D-866E-423AC8D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D1D-F6DB-461A-A7E5-BFC0059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CAC0-313E-4DCD-87DB-09CC454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DDDBA-E426-46EB-BB3A-ACF2925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AE56A-436B-4110-A08B-B2E4118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ECF44-A6CB-4C28-81A3-82D0EAE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B0641-8EBB-46CF-B92E-606B2563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5F38E-81D9-4BC2-8339-E783FC17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123C-2FF7-45B2-AF8B-6704FED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F9F-BBBD-452E-B7CA-6581909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87C-2827-4602-9DAB-591F9132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75C9-A8DF-4908-8F20-E56C9197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F22A-05EF-442D-B9C6-1588E52D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A066-91C9-463C-B906-58FD9DC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EF3B-A2A6-457E-86FB-196ACA9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AE1B-70FD-4071-A352-95B8217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9F2D-A5B2-43BE-B141-72A7301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283-BDE3-4903-973B-6F1C817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23EC-B022-4860-AEC5-998F82A7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57AF-221A-43CE-BC51-B246515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9ED4-8205-4B0A-BDEC-F6C45C4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9846-CF9E-45E6-8BFF-29DE9D2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6ED0-4B31-4947-BBAB-F71C4D0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0F55-6175-4C43-AD6D-D3C7FC97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5E6F-5A2F-40FA-8025-954CDFCA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CEA9-C611-4F3B-9174-AC0484E7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A289-D9F0-4338-8104-D21449ED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0849-99B4-4A7C-B80D-D79E0B67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3AF-BFC8-4BAA-A12D-69CCB44E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20C8-8816-47DE-A1ED-1239A963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727C-09C9-4112-B2E2-539FBDEB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49D4-1177-44B5-92B3-ADA43A6B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FE55-84EB-4DC2-9D27-7EE0404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93A4-5F32-4C28-987B-84CFE61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7ECD-41CB-4F85-B106-503BC08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B2A9-5A3D-4D9A-BDE2-7C107D2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9927-BF1A-4B5E-881C-77CD8942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D1AB-4354-468C-872A-AE1FA99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DE837-DD5A-4EE9-B562-AC489029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F60-2676-40A0-A19C-02DFF95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75B9-8D83-4B5A-B22A-13048C1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B0530-A60B-492C-8FE8-F3AE9457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FFE9-81C9-4AC1-B468-52A9BC4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1A39-DFE3-46FE-9F54-45391C9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BDCF1-38FE-41A6-BB20-45858DBF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29A3-9ABF-4FD2-BED0-EFD2299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F49F-40A1-44BD-9021-3619D2B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57F8-B502-42CE-A269-635D479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C51A-FDD9-47A2-9CB4-DF07888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D3BB-B139-460B-8CDB-79160DDE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6D0-73AF-4E31-9301-A24B797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6B12-3D82-4A60-B39C-B238FCA1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C5293-840E-4538-A8AF-9D5E6AE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6786-2203-4652-AC70-676A352B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6A28-166C-4779-A37E-DBB6B68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71E2-329E-4820-94C4-4EB244D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5A12-E277-4157-9119-048175F5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8A49-D1F7-477D-BF01-9D182B8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3C6A-46F7-4FD8-9D07-0C68452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0F43-9446-47E6-BAFF-5975EDE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4B7E-38C6-44AE-B47C-76761752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630-FAEA-4868-8694-E97FE5A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1571-B432-4744-BECE-9D5D7E6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8DDA-A5BD-422E-ABB6-4E700B8F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FFAC-356B-402D-818B-8C99893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1060-2111-436F-81F8-74FA32BD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4938-9C31-49A8-B040-CE96C41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5D16-3CFD-483C-BD0C-C92AFBD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322E6-994C-4CD6-A077-33DF8C1F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BB75-78C1-4C05-8E51-F327303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17EB-B454-4551-AE12-ED3D667B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23AE-9EA3-4B86-AE5C-ECB1ECC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829-2F9B-40C7-9248-1CA41E9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DDB6-978B-4F0D-9BFB-FF0F224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290E-7DDA-4648-8B3B-0A9BD03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D30C-7E31-478C-A777-F53FD8F0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B6367-4622-4944-A4A8-43B240F5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3FC6F-CABB-48E0-95E4-2FC1F79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8802-990D-4599-B31A-ADC3E100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00E3-F7A8-46FB-B500-8C29BCB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063B-3573-4529-9463-A26B4BA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4769-BFAD-4EFD-BBB6-9C7F5F1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3BD0C-92FE-4297-ACED-51505A3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974-9CE8-47EB-BFDA-E89F280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8E53-5525-4B78-9670-BFC9DBF0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AF05-3F48-4280-BE80-5105145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B04F-6552-416F-B31E-3F1C5F3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993DA-4DA5-41A1-A248-50D2930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B72C-B887-4397-BD48-1EB2585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82255-2776-4834-99DC-C6D07057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C3BF-043D-4F0C-BF00-D541768E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E4476-443E-40D5-A260-15BFDDDB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A47C-DB96-4D9A-BD4D-03CA925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CC9BF-1141-44AE-A112-684988EF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002-9AE2-4781-B4F6-1B6F4D37D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1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61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6F53-D0EC-4EE4-A721-159EC7599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9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9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9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0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294C-BD16-4BE5-85E5-1D75D54EB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5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8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8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8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4365-113D-467A-AB0C-A43FC6221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4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5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5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7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7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B20-C9D4-4FAA-A4AC-63E1ACBAD2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4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5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958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95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96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25F2-2D9D-4D92-A207-50D8568345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1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2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3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4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4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04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04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04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A730-D69F-465D-98EE-6F9254645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0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1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13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13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13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D90B-F11D-4E31-91BF-8DAE763766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2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0FC7-1589-4A14-902B-57445E881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1F1F-E198-4624-9905-9601170D07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D7FC-A939-4AE9-BF84-554AD585C7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5DDA-B892-4B31-A804-2EE52F3DD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443B-F8BF-40A1-A384-CB26DBDD73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6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6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1E0-E059-4A0A-95CC-8A42944562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4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35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35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7BA-962A-4F7B-8657-42CFB132B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436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3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458F-497B-4B30-8929-B8C77209A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52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5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52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285-8849-4915-862E-1F04DB3046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20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00"/>
                </a:solidFill>
                <a:latin typeface="Times New Roman"/>
              </a:rPr>
              <a:t>Девиз: Недостаточно только получить знания, надо найти им примен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1619280" y="3789360"/>
            <a:ext cx="720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ю выполнила учитель математики МБОУ Петровобудская СОШ Ковалева Елена Николаев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Picture 5" descr="daily-dozen-717"/>
          <p:cNvPicPr/>
          <p:nvPr/>
        </p:nvPicPr>
        <p:blipFill>
          <a:blip r:embed="rId1"/>
          <a:stretch/>
        </p:blipFill>
        <p:spPr>
          <a:xfrm>
            <a:off x="1692360" y="981000"/>
            <a:ext cx="705636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19" name="Прямоугольник 5"/>
          <p:cNvSpPr/>
          <p:nvPr/>
        </p:nvSpPr>
        <p:spPr>
          <a:xfrm>
            <a:off x="2286000" y="2705040"/>
            <a:ext cx="617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минут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0" name=""/>
          <p:cNvGraphicFramePr/>
          <p:nvPr/>
        </p:nvGraphicFramePr>
        <p:xfrm>
          <a:off x="826920" y="333360"/>
          <a:ext cx="7081920" cy="4979880"/>
        </p:xfrm>
        <a:graphic>
          <a:graphicData uri="http://schemas.openxmlformats.org/drawingml/2006/table">
            <a:tbl>
              <a:tblPr/>
              <a:tblGrid>
                <a:gridCol w="2051280"/>
                <a:gridCol w="1836720"/>
                <a:gridCol w="1596960"/>
                <a:gridCol w="15969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Дробное число</a:t>
                      </a:r>
                      <a:r>
                        <a:rPr b="0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Количество нулей в знаменателе</a:t>
                      </a:r>
                      <a:r>
                        <a:rPr b="0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Десятичная др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Количество цифр после запятой</a:t>
                      </a:r>
                      <a:r>
                        <a:rPr b="0" lang="ru-RU" sz="1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Rectangle 64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2" name="Object 648"/>
              <p:cNvSpPr txBox="1"/>
              <p:nvPr/>
            </p:nvSpPr>
            <p:spPr>
              <a:xfrm>
                <a:off x="1258920" y="3933720"/>
                <a:ext cx="70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650"/>
              <p:cNvSpPr txBox="1"/>
              <p:nvPr/>
            </p:nvSpPr>
            <p:spPr>
              <a:xfrm>
                <a:off x="1258920" y="1268280"/>
                <a:ext cx="34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651"/>
              <p:cNvSpPr txBox="1"/>
              <p:nvPr/>
            </p:nvSpPr>
            <p:spPr>
              <a:xfrm>
                <a:off x="1258920" y="1916280"/>
                <a:ext cx="4856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ct 652"/>
              <p:cNvSpPr txBox="1"/>
              <p:nvPr/>
            </p:nvSpPr>
            <p:spPr>
              <a:xfrm>
                <a:off x="1258920" y="3284640"/>
                <a:ext cx="60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ct 654"/>
              <p:cNvSpPr txBox="1"/>
              <p:nvPr/>
            </p:nvSpPr>
            <p:spPr>
              <a:xfrm>
                <a:off x="1258920" y="2637000"/>
                <a:ext cx="590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7" name="Object 882"/>
              <p:cNvSpPr txBox="1"/>
              <p:nvPr/>
            </p:nvSpPr>
            <p:spPr>
              <a:xfrm>
                <a:off x="1198440" y="4653000"/>
                <a:ext cx="831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2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8" name="Text Box 883"/>
          <p:cNvSpPr/>
          <p:nvPr/>
        </p:nvSpPr>
        <p:spPr>
          <a:xfrm>
            <a:off x="1979640" y="5445000"/>
            <a:ext cx="151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. 0,0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. 0,00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. 0,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884"/>
          <p:cNvSpPr/>
          <p:nvPr/>
        </p:nvSpPr>
        <p:spPr>
          <a:xfrm>
            <a:off x="5076720" y="5445000"/>
            <a:ext cx="25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. 3,52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. 0,0352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. 0,352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885"/>
          <p:cNvSpPr/>
          <p:nvPr/>
        </p:nvSpPr>
        <p:spPr>
          <a:xfrm>
            <a:off x="485928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00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886"/>
          <p:cNvSpPr/>
          <p:nvPr/>
        </p:nvSpPr>
        <p:spPr>
          <a:xfrm>
            <a:off x="4859280" y="4797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352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887"/>
          <p:cNvSpPr/>
          <p:nvPr/>
        </p:nvSpPr>
        <p:spPr>
          <a:xfrm>
            <a:off x="521964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888"/>
          <p:cNvSpPr/>
          <p:nvPr/>
        </p:nvSpPr>
        <p:spPr>
          <a:xfrm>
            <a:off x="5292720" y="47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9194d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19194d"/>
                </a:solidFill>
                <a:latin typeface="Times New Roman"/>
              </a:rPr>
              <a:t>ДОМАШНЕЕ ЗАДАНИЕ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835280" y="1844280"/>
            <a:ext cx="6851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66 (б); №1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WordArt 5"/>
          <p:cNvSpPr txBox="1"/>
          <p:nvPr/>
        </p:nvSpPr>
        <p:spPr>
          <a:xfrm>
            <a:off x="1692360" y="476280"/>
            <a:ext cx="67672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ahoma"/>
              </a:rPr>
              <a:t>СПАСИБО </a:t>
            </a:r>
            <a:endParaRPr b="1" lang="en-US" sz="1800" spc="1" strike="noStrike">
              <a:ln w="25560">
                <a:solidFill>
                  <a:srgbClr val="6600cc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ahoma"/>
              </a:rPr>
              <a:t>за активное участие </a:t>
            </a:r>
            <a:endParaRPr b="1" lang="en-US" sz="1800" spc="1" strike="noStrike">
              <a:ln w="25560">
                <a:solidFill>
                  <a:srgbClr val="6600cc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25560">
                  <a:solidFill>
                    <a:srgbClr val="6600cc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ahoma"/>
              </a:rPr>
              <a:t>на уроке  </a:t>
            </a:r>
            <a:endParaRPr b="1" lang="en-US" sz="1800" spc="1" strike="noStrike">
              <a:ln w="25560">
                <a:solidFill>
                  <a:srgbClr val="6600cc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ahoma"/>
              <a:ea typeface="Tahom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0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692000" y="764640"/>
            <a:ext cx="7056360" cy="5759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Слушайте меня вниматель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а вопросы отвечайт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сё, ребята, подмечайт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ичего не забывайт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ня, прошу, не подкачай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ПРОЧИТАЙТЕ ДРО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763640" y="2492280"/>
            <a:ext cx="65534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26"/>
              <p:cNvSpPr txBox="1"/>
              <p:nvPr/>
            </p:nvSpPr>
            <p:spPr>
              <a:xfrm>
                <a:off x="3132000" y="1700280"/>
                <a:ext cx="10908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Object 27"/>
              <p:cNvSpPr txBox="1"/>
              <p:nvPr/>
            </p:nvSpPr>
            <p:spPr>
              <a:xfrm>
                <a:off x="7308720" y="1700280"/>
                <a:ext cx="808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Object 31"/>
              <p:cNvSpPr txBox="1"/>
              <p:nvPr/>
            </p:nvSpPr>
            <p:spPr>
              <a:xfrm>
                <a:off x="1692360" y="177336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Object 32"/>
              <p:cNvSpPr txBox="1"/>
              <p:nvPr/>
            </p:nvSpPr>
            <p:spPr>
              <a:xfrm>
                <a:off x="5219640" y="162864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33"/>
              <p:cNvSpPr txBox="1"/>
              <p:nvPr/>
            </p:nvSpPr>
            <p:spPr>
              <a:xfrm>
                <a:off x="6804000" y="4941720"/>
                <a:ext cx="806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Object 34"/>
              <p:cNvSpPr txBox="1"/>
              <p:nvPr/>
            </p:nvSpPr>
            <p:spPr>
              <a:xfrm>
                <a:off x="1692360" y="335772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Object 35"/>
              <p:cNvSpPr txBox="1"/>
              <p:nvPr/>
            </p:nvSpPr>
            <p:spPr>
              <a:xfrm>
                <a:off x="320364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Object 36"/>
              <p:cNvSpPr txBox="1"/>
              <p:nvPr/>
            </p:nvSpPr>
            <p:spPr>
              <a:xfrm>
                <a:off x="493236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Object 37"/>
              <p:cNvSpPr txBox="1"/>
              <p:nvPr/>
            </p:nvSpPr>
            <p:spPr>
              <a:xfrm>
                <a:off x="6804000" y="3284640"/>
                <a:ext cx="13762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Object 38"/>
              <p:cNvSpPr txBox="1"/>
              <p:nvPr/>
            </p:nvSpPr>
            <p:spPr>
              <a:xfrm>
                <a:off x="2411280" y="5013360"/>
                <a:ext cx="1374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Object 39"/>
              <p:cNvSpPr txBox="1"/>
              <p:nvPr/>
            </p:nvSpPr>
            <p:spPr>
              <a:xfrm>
                <a:off x="4572000" y="501336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03280" y="234900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ahoma"/>
              </a:rPr>
              <a:t>Десятичная запись дробных чисе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Ь-КАШИ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11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жедиад ибн Масуд аль -Каш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показал запись дроби в одну строку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формулировал  правила действия с ни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9" descr="ghiath"/>
          <p:cNvPicPr/>
          <p:nvPr/>
        </p:nvPicPr>
        <p:blipFill>
          <a:blip r:embed="rId1"/>
          <a:stretch/>
        </p:blipFill>
        <p:spPr>
          <a:xfrm>
            <a:off x="1403280" y="1268280"/>
            <a:ext cx="328608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Picture 4" descr="43519_59"/>
          <p:cNvPicPr/>
          <p:nvPr/>
        </p:nvPicPr>
        <p:blipFill>
          <a:blip r:embed="rId1"/>
          <a:stretch/>
        </p:blipFill>
        <p:spPr>
          <a:xfrm>
            <a:off x="3132000" y="549360"/>
            <a:ext cx="2659320" cy="359892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294" name="Text Box 5"/>
          <p:cNvSpPr/>
          <p:nvPr/>
        </p:nvSpPr>
        <p:spPr>
          <a:xfrm>
            <a:off x="2411280" y="4869000"/>
            <a:ext cx="43214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ahoma"/>
              </a:rPr>
              <a:t>Симон Стев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ahoma"/>
              </a:rPr>
              <a:t>(1548 – 16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.П. Магницк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042560" y="4941720"/>
            <a:ext cx="721044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изложил учение о десятичной дроби в учебнике « Арифметика Магницког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9" descr="m_23377"/>
          <p:cNvPicPr/>
          <p:nvPr/>
        </p:nvPicPr>
        <p:blipFill>
          <a:blip r:embed="rId1"/>
          <a:stretch/>
        </p:blipFill>
        <p:spPr>
          <a:xfrm>
            <a:off x="1547640" y="1413000"/>
            <a:ext cx="2880000" cy="35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9" name="Picture 10" descr="0006-006-Arifmetika-L"/>
          <p:cNvPicPr/>
          <p:nvPr/>
        </p:nvPicPr>
        <p:blipFill>
          <a:blip r:embed="rId2"/>
          <a:stretch/>
        </p:blipFill>
        <p:spPr>
          <a:xfrm>
            <a:off x="4788000" y="1413000"/>
            <a:ext cx="3960720" cy="35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епл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1571) - (1630 гг.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лож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временную запись дроби,  т.е. отделение целой части запят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11" descr="i"/>
          <p:cNvPicPr/>
          <p:nvPr/>
        </p:nvPicPr>
        <p:blipFill>
          <a:blip r:embed="rId1"/>
          <a:stretch/>
        </p:blipFill>
        <p:spPr>
          <a:xfrm>
            <a:off x="5003640" y="1628640"/>
            <a:ext cx="3600720" cy="446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3" name="Object 6"/>
              <p:cNvSpPr txBox="1"/>
              <p:nvPr/>
            </p:nvSpPr>
            <p:spPr>
              <a:xfrm>
                <a:off x="2700360" y="1484280"/>
                <a:ext cx="1447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Object 8"/>
              <p:cNvSpPr txBox="1"/>
              <p:nvPr/>
            </p:nvSpPr>
            <p:spPr>
              <a:xfrm>
                <a:off x="6443640" y="1557360"/>
                <a:ext cx="1447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5" name="Стрелка вниз 22"/>
          <p:cNvSpPr/>
          <p:nvPr/>
        </p:nvSpPr>
        <p:spPr>
          <a:xfrm flipH="1" rot="19039200">
            <a:off x="4039560" y="2152800"/>
            <a:ext cx="323640" cy="68112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Box 23"/>
          <p:cNvSpPr/>
          <p:nvPr/>
        </p:nvSpPr>
        <p:spPr>
          <a:xfrm>
            <a:off x="3815640" y="292428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об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Box 26"/>
          <p:cNvSpPr/>
          <p:nvPr/>
        </p:nvSpPr>
        <p:spPr>
          <a:xfrm>
            <a:off x="2316240" y="29973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Box 27"/>
          <p:cNvSpPr/>
          <p:nvPr/>
        </p:nvSpPr>
        <p:spPr>
          <a:xfrm>
            <a:off x="7272360" y="306864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об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Стрелка вниз 28"/>
          <p:cNvSpPr/>
          <p:nvPr/>
        </p:nvSpPr>
        <p:spPr>
          <a:xfrm rot="2560800">
            <a:off x="3031920" y="2152800"/>
            <a:ext cx="323640" cy="6807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Стрелка вниз 29"/>
          <p:cNvSpPr/>
          <p:nvPr/>
        </p:nvSpPr>
        <p:spPr>
          <a:xfrm rot="2560800">
            <a:off x="670356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Стрелка вниз 30"/>
          <p:cNvSpPr/>
          <p:nvPr/>
        </p:nvSpPr>
        <p:spPr>
          <a:xfrm flipH="1" rot="19039200">
            <a:off x="771084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Box 31"/>
          <p:cNvSpPr/>
          <p:nvPr/>
        </p:nvSpPr>
        <p:spPr>
          <a:xfrm>
            <a:off x="6060600" y="29242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Левая фигурная скобка 32"/>
          <p:cNvSpPr/>
          <p:nvPr/>
        </p:nvSpPr>
        <p:spPr>
          <a:xfrm rot="16200000">
            <a:off x="4556160" y="-11160"/>
            <a:ext cx="685800" cy="8861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8861400"/>
              <a:gd name="textAreaBottom" fmla="*/ 8843760 h 886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"/>
                  <a:pt x="10800" y="139"/>
                </a:cubicBezTo>
                <a:lnTo>
                  <a:pt x="10800" y="10661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70"/>
                  <a:pt x="10800" y="10939"/>
                </a:cubicBezTo>
                <a:lnTo>
                  <a:pt x="10800" y="21461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Прямоугольник 33" descr=""/>
          <p:cNvPicPr/>
          <p:nvPr/>
        </p:nvPicPr>
        <p:blipFill>
          <a:blip r:embed="rId1"/>
          <a:stretch/>
        </p:blipFill>
        <p:spPr>
          <a:xfrm>
            <a:off x="901800" y="4516560"/>
            <a:ext cx="8053200" cy="106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5" name="Object 9"/>
              <p:cNvSpPr txBox="1"/>
              <p:nvPr/>
            </p:nvSpPr>
            <p:spPr>
              <a:xfrm>
                <a:off x="1619280" y="5445000"/>
                <a:ext cx="709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есятич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роб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Object 10"/>
              <p:cNvSpPr txBox="1"/>
              <p:nvPr/>
            </p:nvSpPr>
            <p:spPr>
              <a:xfrm>
                <a:off x="1979640" y="1268280"/>
                <a:ext cx="5792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Object 11"/>
              <p:cNvSpPr txBox="1"/>
              <p:nvPr/>
            </p:nvSpPr>
            <p:spPr>
              <a:xfrm>
                <a:off x="5580000" y="1341360"/>
                <a:ext cx="8524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94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38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88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626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714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14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664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36818E-006 L -0.18159 0.28677 E">
                                      <p:cBhvr>
                                        <p:cTn id="183" dur="2000" fill="hold"/>
                                        <p:tgtEl>
                                          <p:spTgt spid="1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4209E-006 L 0.07934 0.27244 E">
                                      <p:cBhvr>
                                        <p:cTn id="188" dur="2000" fill="hold"/>
                                        <p:tgtEl>
                                          <p:spTgt spid="1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6-02-10T22:34:46Z</dcterms:modified>
  <cp:revision>68</cp:revision>
  <dc:subject/>
  <dc:title>Слайд 1</dc:title>
</cp:coreProperties>
</file>