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7.wmf" ContentType="image/x-wmf"/>
  <Override PartName="/ppt/media/image5.wmf" ContentType="image/x-wmf"/>
  <Override PartName="/ppt/media/image6.gif" ContentType="image/gif"/>
  <Override PartName="/ppt/media/image11.gif" ContentType="image/gif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42A-8015-4C8D-A316-6FDCBEFF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164-4057-4145-A385-3A81A8D1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0C293-6FDC-4CF4-8095-542F9843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3ADE5B-99AC-4A7A-877A-E2A11EB4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3089F-96A1-4CF1-BB47-7D42E696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BF7A5-F3AF-4DAA-9F2D-EE71741C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70B8A-6D84-4973-9BBF-508E9FC1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55405-BEB7-406B-A678-E8782F2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1D5B91-D237-464C-9AF3-B23CC36A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4740C-4BCA-4181-AF71-D10B6C74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7D21B-86FF-4F8B-867F-42646212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FAE95-F273-40BC-8DCD-9743D148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EA7-C9B5-4B98-895B-8D033BEB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5E85B-E427-4B12-81B7-13345AE5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870A5-DF23-4414-80CD-D405D174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D07EE-AD68-4775-B879-C785F781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1F050-581A-4825-A67D-A0736A46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626B8-2E16-47CC-B9DD-1FBA928A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DBCA9-C1D4-4FCC-9EB1-D508771E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52C8C6-E1DE-49A8-B7B8-319AB5CA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FE973-A3DE-470D-873B-D640CEEC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1A153-CF8C-4CFB-962B-0618121B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29CAD-20E9-4911-986F-51ABADE1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7C8-E245-4043-9E2F-95D291FD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EA634-37C3-4FED-AE6A-5D7599CA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64299-78FE-49D9-B727-B09FE659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66D45-2217-47E2-BF50-89C5C38E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9EA1C-19AD-4CF0-995A-2E6E7B95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FB7BF-E95E-4F83-9C17-A6E02F93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6D2D6-B4F2-4E31-A719-836BAC96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79928-4F6B-48BB-A590-5533279D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36D6F-D8F7-4856-B3E9-102867CF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07B68-5DC4-4148-B741-6DF9E833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62D5E-74FE-4E5E-8253-18D4411B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CF94-C98A-4C91-876E-6E1CA65C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5F238-CCDD-4B6C-AA28-F8E07004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6D615-9A3D-430E-9B1C-5DE75F52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BF0F1-0E7A-4854-BBE7-2DA91C10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FB01B-9B10-49D0-81DB-50CBA7C1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3E39D-9FD9-4C78-9C51-4AE0F07B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3EAD1-E1C3-4942-A645-72314E28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29E63-6C81-4CA6-8D37-4C576EA5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05C45-B67C-4A9E-8109-24002632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1135D-AAE3-41E8-97BC-7A6696E5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1C5FF-4440-4947-A9C0-46E3BFDF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63A4-EA48-4D6F-812A-DA1D2658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9A147-B9FA-41F6-A6A6-386CC9F0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7E885-C121-4689-9EE4-886568EE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8DEF13-5C77-4EF0-B634-9A1FFE17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A47B5-8255-4276-AD3B-E8B4A495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D2BA0-0ACE-4E57-B686-62F0938F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AA69AA-F0B1-4AA3-95DC-C8ABE6F7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0BAB2-A302-4D47-98A3-6C71A394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5F38B-0B76-4EA2-A64E-ECB2DFB0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8F955-FA7A-42B1-AE69-B7764B63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428A9-285A-4C63-92E0-952AD719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CF24-A63E-43AD-8412-741BA9E1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9B789-5908-46BB-A3F0-778F20F7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E340D-E405-4667-94A9-B7687458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66C7CA-49FE-4452-A8D0-CD08C23E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EF90B-5B5C-496C-864E-F974F413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66549-652C-41FD-8624-7156AC55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CDEFE-C7B3-4B50-9EB4-BF39C9AF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717AD-1B16-4B70-BB3F-B65AD37C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8385-6380-4A4F-A559-C01F408E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FD03-1D0D-405D-A65F-634FE4F0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D4AD-3FB1-47D4-8F37-B82253EE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85EF-3F32-4E08-A418-9E4BF494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646-CA75-450C-ADB3-EAA07DD9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D474-CA89-451E-94BF-4273D556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D310-5A41-4B9E-8F10-6A298876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DEB2-186C-497D-BF03-F3008BF1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5FAD-7CA3-46B3-9AF5-6736BC9B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3618-9FDC-42C8-A8E3-4EF35CD2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0FE4C-1CD2-4B89-A1D1-F6493D3B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8E63A-B741-4C11-AA18-C6A4BFF6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B464D-39EF-471D-B3D4-8E3FBA4A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6B2C-08A5-4A61-9DD0-DF07F704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E3D6-491C-4962-A543-769BA4CC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7B0-D17C-4A1B-81CF-80C588FC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F6C89-4749-4226-B71B-6F7DC0E4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3EFDC-193F-412B-9B9A-7FCD127F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4F4A9-0DE8-487D-AEC0-701D4580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262EF-C0E4-4664-A019-DD60C349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876B-7858-4EB7-8C52-475FD950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D230-45A4-4791-9CC8-EDC3581E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666BD-ED73-423A-823E-EDADF4DD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D68CC-84FA-48A0-AAA0-75B41232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D07AB-E21D-4775-9E69-5790FA41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FF422-E50C-40A8-B60F-92E6B5D8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475-CEF8-4B1E-9E1D-577017DD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FC5B0-0225-46D7-9933-E4EEE344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EE81F-30A1-4E5A-B32D-AEB9D48A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0429B-2F68-45EB-9475-000215FD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F0163-37FE-4D74-BE0D-ECA57290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8D714-7EB8-4D46-9C24-02BDF59C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D5B47-8780-4FE4-97C7-20ED6D03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4F3BB-4B2E-4608-9A17-67F23FC5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51658-555A-4853-AFD6-C351E7FF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7B33B-AAE9-48B1-9F18-E0AE9572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655A8-D9AA-47BE-9592-01F41267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DAE-B046-4AD8-BF46-792D77A5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A85CA-DA96-48EF-A369-91A7F286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F29D0-E7D3-4CDF-9BB3-4C49A09F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C4652-DCF6-4DC4-8F2E-AFFAC8A0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FB65F-4E6B-403A-B524-757A3688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AB587-5D65-421E-90C3-A1D539A0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22333-4264-4354-A4D7-853C13EC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63CEE-8BF0-418F-9431-94D3A905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3E1A6-2CA7-415F-9083-D3F05A53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3A81A-F96D-46D5-BA84-80005481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364FE-9D06-4B26-8958-BEEFF153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5D15-0A73-48CB-85BD-F2A83531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64C9F-6A76-4004-88B2-382C57A4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534B2-A39B-4F55-9203-3FC0E365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C479F-7130-4D95-85B7-8D270C6B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8E1D1-FEEC-4791-BCDC-F33F992D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6ECAD-B329-470F-9769-1AA7A280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B8635-556F-4C53-9E49-47595993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80AB0-5231-4773-B613-E304DA5C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96730-694E-40A8-BFE1-3477BBFB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DB92A-2BEF-46A2-9C01-44993971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78A55-5F6C-40BC-94BC-C2972FE1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AE0-B9B9-4BF7-B536-7872FEAE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DF3D2-5D81-43BD-BE8D-F993E3EF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5394D-852E-4DF9-A458-DD9A943B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5025C-A353-46AD-97EA-C59717BE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5F6A8-2507-4468-8F05-601099C3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8D6B3-41E7-4EC1-BAC6-AD9E1FE8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997A0-0557-4C3E-92D1-5532F872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BC2B2-3C92-41DB-AD98-A4BCE19F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0C599-9A82-450B-97B0-B0D578EF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F6816-F6E7-4C13-BF2E-A0319EC4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5F088-A428-4CAA-98DB-76DA3459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484-FC8D-48B2-9E1A-6B4BF575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86583-A3EE-434F-BB73-6678D202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F4CAE-9A4B-4862-9C6D-3811540D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CBA9C-CBA8-438A-9DC2-90257DE0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55620-5204-4A38-B676-BEA2163A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A27C1-97D6-401F-81BE-C89B0CE1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38B6D-DE6D-4FE3-BB8F-05496DC5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4045C-592C-488B-BC39-106AAA95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19AB8-6717-49EE-A6BF-B9D86053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47245-1C35-4AB4-BFEF-FFDD7C55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721DC-01C7-4CEE-90E3-82DAB442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23F-5F8C-422C-8CD9-62DB670B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09A59-331A-414E-ACAA-77CE3565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6A9D9-582D-4621-A667-3EC71C29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EBBEC-9F06-4B5F-A000-1E64CC10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54CF1-F7DD-4ACF-ADC6-41B5FF20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76183-4CEE-4A0F-9D92-4D91F352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E8E93-C0C4-4593-8AE1-A70C495D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75FB6-1A2F-4A62-A98D-FC8664EE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FD5CC-0755-4CBC-9C72-31097B1F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36D9B-1FBF-4F79-A817-10917B4C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D83B0-DF0E-40F2-B27A-3E992C47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B9E2-6719-4191-851A-6826DC59A50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5B91-12E6-49B3-A4E0-7E7663D9F59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A9EC-D2E2-459E-896C-F20C6B735A0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E4B2-B113-4865-867B-818BF834EE5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CA16-7DDB-4F5D-A116-5C194796F61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E3B9-B306-4803-A9EA-3634D97E412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AA4D-BC66-4F18-94BF-B8147F195CF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7DDE-B73F-4C96-8CDC-8F568CD61BB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A24F-BA43-402F-8CD8-43860AA2B30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7193-7A94-4B5C-9A74-4D41D57D31E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30DC-E1F1-4F20-92C4-911F4B2E5D7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EC54-F4DB-427F-A242-E2E002DC2BE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49F6-ACEB-49FF-9C37-5413CB4535C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 rot="10800000">
            <a:off x="754920" y="5443920"/>
            <a:ext cx="720108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t">
            <a:noAutofit/>
          </a:bodyPr>
          <a:p>
            <a:pPr algn="ctr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                          </a:t>
            </a:r>
            <a:endParaRPr b="0" lang="en-US" sz="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571320" y="2428560"/>
            <a:ext cx="8172360" cy="28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16349"/>
                </a:solidFill>
                <a:latin typeface="Georgia"/>
              </a:rPr>
              <a:t>   </a:t>
            </a:r>
            <a:r>
              <a:rPr b="0" lang="ru-RU" sz="4300" spc="-1" strike="noStrike">
                <a:solidFill>
                  <a:srgbClr val="c00000"/>
                </a:solidFill>
                <a:latin typeface="Arial Black"/>
              </a:rPr>
              <a:t>Как научить ребёнка работать над проектом?</a:t>
            </a: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14280" y="285840"/>
            <a:ext cx="7182000" cy="69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собенности организац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23640" y="1196640"/>
            <a:ext cx="8569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Тема проект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1150920" y="1773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ыбирается из содержания учебных предмет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близка и понятна детя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находится в зоне их ближайшего развит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250920" y="3068640"/>
            <a:ext cx="83534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Длительность выполнения проек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-2 уро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-2 недели в режиме урочно-внеурочных занятий при участии родител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Оценка выполнения проек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ой оценки достоин любой  уровень                      достигнутых результа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ru-RU" sz="3300" spc="-1" strike="noStrike">
                <a:solidFill>
                  <a:srgbClr val="ff0000"/>
                </a:solidFill>
                <a:latin typeface="Arial Black"/>
              </a:rPr>
              <a:t>Проект</a:t>
            </a:r>
            <a:r>
              <a:rPr b="1" lang="ru-RU" sz="33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300" spc="-1" strike="noStrike">
                <a:solidFill>
                  <a:srgbClr val="7b9899"/>
                </a:solidFill>
                <a:latin typeface="Arial Black"/>
              </a:rPr>
              <a:t>– это пять </a:t>
            </a:r>
            <a:r>
              <a:rPr b="1" lang="ru-RU" sz="3300" spc="-1" strike="noStrike">
                <a:solidFill>
                  <a:srgbClr val="7b9899"/>
                </a:solidFill>
                <a:latin typeface="Arial Black"/>
              </a:rPr>
              <a:t>«П»</a:t>
            </a:r>
            <a:r>
              <a:rPr b="0" lang="ru-RU" sz="3300" spc="-1" strike="noStrike">
                <a:solidFill>
                  <a:srgbClr val="7b9899"/>
                </a:solidFill>
                <a:latin typeface="Arial Black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826920" y="213372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995640" y="1844640"/>
            <a:ext cx="44928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 Black"/>
              </a:rPr>
              <a:t>-роблема,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 Black"/>
              </a:rPr>
              <a:t>-роектирование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 Black"/>
              </a:rPr>
              <a:t>-оиск информации,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 Black"/>
              </a:rPr>
              <a:t>-родукт,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 Black"/>
              </a:rPr>
              <a:t>-резентация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WordArt 5"/>
          <p:cNvSpPr txBox="1"/>
          <p:nvPr/>
        </p:nvSpPr>
        <p:spPr>
          <a:xfrm>
            <a:off x="1403280" y="1989000"/>
            <a:ext cx="2232000" cy="381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46b86"/>
                </a:solidFill>
                <a:latin typeface="Monotype Corsiva"/>
              </a:rPr>
              <a:t>П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646b86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57160" y="-214200"/>
            <a:ext cx="7793280" cy="134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ребования к проектам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23640" y="1916280"/>
            <a:ext cx="83516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проекте обязательно должна быть решена какая-либо</a:t>
            </a:r>
            <a:r>
              <a:rPr b="0" lang="ru-RU" sz="27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2700" spc="-1" strike="noStrike">
                <a:solidFill>
                  <a:srgbClr val="ff0000"/>
                </a:solidFill>
                <a:latin typeface="Georgia"/>
              </a:rPr>
              <a:t>проблема.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сследование, как и сам проект, учащийся должен выполнять</a:t>
            </a:r>
            <a:r>
              <a:rPr b="0" lang="ru-RU" sz="27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2700" spc="-1" strike="noStrike">
                <a:solidFill>
                  <a:srgbClr val="ff0000"/>
                </a:solidFill>
                <a:latin typeface="Georgia"/>
              </a:rPr>
              <a:t>самостоятельно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зультаты выполненного проекта должны быть материальны (оформлены) и</a:t>
            </a:r>
            <a:r>
              <a:rPr b="0" lang="ru-RU" sz="27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2700" spc="-1" strike="noStrike">
                <a:solidFill>
                  <a:srgbClr val="ff0000"/>
                </a:solidFill>
                <a:latin typeface="Georgia"/>
              </a:rPr>
              <a:t>иметь практическую значимость.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85840" y="9288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 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бно- исследовательской работы:</a:t>
            </a:r>
            <a:br>
              <a:rPr sz="32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5" name="Rectangle 1"/>
          <p:cNvSpPr/>
          <p:nvPr/>
        </p:nvSpPr>
        <p:spPr>
          <a:xfrm>
            <a:off x="500040" y="1518480"/>
            <a:ext cx="7929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и задачи исслед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значение рабо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асть (теоретическа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-ориентированная часть (проведение эксперимента, диагностик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7792920" cy="88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b9899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Как сформулировать цель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23640" y="234900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вучит ёмко и отражает тему проекта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1763640" y="3068640"/>
            <a:ext cx="439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исать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·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ить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·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делать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·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снить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·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азать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·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ть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·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бедить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9" name="Picture 4" descr="ы"/>
          <p:cNvPicPr/>
          <p:nvPr/>
        </p:nvPicPr>
        <p:blipFill>
          <a:blip r:embed="rId1"/>
          <a:stretch/>
        </p:blipFill>
        <p:spPr>
          <a:xfrm>
            <a:off x="5580000" y="3141720"/>
            <a:ext cx="2016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779292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Как сформулировать задачи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250920" y="1988640"/>
            <a:ext cx="81309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шаги, которые необходимо сделать,    чтобы достичь поставленной цел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ить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сать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анови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улировать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лечь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ть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2" name="Picture 3" descr="11796"/>
          <p:cNvPicPr/>
          <p:nvPr/>
        </p:nvPicPr>
        <p:blipFill>
          <a:blip r:embed="rId1"/>
          <a:stretch/>
        </p:blipFill>
        <p:spPr>
          <a:xfrm>
            <a:off x="5580000" y="4076640"/>
            <a:ext cx="31752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85520" y="-360"/>
            <a:ext cx="779292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Как сформулировать гипотезу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68000" y="1988640"/>
            <a:ext cx="8351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ипотеза – это предвидение событ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611280" y="2708280"/>
            <a:ext cx="79214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Гипотез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ычно начинаются словам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положим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допустим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возможно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 что, если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Методы исследования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7" name="Picture 3" descr="j0283635"/>
          <p:cNvPicPr/>
          <p:nvPr/>
        </p:nvPicPr>
        <p:blipFill>
          <a:blip r:embed="rId1"/>
          <a:stretch/>
        </p:blipFill>
        <p:spPr>
          <a:xfrm>
            <a:off x="324000" y="2133720"/>
            <a:ext cx="1726920" cy="136836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4"/>
          <p:cNvSpPr/>
          <p:nvPr/>
        </p:nvSpPr>
        <p:spPr>
          <a:xfrm>
            <a:off x="0" y="3573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Понаблюда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Picture 5" descr="j0237831"/>
          <p:cNvPicPr/>
          <p:nvPr/>
        </p:nvPicPr>
        <p:blipFill>
          <a:blip r:embed="rId2"/>
          <a:stretch/>
        </p:blipFill>
        <p:spPr>
          <a:xfrm>
            <a:off x="3132000" y="1989000"/>
            <a:ext cx="1395720" cy="144144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6"/>
          <p:cNvSpPr/>
          <p:nvPr/>
        </p:nvSpPr>
        <p:spPr>
          <a:xfrm>
            <a:off x="2843280" y="3573360"/>
            <a:ext cx="19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Прочита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1" name="Picture 7" descr="j0254490"/>
          <p:cNvPicPr/>
          <p:nvPr/>
        </p:nvPicPr>
        <p:blipFill>
          <a:blip r:embed="rId3"/>
          <a:stretch/>
        </p:blipFill>
        <p:spPr>
          <a:xfrm>
            <a:off x="6732720" y="1628640"/>
            <a:ext cx="1873080" cy="187344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8"/>
          <p:cNvSpPr/>
          <p:nvPr/>
        </p:nvSpPr>
        <p:spPr>
          <a:xfrm>
            <a:off x="5688000" y="3500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Найти в Интернет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3" name="Picture 9" descr="j0183110"/>
          <p:cNvPicPr/>
          <p:nvPr/>
        </p:nvPicPr>
        <p:blipFill>
          <a:blip r:embed="rId4"/>
          <a:stretch/>
        </p:blipFill>
        <p:spPr>
          <a:xfrm>
            <a:off x="2268360" y="4076640"/>
            <a:ext cx="1586160" cy="213192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10"/>
          <p:cNvSpPr/>
          <p:nvPr/>
        </p:nvSpPr>
        <p:spPr>
          <a:xfrm>
            <a:off x="1262520" y="609300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Спросить у взрослы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5" name="Picture 11" descr="j0223763"/>
          <p:cNvPicPr/>
          <p:nvPr/>
        </p:nvPicPr>
        <p:blipFill>
          <a:blip r:embed="rId5"/>
          <a:stretch/>
        </p:blipFill>
        <p:spPr>
          <a:xfrm>
            <a:off x="6227640" y="4076640"/>
            <a:ext cx="1489320" cy="201636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12"/>
          <p:cNvSpPr/>
          <p:nvPr/>
        </p:nvSpPr>
        <p:spPr>
          <a:xfrm>
            <a:off x="5870880" y="6093000"/>
            <a:ext cx="26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Провести опы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142720" y="213840"/>
            <a:ext cx="392580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Рефлексия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539280" y="1773360"/>
            <a:ext cx="820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 узнала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работы удалось научиться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довалась тому, что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гаешь (улавливаешь) смысл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у свое мнение, свою позицию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9" name="Picture 4" descr="g5_10"/>
          <p:cNvPicPr/>
          <p:nvPr/>
        </p:nvPicPr>
        <p:blipFill>
          <a:blip r:embed="rId1"/>
          <a:stretch/>
        </p:blipFill>
        <p:spPr>
          <a:xfrm>
            <a:off x="5500800" y="4214880"/>
            <a:ext cx="324144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Формы продуктов проектной деятельност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1835280" y="1828800"/>
            <a:ext cx="691344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правочник; газета; журнал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альбом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гербарий; карт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экскурси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игра; сценарий праздник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стюм; макет; модель;  сувенир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мультимедийный продукт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учебное пособие и др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2" name="Picture 5" descr="42"/>
          <p:cNvPicPr/>
          <p:nvPr/>
        </p:nvPicPr>
        <p:blipFill>
          <a:blip r:embed="rId1"/>
          <a:stretch/>
        </p:blipFill>
        <p:spPr>
          <a:xfrm>
            <a:off x="7215120" y="5429160"/>
            <a:ext cx="140976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Прямоугольник 1"/>
          <p:cNvSpPr/>
          <p:nvPr/>
        </p:nvSpPr>
        <p:spPr>
          <a:xfrm>
            <a:off x="714240" y="11430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61898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898a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– одна из форм исследовательской работ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– совокупность приёмов, операций, которые помогают овладеть определённой областью практических или теоретических знаний в той или иной деятельност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357720" y="285840"/>
            <a:ext cx="314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ек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99720" y="571320"/>
            <a:ext cx="71262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Формы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презентации проектов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685440" y="1988640"/>
            <a:ext cx="80629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емонстрация медиа-презентации, коллажа, макета, журнала, игрушек, предметов домашнего обиход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защита реферат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южетно-ролевая игра или экскурси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аздник или инсценировк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емонстрация учебного пособия и т.п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908000" y="764640"/>
            <a:ext cx="687096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b9899"/>
                </a:solidFill>
                <a:latin typeface="Times New Roman"/>
              </a:rPr>
              <a:t>Литература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85952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ванова Н.В. Возможности и специфика применения проектного метода в начальной школе//Начальная школа. 2004. № 2. С.96-101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ивцова А. Правило трех «С»//Школьный психолог. 2005. №18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знецова Л.М. Параллельный мир//Школьный психолог. 2005. №18.С.19-23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бцов В.В. Организация и развитие совместных действий у детей в процессе обучения. М., 1987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укерман Г.А. Виды общения в обучении. Томск: Пеленг, 1993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укерман Г.Л., Поливанова Н.К. Введение в школьную жизнь. Томск: Пеленг, 1992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умакова Н.Б. Обучение и развитие одаренных детей. М. 2004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И.Савенков. Методика исследовательского обучения младших школьников, Издательство «Учебная литература», 2008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5140440" y="2017440"/>
            <a:ext cx="381456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Oval 2"/>
          <p:cNvSpPr/>
          <p:nvPr/>
        </p:nvSpPr>
        <p:spPr>
          <a:xfrm>
            <a:off x="2987640" y="1700280"/>
            <a:ext cx="3600360" cy="122400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Исследовательск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ум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Oval 3"/>
          <p:cNvSpPr/>
          <p:nvPr/>
        </p:nvSpPr>
        <p:spPr>
          <a:xfrm>
            <a:off x="6012000" y="2492280"/>
            <a:ext cx="3132000" cy="122400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Менеджер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ум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Oval 4"/>
          <p:cNvSpPr/>
          <p:nvPr/>
        </p:nvSpPr>
        <p:spPr>
          <a:xfrm>
            <a:off x="468360" y="2492280"/>
            <a:ext cx="3240000" cy="129708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Оценочные ум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Oval 5"/>
          <p:cNvSpPr/>
          <p:nvPr/>
        </p:nvSpPr>
        <p:spPr>
          <a:xfrm>
            <a:off x="395280" y="3933720"/>
            <a:ext cx="3311640" cy="122400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Рефлексив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ум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Oval 6"/>
          <p:cNvSpPr/>
          <p:nvPr/>
        </p:nvSpPr>
        <p:spPr>
          <a:xfrm>
            <a:off x="1835280" y="5300640"/>
            <a:ext cx="3024000" cy="129708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Презентацион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ум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Oval 7"/>
          <p:cNvSpPr/>
          <p:nvPr/>
        </p:nvSpPr>
        <p:spPr>
          <a:xfrm>
            <a:off x="6012000" y="3789360"/>
            <a:ext cx="3132000" cy="129528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Информацион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ум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Oval 8"/>
          <p:cNvSpPr/>
          <p:nvPr/>
        </p:nvSpPr>
        <p:spPr>
          <a:xfrm>
            <a:off x="5435640" y="5229360"/>
            <a:ext cx="3024000" cy="136656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Коммуникатив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ум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b9899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Развитие школьников в        процессе проектной деятельности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27" name="Picture 10" descr="876е"/>
          <p:cNvPicPr/>
          <p:nvPr/>
        </p:nvPicPr>
        <p:blipFill>
          <a:blip r:embed="rId1"/>
          <a:stretch/>
        </p:blipFill>
        <p:spPr>
          <a:xfrm>
            <a:off x="3206880" y="2995560"/>
            <a:ext cx="23112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" dur="indefinite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" dur="indefinite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9" dur="indefinite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" dur="indefinite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3" dur="indefinite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" dur="indefinite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" dur="indefinite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" dur="indefinite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3" dur="indefinite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3" dur="indefinite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4" dur="indefinite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85520" y="213840"/>
            <a:ext cx="83581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Критерии успеха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 работы над проектом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94920" y="206028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ижение конечного результа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ладение учащимися учебными умениями, связанными с приемами самостоятельного приобретения знан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лоченность участников команд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ение удовлетворения от сделанног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еренность детей в том, что они могут создавать       продукт, востребованный для них и других люд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Прямоугольник 1"/>
          <p:cNvSpPr/>
          <p:nvPr/>
        </p:nvSpPr>
        <p:spPr>
          <a:xfrm>
            <a:off x="714240" y="2214720"/>
            <a:ext cx="82155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ие творческого потенциал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 работать в группе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, направленная на решение  интересной проблемы, сформулированной самими учащимис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езентовать свою работ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Box 2"/>
          <p:cNvSpPr/>
          <p:nvPr/>
        </p:nvSpPr>
        <p:spPr>
          <a:xfrm>
            <a:off x="1357200" y="357120"/>
            <a:ext cx="585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такое проект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ученик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рямоугольник 1"/>
          <p:cNvSpPr/>
          <p:nvPr/>
        </p:nvSpPr>
        <p:spPr>
          <a:xfrm>
            <a:off x="928800" y="1928880"/>
            <a:ext cx="750096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– это интегративное дидактическое средство развития, обучения и воспитания, которое позволяет вырабатывать и развивать специфические умения и навыки проектирования: проблематизация, целеполагание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деятельности, рефлексия и самоанализ, презентация и самопрезентац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Box 2"/>
          <p:cNvSpPr/>
          <p:nvPr/>
        </p:nvSpPr>
        <p:spPr>
          <a:xfrm>
            <a:off x="1857240" y="357120"/>
            <a:ext cx="59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такое проект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учителя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357200" y="213840"/>
            <a:ext cx="68709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Чему учит проектирование: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755280" y="1916280"/>
            <a:ext cx="78469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трогости и четкости в работе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умению планировать свои изыскани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формирует важное для жизни стремление – двигаться к намеченной цел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ccb400"/>
                </a:solidFill>
                <a:latin typeface="Times New Roman"/>
              </a:rPr>
              <a:t>        </a:t>
            </a:r>
            <a:r>
              <a:rPr b="1" lang="ru-RU" sz="2700" spc="-1" strike="noStrike">
                <a:solidFill>
                  <a:srgbClr val="c00000"/>
                </a:solidFill>
                <a:latin typeface="Times New Roman"/>
              </a:rPr>
              <a:t>Проектирование –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это творчество по плану, в определённых контролируемых   рамках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Rectangle 1"/>
          <p:cNvSpPr/>
          <p:nvPr/>
        </p:nvSpPr>
        <p:spPr>
          <a:xfrm>
            <a:off x="285840" y="1873800"/>
            <a:ext cx="82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предметный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предметный - прослеживает связи двух, реже трех учебных предметов, например, литературы и истории, географии и биологи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предметный - не выделяет для реализации отдельные предметные области, а способствует формированию метапредметных знаний и ключевых компетен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Заголовок 1"/>
          <p:cNvSpPr/>
          <p:nvPr/>
        </p:nvSpPr>
        <p:spPr>
          <a:xfrm>
            <a:off x="214200" y="50004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я по предмету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13840" y="6429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я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о количеству участников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Rectangle 1"/>
          <p:cNvSpPr/>
          <p:nvPr/>
        </p:nvSpPr>
        <p:spPr>
          <a:xfrm>
            <a:off x="428760" y="1584000"/>
            <a:ext cx="8072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й (работа в небольшой группе — обычно от 2—3 до 7 человек)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й (работа с целым классом или несколькими группами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"/>
          <p:cNvSpPr/>
          <p:nvPr/>
        </p:nvSpPr>
        <p:spPr>
          <a:xfrm>
            <a:off x="785880" y="738720"/>
            <a:ext cx="75009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 ведущей компетенц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й (ведущая компетенция - учебно-познавательная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 (ведущая компетенция - информационная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й (ведущая компетенция - коммуникационная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(ведущая компетенция - социально-трудовая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й (ведущая компетенция - саморазвити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Прямоугольник 1"/>
          <p:cNvSpPr/>
          <p:nvPr/>
        </p:nvSpPr>
        <p:spPr>
          <a:xfrm>
            <a:off x="1962720" y="428760"/>
            <a:ext cx="68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 создания проекта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3" name="Схема 3" descr=""/>
          <p:cNvPicPr/>
          <p:nvPr/>
        </p:nvPicPr>
        <p:blipFill>
          <a:blip r:embed="rId1"/>
          <a:stretch/>
        </p:blipFill>
        <p:spPr>
          <a:xfrm>
            <a:off x="933480" y="1352520"/>
            <a:ext cx="805176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0:49:59Z</dcterms:created>
  <dc:creator>ODIN</dc:creator>
  <dc:description/>
  <dc:language>en-US</dc:language>
  <cp:lastModifiedBy>1</cp:lastModifiedBy>
  <dcterms:modified xsi:type="dcterms:W3CDTF">2011-01-14T09:39:03Z</dcterms:modified>
  <cp:revision>25</cp:revision>
  <dc:subject/>
  <dc:title>Как научить ребёнка работать над проектом?</dc:title>
</cp:coreProperties>
</file>