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8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34.gif" ContentType="image/gif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28.gif" ContentType="image/gif"/>
  <Override PartName="/ppt/media/image19.gif" ContentType="image/gif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7689D-855C-4F35-8F40-F797FDC78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6DC59-6C08-4BB6-8883-300FD8B9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46F8D-E589-4743-B17B-B6C766A87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D1E3B-C8F0-481C-9F7D-46B0872FD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EF8B-926A-43D3-AF3B-CE6AB0981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76164-AF65-4561-AB8A-A0B15EC6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5210-2BB1-4591-8EC1-D447A0A2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439B-CF7A-42EF-A154-D83FDE52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47AE-8104-479A-9406-037C1FB3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7860-4290-4936-A246-E6A52E61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447C-499D-4FE9-B549-EBDB27A3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623A6-DD3E-4EFF-940E-74C6B22E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A2F1-608A-4F68-B930-0E26FF4A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D654-79B0-4A23-AA4A-D448B549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E9C9-ABC1-4651-B409-ECE3E339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E3DB-3A75-432A-A848-79A8DD378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06CE-817E-43F5-8900-1D6AF5955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C8082-83AA-4E1E-A26D-0DF47E78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C6797-47DB-4666-80FF-DA14863A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150B4-0868-4AEA-8271-8F481EEC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B9442-CF03-473A-8512-A57BAF55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58C10-B4FB-4B2F-A37E-AA080D04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C88D8-8B3E-4203-B830-3D028C8B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435FD-2C8A-4C29-8C03-A5A457D5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AC23-51D0-45A0-8F0E-D27C1F549C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d7900"/>
                  </a:gs>
                  <a:gs pos="100000">
                    <a:srgbClr val="4a9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18200"/>
                  </a:gs>
                  <a:gs pos="100000">
                    <a:srgbClr val="4a94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3f7d00"/>
                </a:gs>
                <a:gs pos="100000">
                  <a:srgbClr val="4a9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ae8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d7900"/>
                  </a:gs>
                  <a:gs pos="100000">
                    <a:srgbClr val="4a9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18200"/>
                  </a:gs>
                  <a:gs pos="100000">
                    <a:srgbClr val="4a94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3f7d00"/>
                </a:gs>
                <a:gs pos="100000">
                  <a:srgbClr val="4a9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ae8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9F09-FD68-44AA-9760-F3716554F2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image" Target="../media/image24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28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3.jpeg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274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ru-RU" sz="6600" spc="-1" strike="noStrike">
                <a:solidFill>
                  <a:srgbClr val="993300"/>
                </a:solidFill>
                <a:latin typeface="Garamond"/>
              </a:rPr>
              <a:t>Урок </a:t>
            </a:r>
            <a:br>
              <a:rPr sz="6600"/>
            </a:br>
            <a:r>
              <a:rPr b="1" lang="ru-RU" sz="6600" spc="-1" strike="noStrike">
                <a:solidFill>
                  <a:srgbClr val="993300"/>
                </a:solidFill>
                <a:latin typeface="Garamond"/>
              </a:rPr>
              <a:t>швейного дела </a:t>
            </a:r>
            <a:br>
              <a:rPr sz="6600"/>
            </a:br>
            <a:r>
              <a:rPr b="1" lang="ru-RU" sz="6600" spc="-1" strike="noStrike">
                <a:solidFill>
                  <a:srgbClr val="993300"/>
                </a:solidFill>
                <a:latin typeface="Garamond"/>
              </a:rPr>
              <a:t>7 класс</a:t>
            </a:r>
            <a:endParaRPr b="1" lang="en-US" sz="66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292720" y="3885840"/>
            <a:ext cx="3240000" cy="20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Garamond"/>
              </a:rPr>
              <a:t>Выполнила: Маркова Валер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2771640" y="1628640"/>
            <a:ext cx="3240360" cy="107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Юб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611280" y="3429000"/>
            <a:ext cx="2520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о назначению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3492360" y="3789360"/>
            <a:ext cx="2521080" cy="720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о покрою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6372360" y="3429000"/>
            <a:ext cx="2520720" cy="72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о количеству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шв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4572000" y="2708280"/>
            <a:ext cx="0" cy="10810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Line 12"/>
          <p:cNvSpPr/>
          <p:nvPr/>
        </p:nvSpPr>
        <p:spPr>
          <a:xfrm flipH="1">
            <a:off x="2050920" y="2708280"/>
            <a:ext cx="2160720" cy="7207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Line 13"/>
          <p:cNvSpPr/>
          <p:nvPr/>
        </p:nvSpPr>
        <p:spPr>
          <a:xfrm>
            <a:off x="5292720" y="2708280"/>
            <a:ext cx="2519280" cy="7207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Garamond"/>
              </a:rPr>
              <a:t>Вопросы 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Garamond"/>
              </a:rPr>
              <a:t>1.Какие бывают юбки по назначению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Garamond"/>
              </a:rPr>
              <a:t>2.Какие бывают юбки по покрою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Garamond"/>
              </a:rPr>
              <a:t>3.По количеству швов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6" descr="447442-02afc361011dbcc3"/>
          <p:cNvPicPr/>
          <p:nvPr/>
        </p:nvPicPr>
        <p:blipFill>
          <a:blip r:embed="rId1"/>
          <a:stretch/>
        </p:blipFill>
        <p:spPr>
          <a:xfrm>
            <a:off x="7451640" y="549360"/>
            <a:ext cx="105264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2771640" y="907920"/>
            <a:ext cx="3600720" cy="1081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По назначению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692360" y="3068640"/>
            <a:ext cx="216036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домашни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3492360" y="3789360"/>
            <a:ext cx="2160720" cy="720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спортивны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6732720" y="2349360"/>
            <a:ext cx="2160360" cy="72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для</a:t>
            </a: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отдых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0" y="2349360"/>
            <a:ext cx="2160720" cy="720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повседневны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5292720" y="3068640"/>
            <a:ext cx="2160720" cy="720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форменны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Line 13"/>
          <p:cNvSpPr/>
          <p:nvPr/>
        </p:nvSpPr>
        <p:spPr>
          <a:xfrm flipH="1">
            <a:off x="971280" y="1989000"/>
            <a:ext cx="2160360" cy="36036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Line 15"/>
          <p:cNvSpPr/>
          <p:nvPr/>
        </p:nvSpPr>
        <p:spPr>
          <a:xfrm flipH="1">
            <a:off x="2411280" y="1989000"/>
            <a:ext cx="1440000" cy="107964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Line 16"/>
          <p:cNvSpPr/>
          <p:nvPr/>
        </p:nvSpPr>
        <p:spPr>
          <a:xfrm>
            <a:off x="6012000" y="1989000"/>
            <a:ext cx="2160360" cy="36036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Line 17"/>
          <p:cNvSpPr/>
          <p:nvPr/>
        </p:nvSpPr>
        <p:spPr>
          <a:xfrm>
            <a:off x="5292720" y="1989000"/>
            <a:ext cx="1079640" cy="107964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Line 18"/>
          <p:cNvSpPr/>
          <p:nvPr/>
        </p:nvSpPr>
        <p:spPr>
          <a:xfrm>
            <a:off x="4572000" y="1989000"/>
            <a:ext cx="0" cy="180036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19" descr="1032580"/>
          <p:cNvPicPr/>
          <p:nvPr/>
        </p:nvPicPr>
        <p:blipFill>
          <a:blip r:embed="rId7"/>
          <a:stretch/>
        </p:blipFill>
        <p:spPr>
          <a:xfrm>
            <a:off x="6012000" y="4149720"/>
            <a:ext cx="1368360" cy="198432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147" name="Picture 20" descr="gallery_2960057962e22552979883cf4dcca0ca"/>
          <p:cNvPicPr/>
          <p:nvPr/>
        </p:nvPicPr>
        <p:blipFill>
          <a:blip r:embed="rId8"/>
          <a:stretch/>
        </p:blipFill>
        <p:spPr>
          <a:xfrm>
            <a:off x="3851280" y="4869000"/>
            <a:ext cx="1185840" cy="190656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148" name="Picture 21" descr="ubki5"/>
          <p:cNvPicPr/>
          <p:nvPr/>
        </p:nvPicPr>
        <p:blipFill>
          <a:blip r:embed="rId9"/>
          <a:stretch/>
        </p:blipFill>
        <p:spPr>
          <a:xfrm>
            <a:off x="7656480" y="3429000"/>
            <a:ext cx="1236600" cy="200016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149" name="Picture 23" descr="maxi-2"/>
          <p:cNvPicPr/>
          <p:nvPr/>
        </p:nvPicPr>
        <p:blipFill>
          <a:blip r:embed="rId10"/>
          <a:stretch/>
        </p:blipFill>
        <p:spPr>
          <a:xfrm>
            <a:off x="2050920" y="4508640"/>
            <a:ext cx="1176480" cy="180000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150" name="Picture 24" descr="x_cfc1bc54"/>
          <p:cNvPicPr/>
          <p:nvPr/>
        </p:nvPicPr>
        <p:blipFill>
          <a:blip r:embed="rId11"/>
          <a:stretch/>
        </p:blipFill>
        <p:spPr>
          <a:xfrm>
            <a:off x="250920" y="3789360"/>
            <a:ext cx="1347840" cy="192096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09080" rIns="109080" tIns="65880" bIns="65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2771640" y="907920"/>
            <a:ext cx="3600720" cy="1081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По покрою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611280" y="3068640"/>
            <a:ext cx="216036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ямы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492360" y="2349360"/>
            <a:ext cx="2519640" cy="1079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Клёшевы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или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конически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6372360" y="3068640"/>
            <a:ext cx="2160360" cy="72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Клиньевы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Line 11"/>
          <p:cNvSpPr/>
          <p:nvPr/>
        </p:nvSpPr>
        <p:spPr>
          <a:xfrm flipH="1">
            <a:off x="2411280" y="1989000"/>
            <a:ext cx="1440000" cy="107964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4572000" y="1989000"/>
            <a:ext cx="0" cy="36036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Line 15"/>
          <p:cNvSpPr/>
          <p:nvPr/>
        </p:nvSpPr>
        <p:spPr>
          <a:xfrm>
            <a:off x="5292720" y="1989000"/>
            <a:ext cx="2158920" cy="107964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16" descr="ybka(53)"/>
          <p:cNvPicPr/>
          <p:nvPr/>
        </p:nvPicPr>
        <p:blipFill>
          <a:blip r:embed="rId5"/>
          <a:stretch/>
        </p:blipFill>
        <p:spPr>
          <a:xfrm>
            <a:off x="611280" y="4149720"/>
            <a:ext cx="1747800" cy="198900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160" name="Picture 17" descr="1298902140_1254995970497"/>
          <p:cNvPicPr/>
          <p:nvPr/>
        </p:nvPicPr>
        <p:blipFill>
          <a:blip r:embed="rId6"/>
          <a:stretch/>
        </p:blipFill>
        <p:spPr>
          <a:xfrm>
            <a:off x="3492360" y="4149720"/>
            <a:ext cx="2259000" cy="150336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161" name="Picture 18" descr="6a00d834515e6669e200e553e5dbde8833-800wi"/>
          <p:cNvPicPr/>
          <p:nvPr/>
        </p:nvPicPr>
        <p:blipFill>
          <a:blip r:embed="rId7"/>
          <a:stretch/>
        </p:blipFill>
        <p:spPr>
          <a:xfrm>
            <a:off x="6732720" y="4149720"/>
            <a:ext cx="2016000" cy="187632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2771640" y="907920"/>
            <a:ext cx="3600720" cy="1081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о количеству шв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611280" y="3068640"/>
            <a:ext cx="216036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Одношовны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3492360" y="2349360"/>
            <a:ext cx="2160720" cy="720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Двухшовны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6732720" y="3068640"/>
            <a:ext cx="2160360" cy="72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Многошовные</a:t>
            </a: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Line 11"/>
          <p:cNvSpPr/>
          <p:nvPr/>
        </p:nvSpPr>
        <p:spPr>
          <a:xfrm flipH="1">
            <a:off x="2411280" y="1989000"/>
            <a:ext cx="1440000" cy="107964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Line 13"/>
          <p:cNvSpPr/>
          <p:nvPr/>
        </p:nvSpPr>
        <p:spPr>
          <a:xfrm>
            <a:off x="6012000" y="1989000"/>
            <a:ext cx="1079280" cy="107964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Line 14"/>
          <p:cNvSpPr/>
          <p:nvPr/>
        </p:nvSpPr>
        <p:spPr>
          <a:xfrm>
            <a:off x="4572000" y="1989000"/>
            <a:ext cx="0" cy="36036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Picture 15" descr="fc51602c4f3e00da2a8d20c57479db8d"/>
          <p:cNvPicPr/>
          <p:nvPr/>
        </p:nvPicPr>
        <p:blipFill>
          <a:blip r:embed="rId5"/>
          <a:stretch/>
        </p:blipFill>
        <p:spPr>
          <a:xfrm>
            <a:off x="3132000" y="3789360"/>
            <a:ext cx="259236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getImage7"/>
          <p:cNvPicPr/>
          <p:nvPr/>
        </p:nvPicPr>
        <p:blipFill>
          <a:blip r:embed="rId1"/>
          <a:stretch/>
        </p:blipFill>
        <p:spPr>
          <a:xfrm>
            <a:off x="4572000" y="549360"/>
            <a:ext cx="3733920" cy="609588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171" name="Picture 5" descr="image076"/>
          <p:cNvPicPr/>
          <p:nvPr/>
        </p:nvPicPr>
        <p:blipFill>
          <a:blip r:embed="rId2"/>
          <a:stretch/>
        </p:blipFill>
        <p:spPr>
          <a:xfrm>
            <a:off x="392040" y="549360"/>
            <a:ext cx="3735360" cy="611964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Garamond"/>
              </a:rPr>
              <a:t>Юбка относится к поясному виду одежды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3" name="Picture 4" descr="mini1"/>
          <p:cNvPicPr/>
          <p:nvPr/>
        </p:nvPicPr>
        <p:blipFill>
          <a:blip r:embed="rId1"/>
          <a:stretch/>
        </p:blipFill>
        <p:spPr>
          <a:xfrm>
            <a:off x="2771640" y="1628640"/>
            <a:ext cx="2979720" cy="468000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Garamond"/>
              </a:rPr>
              <a:t>План изготовления юбки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Garamond"/>
              </a:rPr>
              <a:t>1 Снять мер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Garamond"/>
              </a:rPr>
              <a:t>2 Построить чертёж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Garamond"/>
              </a:rPr>
              <a:t>3 Подготовить выкройку к раскрою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Garamond"/>
              </a:rPr>
              <a:t>4 Подготовить ткань к раскрою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Garamond"/>
              </a:rPr>
              <a:t>5 Раскрои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Garamond"/>
              </a:rPr>
              <a:t>6 Подготовить детали кроя к обработк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Garamond"/>
              </a:rPr>
              <a:t>7 Выполнить поши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4"/>
          <p:cNvGrpSpPr/>
          <p:nvPr/>
        </p:nvGrpSpPr>
        <p:grpSpPr>
          <a:xfrm>
            <a:off x="4932360" y="0"/>
            <a:ext cx="4210920" cy="6857640"/>
            <a:chOff x="4932360" y="0"/>
            <a:chExt cx="4210920" cy="6857640"/>
          </a:xfrm>
        </p:grpSpPr>
        <p:pic>
          <p:nvPicPr>
            <p:cNvPr id="177" name="Picture 5" descr=""/>
            <p:cNvPicPr/>
            <p:nvPr/>
          </p:nvPicPr>
          <p:blipFill>
            <a:blip r:embed="rId1"/>
            <a:stretch/>
          </p:blipFill>
          <p:spPr>
            <a:xfrm>
              <a:off x="4932360" y="0"/>
              <a:ext cx="4125960" cy="6857640"/>
            </a:xfrm>
            <a:prstGeom prst="rect">
              <a:avLst/>
            </a:prstGeom>
            <a:ln w="57240">
              <a:solidFill>
                <a:srgbClr val="993300"/>
              </a:solidFill>
              <a:miter/>
            </a:ln>
          </p:spPr>
        </p:pic>
        <p:sp>
          <p:nvSpPr>
            <p:cNvPr id="178" name="Rectangle 6"/>
            <p:cNvSpPr/>
            <p:nvPr/>
          </p:nvSpPr>
          <p:spPr>
            <a:xfrm>
              <a:off x="8815680" y="1404360"/>
              <a:ext cx="32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>
              <a:off x="7118640" y="4626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1480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Garamond"/>
              </a:rPr>
              <a:t>Для построения чертежа</a:t>
            </a:r>
            <a:br>
              <a:rPr sz="3200"/>
            </a:br>
            <a:r>
              <a:rPr b="1" lang="ru-RU" sz="3200" spc="-1" strike="noStrike">
                <a:solidFill>
                  <a:srgbClr val="993300"/>
                </a:solidFill>
                <a:latin typeface="Garamond"/>
              </a:rPr>
              <a:t>основы прямой юбки</a:t>
            </a:r>
            <a:br>
              <a:rPr sz="3200"/>
            </a:br>
            <a:r>
              <a:rPr b="1" lang="ru-RU" sz="3200" spc="-1" strike="noStrike">
                <a:solidFill>
                  <a:srgbClr val="993300"/>
                </a:solidFill>
                <a:latin typeface="Garamond"/>
              </a:rPr>
              <a:t>снимают мерки:</a:t>
            </a:r>
            <a:br>
              <a:rPr sz="3200"/>
            </a:br>
            <a:endParaRPr b="1" lang="en-US" sz="32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411624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Garamond"/>
              </a:rPr>
              <a:t>1-обхват тали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Garamond"/>
              </a:rPr>
              <a:t>2-обхват бедер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Garamond"/>
              </a:rPr>
              <a:t>3-длина спины до тали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Garamond"/>
              </a:rPr>
              <a:t>4-длина издел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6732720" y="1268280"/>
            <a:ext cx="71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6732720" y="3068640"/>
            <a:ext cx="71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Rectangle 12"/>
          <p:cNvSpPr/>
          <p:nvPr/>
        </p:nvSpPr>
        <p:spPr>
          <a:xfrm>
            <a:off x="7093080" y="3068640"/>
            <a:ext cx="358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Garamond"/>
              </a:rPr>
              <a:t>Сб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Rectangle 14"/>
          <p:cNvSpPr/>
          <p:nvPr/>
        </p:nvSpPr>
        <p:spPr>
          <a:xfrm>
            <a:off x="6732720" y="1268280"/>
            <a:ext cx="7189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Garamond"/>
              </a:rPr>
              <a:t>Ст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16"/>
          <p:cNvSpPr/>
          <p:nvPr/>
        </p:nvSpPr>
        <p:spPr>
          <a:xfrm>
            <a:off x="8532720" y="1268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Garamond"/>
              </a:rPr>
              <a:t>Дтс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Rectangle 17"/>
          <p:cNvSpPr/>
          <p:nvPr/>
        </p:nvSpPr>
        <p:spPr>
          <a:xfrm>
            <a:off x="8172360" y="3789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Garamond"/>
              </a:rPr>
              <a:t>Ди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701360" y="1600200"/>
            <a:ext cx="698508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Garamond"/>
              </a:rPr>
              <a:t>было интересно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Garamond"/>
              </a:rPr>
              <a:t>было трудно…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Garamond"/>
              </a:rPr>
              <a:t>теперь я могу…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Garamond"/>
              </a:rPr>
              <a:t>я научилась…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Garamond"/>
              </a:rPr>
              <a:t>меня удивило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Garamond"/>
              </a:rPr>
              <a:t>мне захотелось…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WordArt 4"/>
          <p:cNvSpPr txBox="1"/>
          <p:nvPr/>
        </p:nvSpPr>
        <p:spPr>
          <a:xfrm>
            <a:off x="1547640" y="549360"/>
            <a:ext cx="5185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07932" dir="13500000" blurRad="0" rotWithShape="0">
                    <a:srgbClr val="c7dfd3">
                      <a:alpha val="50000"/>
                    </a:srgbClr>
                  </a:outerShdw>
                </a:effectLst>
                <a:latin typeface="Times New Roman"/>
              </a:rPr>
              <a:t>Рефлексия</a:t>
            </a:r>
            <a:endParaRPr b="0" i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07932" dir="13500000" blurRad="0" rotWithShape="0">
                  <a:srgbClr val="c7dfd3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0" name="Picture 5" descr="2783"/>
          <p:cNvPicPr/>
          <p:nvPr/>
        </p:nvPicPr>
        <p:blipFill>
          <a:blip r:embed="rId3"/>
          <a:stretch/>
        </p:blipFill>
        <p:spPr>
          <a:xfrm>
            <a:off x="6372360" y="2349360"/>
            <a:ext cx="1933560" cy="20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3,-85,-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3,-85,-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3,-85,-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3,-85,-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3,-85,-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3,-85,-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3,-85,-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3,-85,-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getImageCAY0W6N4"/>
          <p:cNvPicPr/>
          <p:nvPr/>
        </p:nvPicPr>
        <p:blipFill>
          <a:blip r:embed="rId1"/>
          <a:stretch/>
        </p:blipFill>
        <p:spPr>
          <a:xfrm>
            <a:off x="3132000" y="1628640"/>
            <a:ext cx="2889360" cy="385128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993300"/>
                </a:solidFill>
                <a:latin typeface="Garamond"/>
              </a:rPr>
              <a:t>Тема урока: </a:t>
            </a:r>
            <a:br>
              <a:rPr sz="4000"/>
            </a:br>
            <a:r>
              <a:rPr b="1" lang="ru-RU" sz="4000" spc="-1" strike="noStrike">
                <a:solidFill>
                  <a:srgbClr val="993300"/>
                </a:solidFill>
                <a:latin typeface="Garamond"/>
              </a:rPr>
              <a:t>Юбка. Снятие мерок для построения чертежа прямой юбки.</a:t>
            </a:r>
            <a:br>
              <a:rPr sz="4000"/>
            </a:br>
            <a:endParaRPr b="1" lang="en-US" sz="4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450828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253720" cy="184644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3"/>
          <p:cNvSpPr/>
          <p:nvPr/>
        </p:nvSpPr>
        <p:spPr>
          <a:xfrm>
            <a:off x="214200" y="30002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3300"/>
                </a:solidFill>
                <a:latin typeface="Times New Roman"/>
              </a:rPr>
              <a:t>Научиться снимать мерки для построения чертежа прямой юбки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Picture 2" descr="MCj03967440000[1]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5000760" y="214200"/>
            <a:ext cx="227160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Garamond"/>
              </a:rPr>
              <a:t>История возникновения юбки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4" descr="трр"/>
          <p:cNvPicPr/>
          <p:nvPr/>
        </p:nvPicPr>
        <p:blipFill>
          <a:blip r:embed="rId1"/>
          <a:stretch/>
        </p:blipFill>
        <p:spPr>
          <a:xfrm>
            <a:off x="250920" y="1628640"/>
            <a:ext cx="2871720" cy="394992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111" name="Picture 5" descr="ц"/>
          <p:cNvPicPr/>
          <p:nvPr/>
        </p:nvPicPr>
        <p:blipFill>
          <a:blip r:embed="rId2"/>
          <a:stretch/>
        </p:blipFill>
        <p:spPr>
          <a:xfrm>
            <a:off x="3492360" y="1628640"/>
            <a:ext cx="2319480" cy="395604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112" name="Picture 6" descr="уа"/>
          <p:cNvPicPr/>
          <p:nvPr/>
        </p:nvPicPr>
        <p:blipFill>
          <a:blip r:embed="rId3"/>
          <a:stretch/>
        </p:blipFill>
        <p:spPr>
          <a:xfrm>
            <a:off x="6372360" y="1628640"/>
            <a:ext cx="2543040" cy="396108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7" descr="112"/>
          <p:cNvPicPr/>
          <p:nvPr/>
        </p:nvPicPr>
        <p:blipFill>
          <a:blip r:embed="rId1"/>
          <a:stretch/>
        </p:blipFill>
        <p:spPr>
          <a:xfrm>
            <a:off x="250920" y="2349360"/>
            <a:ext cx="2581200" cy="395136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114" name="Picture 8" descr="юбка древности"/>
          <p:cNvPicPr/>
          <p:nvPr/>
        </p:nvPicPr>
        <p:blipFill>
          <a:blip r:embed="rId2"/>
          <a:stretch/>
        </p:blipFill>
        <p:spPr>
          <a:xfrm>
            <a:off x="6012000" y="2349360"/>
            <a:ext cx="2703240" cy="360216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115" name="Picture 9" descr="юбка"/>
          <p:cNvPicPr/>
          <p:nvPr/>
        </p:nvPicPr>
        <p:blipFill>
          <a:blip r:embed="rId3"/>
          <a:stretch/>
        </p:blipFill>
        <p:spPr>
          <a:xfrm>
            <a:off x="3132000" y="907920"/>
            <a:ext cx="2298960" cy="406584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0" descr="Elisabeth_Albertine_von_Anhalt-Dessau_2"/>
          <p:cNvPicPr/>
          <p:nvPr/>
        </p:nvPicPr>
        <p:blipFill>
          <a:blip r:embed="rId1"/>
          <a:stretch/>
        </p:blipFill>
        <p:spPr>
          <a:xfrm>
            <a:off x="4932360" y="907920"/>
            <a:ext cx="3554280" cy="468180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117" name="Picture 11" descr="MarieAntoinette_by_VigeeLeBrun"/>
          <p:cNvPicPr/>
          <p:nvPr/>
        </p:nvPicPr>
        <p:blipFill>
          <a:blip r:embed="rId2"/>
          <a:stretch/>
        </p:blipFill>
        <p:spPr>
          <a:xfrm>
            <a:off x="971640" y="907920"/>
            <a:ext cx="3338280" cy="476892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mango-pleated-full-skirt-grey-b"/>
          <p:cNvPicPr/>
          <p:nvPr/>
        </p:nvPicPr>
        <p:blipFill>
          <a:blip r:embed="rId1"/>
          <a:stretch/>
        </p:blipFill>
        <p:spPr>
          <a:xfrm rot="21267600">
            <a:off x="250920" y="1268280"/>
            <a:ext cx="2449440" cy="312588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Garamond"/>
              </a:rPr>
              <a:t>Современные юбки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pic>
        <p:nvPicPr>
          <p:cNvPr id="120" name="Picture 4" descr="t_ub2_213_118"/>
          <p:cNvPicPr/>
          <p:nvPr/>
        </p:nvPicPr>
        <p:blipFill>
          <a:blip r:embed="rId2"/>
          <a:stretch/>
        </p:blipFill>
        <p:spPr>
          <a:xfrm rot="1065600">
            <a:off x="6012000" y="1628280"/>
            <a:ext cx="2493720" cy="308952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121" name="Picture 6" descr="6a00d834515e6669e200e553e5dbde8833-800wi"/>
          <p:cNvPicPr/>
          <p:nvPr/>
        </p:nvPicPr>
        <p:blipFill>
          <a:blip r:embed="rId3"/>
          <a:stretch/>
        </p:blipFill>
        <p:spPr>
          <a:xfrm>
            <a:off x="2411280" y="3068640"/>
            <a:ext cx="3670560" cy="341640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Y3-girl-Copie"/>
          <p:cNvPicPr/>
          <p:nvPr/>
        </p:nvPicPr>
        <p:blipFill>
          <a:blip r:embed="rId1"/>
          <a:stretch/>
        </p:blipFill>
        <p:spPr>
          <a:xfrm>
            <a:off x="250920" y="2349360"/>
            <a:ext cx="2998800" cy="450864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123" name="Picture 6" descr="29"/>
          <p:cNvPicPr/>
          <p:nvPr/>
        </p:nvPicPr>
        <p:blipFill>
          <a:blip r:embed="rId2"/>
          <a:stretch/>
        </p:blipFill>
        <p:spPr>
          <a:xfrm>
            <a:off x="3132000" y="907920"/>
            <a:ext cx="2984760" cy="497520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124" name="Picture 4" descr="MacNeil_05PNW_001"/>
          <p:cNvPicPr/>
          <p:nvPr/>
        </p:nvPicPr>
        <p:blipFill>
          <a:blip r:embed="rId3"/>
          <a:stretch/>
        </p:blipFill>
        <p:spPr>
          <a:xfrm>
            <a:off x="6012000" y="0"/>
            <a:ext cx="2894040" cy="521820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08:01:28Z</dcterms:created>
  <dc:creator>Пользователь</dc:creator>
  <dc:description/>
  <dc:language>en-US</dc:language>
  <cp:lastModifiedBy>ASER</cp:lastModifiedBy>
  <dcterms:modified xsi:type="dcterms:W3CDTF">2018-01-07T07:25:16Z</dcterms:modified>
  <cp:revision>16</cp:revision>
  <dc:subject/>
  <dc:title>Урок швейного дела  7 класс</dc:title>
</cp:coreProperties>
</file>