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7C1-36A7-45F6-B879-BC642052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E51-1F51-4FCF-AE90-20468107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9C3-5EE6-401B-ACC1-5DCC1892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0B8-F7CB-4B28-9C47-48C25689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2E8E-F67D-49E6-8A96-26A29CF7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D824-DDF4-4F88-9F43-5A0F64DE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1C91-5087-4562-B343-3BFE1810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2F54-004F-431B-8709-55A90E45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BF39-4007-4BEC-8B31-13BD9DBC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704F-E5A1-4CA9-BA85-F694B8FB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C773-5757-40C9-9A21-CDFD9865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A92-7075-414C-833C-68D1009B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B64B-A88D-4479-9534-955E576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9143-D328-408C-A901-5724D849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4BDD-1B36-4934-8044-DB76E73E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7C8B-8147-4C11-B735-50369B9F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3E52-F8AE-495E-A124-F3A8C4E5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574-4A78-4807-8FAB-23F8AAE3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510-5A64-4FA5-8F3D-7DD91CEB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A0B-1E42-4B0D-9024-92A9C5E3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038-799A-4FFE-B6B3-DFE3DEAB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3AE-B241-4F48-8A1C-4DE605AD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13B-49E9-49FC-A812-3DBCEC7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CFB-5BE9-4F2D-A09B-88810EA9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6852-CD44-47B1-A75A-D61968BDF6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4ECB-54AB-43F4-A975-2E13070E9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9080" y="1231560"/>
            <a:ext cx="693108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«Организация исследовательской деятельности   обучающихся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в начальной школ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6920" y="3573360"/>
            <a:ext cx="6977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Из опыта работ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учителя начальных класс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МБОУ СОШ с. Талиц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Булавиной Ирины Анатольевн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Помощник     представления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.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ы изучали… и выяснили, что 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Это подтверждается тем, что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.Мы сделали вывод, что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  Мы  прочитали рассказ о   ____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  Нам удалось выяснить, что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.  Оказывается, 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 Самым интересным было то,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 __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. Мы сделали заключение, что   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лан исследования словарного слов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4194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Знакомство со слов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Этимологическая справ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Толкование лексемы. Иллюстрац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Однокоренные сло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Пословицы, поговорки и загад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. Синонимы, антонимы, фразеологизм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. Словосочета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. Предложения, текст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. Краеведе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45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ъект исследования:                 словарное слово 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БЛОК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42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( работа выполнена к уроку русского языка на тему « Род имён существительных»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. Загад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углое, румяное, я расту на ветке, любят меня взрослые и маленькие дет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. Яблоко - плод дерева яблонь или яблоня, даёт мелкие кислые и горькие яблоки, кислицу и резань (рязань) , а холя и уход вывели из дички множество вкусных пород, хорошо растущих во всей средней Европе; в Сибири яблоки вырождаются, а растут там только сибирские, китайские или райские с мелкими ябло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.И.Да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. Яблоко - плод яблон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лазное яблоко - шарообразное тело глаз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.В.Лопатин, Л.Е.Лопат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. Яблоко - яблоня - яблочко - яблоневый - яблочно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5. Яблочко от яблоньки не далеко катитс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 срывай яблоко, пока зелено, созреет - само упадё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Яблоньку за яблочки любят, а пчёлку - за мё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6. Яблоко раздора - то, что порождает ссору, раздор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Яблочку негде упасть - очень тесн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7. Яблоко спелое, красное, сладкое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Яблоко хрусткое, с кожицей гладко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Яблоко я пополам разломлю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Яблоко с другом своим разделю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Я.Аки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8. На гербе города Лебедянь  изображены яблоки, так как в нашем крае выращивают эти фрук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информ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настоящее время издаётся большое количество прекрасно иллюстрированных детских энциклопедий, справочников. Они посвящены различной тематике, имеют краткие и доступные детям информативные текст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190044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1942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66"/>
                </a:solidFill>
                <a:latin typeface="Arial"/>
              </a:rPr>
              <a:t>Связь с родителями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лавное для учителя – увлечь детей, показать им значимость их деятельности и вселить уверенность в своих силах, а так же привлечь родителей к участию в школьных делах своего ребён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7" descr="Детская музыкальная школа 20 Курортного района Санкт-Петербурга. - Новости системы образования"/>
          <p:cNvPicPr/>
          <p:nvPr/>
        </p:nvPicPr>
        <p:blipFill>
          <a:blip r:embed="rId1"/>
          <a:stretch/>
        </p:blipFill>
        <p:spPr>
          <a:xfrm>
            <a:off x="2340000" y="3860640"/>
            <a:ext cx="482436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тоги  исследовательской  работы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97240" y="1827360"/>
            <a:ext cx="358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181764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2"/>
          <a:stretch/>
        </p:blipFill>
        <p:spPr>
          <a:xfrm>
            <a:off x="6507000" y="4076640"/>
            <a:ext cx="1837080" cy="244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927000" y="4076640"/>
            <a:ext cx="183528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443640" y="1557360"/>
            <a:ext cx="1870200" cy="230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5"/>
          <a:stretch/>
        </p:blipFill>
        <p:spPr>
          <a:xfrm>
            <a:off x="3492360" y="184464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6"/>
          <a:stretch/>
        </p:blipFill>
        <p:spPr>
          <a:xfrm>
            <a:off x="3419640" y="4292640"/>
            <a:ext cx="2582640" cy="19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036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   примен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тельской    деятельност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вышается интерес к предмет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является желание углубить свои знан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является удовлетворённость от работ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является возможность получить награду на конкурс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вышается самооценка ученик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озможен совместный труд учителя, ученика, родител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-1515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Verdana"/>
              </a:rPr>
              <a:t>Учиться – значит учить себя!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064200" y="539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10" descr="J0283649"/>
          <p:cNvPicPr/>
          <p:nvPr/>
        </p:nvPicPr>
        <p:blipFill>
          <a:blip r:embed="rId1"/>
          <a:stretch/>
        </p:blipFill>
        <p:spPr>
          <a:xfrm>
            <a:off x="684360" y="4437000"/>
            <a:ext cx="1076040" cy="1481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J0283635"/>
          <p:cNvPicPr/>
          <p:nvPr/>
        </p:nvPicPr>
        <p:blipFill>
          <a:blip r:embed="rId2"/>
          <a:stretch/>
        </p:blipFill>
        <p:spPr>
          <a:xfrm>
            <a:off x="6516720" y="581040"/>
            <a:ext cx="1440000" cy="11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377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Arial"/>
              </a:rPr>
              <a:t>Спасибо за внимание!</a:t>
            </a:r>
            <a:br>
              <a:rPr sz="5000"/>
            </a:br>
            <a:endParaRPr b="0" lang="en-US" sz="5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«Образован не тот, кто много знает, а тот, кто хочет много знать, и умеет добывать эти знания».    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В.П. Вахтеров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915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большое значение уделяется повышению качества образовательно-воспитательного процесса. Для достижения положительной динамики учитель одной из главных целей в своей работе ставит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звитие познавательной актив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бучающихс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дущую роль для достижения цели должны играть активные творческие методы обучения. Одним из таких методов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следователь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школьников, в основе которой лежит умение самостоятельно решать проблему, а, следовательно, развивать познавательные навы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1" descr="Школьники создают ракеты и &quot;тарелки&quot; - Новости Днепропетровс…"/>
          <p:cNvPicPr/>
          <p:nvPr/>
        </p:nvPicPr>
        <p:blipFill>
          <a:blip r:embed="rId1"/>
          <a:stretch/>
        </p:blipFill>
        <p:spPr>
          <a:xfrm>
            <a:off x="3203640" y="4076640"/>
            <a:ext cx="26416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еловек способен запомни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971640" y="1479240"/>
            <a:ext cx="763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% того, что он читае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% того, что он слыши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% того, что види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-70% -  при участии в групповых дискуссия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0% - при самостоятельном обнаружении и формулировании пробл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% - при выработке и принятии решения, формулировке выводов и прогно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4132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Он взрослых изводил вопросо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«Почему?» 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Его прозвали «маленький философ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Но только он подрос, как начали ем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Преподносить ответы без вопрос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И с этих пор он больше ником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Не задает вопросов «Почему?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С. Я. Марша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0" descr="чтобы ребёнок учился &quot; Видео уроки на любой вкус"/>
          <p:cNvPicPr/>
          <p:nvPr/>
        </p:nvPicPr>
        <p:blipFill>
          <a:blip r:embed="rId1"/>
          <a:stretch/>
        </p:blipFill>
        <p:spPr>
          <a:xfrm>
            <a:off x="5003640" y="191628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следовательская деятельность - это один из методов обучения, в ходе которого у учащихся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расширяется кругозор в предметных областях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повышается способность к саморазвитию, к самоанализу, самоорганизаци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происходит непроизвольное запоминание учебного материал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наилучшим образом развиваются творческие способност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развивается речь и умение выступать перед аудиторие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сследовательская  деятельность  имеет ряд направленностей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72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сследовательская (актуальность исследования, аргументация научной новизны, выдвижение гипотез, определение путей решения проблем и вывод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творческая  (театральная постановка, поисковая работа, буклет, арт-альбом, поделка и т.д.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66"/>
                </a:solidFill>
                <a:latin typeface="Verdana"/>
              </a:rPr>
              <a:t>информационная  (сбор информации из СМИ, анкетирование, публичные публикации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33847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рок - исследов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43196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олько радости испытывает ученик, когда он находится в поиске вместе с учителем. Что может быть интереснее для учителя, чем следить за работой мысли ребят, иногда направлять их по пути познания, а иногда и просто не мешать, суметь вовремя отойти в сторону дать детям насладиться радостью своего открытия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8000" y="1628280"/>
            <a:ext cx="3741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7644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бота  в  группа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 групповом исследовании учащиеся самостоятельно изучают вопрос учебной темы с целью подготовки группового выступления. Каждая группа изучает свой материа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2178000" cy="288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1547640" y="3716280"/>
            <a:ext cx="22892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амятка    начинающему исследовател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бери тему исслед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умай, на какие вопросы по этой теме ты бы хотел найти ответ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думай варианты своих ответов на поставленные вопрос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и, где ты будешь искать ответы на поставленные вопрос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работай с источниками информации, найди ответы на свои вопрос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делай вывод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форми результаты своей работ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готовь краткое выступление по представлению своего исследова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18:42:10Z</dcterms:created>
  <dc:creator>www.PHILka.RU</dc:creator>
  <dc:description/>
  <dc:language>en-US</dc:language>
  <cp:lastModifiedBy>User</cp:lastModifiedBy>
  <dcterms:modified xsi:type="dcterms:W3CDTF">2018-01-07T16:21:07Z</dcterms:modified>
  <cp:revision>9</cp:revision>
  <dc:subject/>
  <dc:title>Слайд 1</dc:title>
</cp:coreProperties>
</file>