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E3CC3750-A61F-48E0-AD50-88EB869D7B21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132000" y="189000"/>
            <a:ext cx="5904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 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9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 ДЕНЬ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ОБРАЗЕЦ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C:\Documents and Settings\Admin\Рабочий стол\Прохоров Егор\DCIM\100KM007\PICT0005.JPG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4182840"/>
          </a:xfrm>
          <a:prstGeom prst="rect">
            <a:avLst/>
          </a:prstGeom>
          <a:ln w="57240">
            <a:solidFill>
              <a:srgbClr val="2c5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340000" y="189000"/>
            <a:ext cx="6696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 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9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 ДЕНЬ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ОБРАЗЕЦ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C:\Documents and Settings\Admin\Рабочий стол\Прохоров Егор\DCIM\100KM007\PICT0008.JPG"/>
          <p:cNvPicPr/>
          <p:nvPr/>
        </p:nvPicPr>
        <p:blipFill>
          <a:blip r:embed="rId2"/>
          <a:stretch/>
        </p:blipFill>
        <p:spPr>
          <a:xfrm>
            <a:off x="3924360" y="2178000"/>
            <a:ext cx="4608360" cy="4119480"/>
          </a:xfrm>
          <a:prstGeom prst="rect">
            <a:avLst/>
          </a:prstGeom>
          <a:ln w="57240">
            <a:solidFill>
              <a:srgbClr val="2c5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340000" y="189000"/>
            <a:ext cx="6696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 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9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 ДЕНЬ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ОБРАЗЕЦ №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C:\Documents and Settings\Admin\Рабочий стол\Прохоров Егор\DCIM\100KM007\PICT0009.JPG"/>
          <p:cNvPicPr/>
          <p:nvPr/>
        </p:nvPicPr>
        <p:blipFill>
          <a:blip r:embed="rId2"/>
          <a:stretch/>
        </p:blipFill>
        <p:spPr>
          <a:xfrm>
            <a:off x="3492360" y="2178000"/>
            <a:ext cx="5327640" cy="4059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340000" y="189000"/>
            <a:ext cx="6696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 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9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 ДЕНЬ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ОБРАЗЕЦ №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C:\Documents and Settings\Admin\Рабочий стол\Прохоров Егор\DCIM\100KM007\PICT0010.JPG"/>
          <p:cNvPicPr/>
          <p:nvPr/>
        </p:nvPicPr>
        <p:blipFill>
          <a:blip r:embed="rId2"/>
          <a:stretch/>
        </p:blipFill>
        <p:spPr>
          <a:xfrm>
            <a:off x="3635280" y="2178000"/>
            <a:ext cx="5040360" cy="42433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348000" y="189000"/>
            <a:ext cx="5688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 9-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КОНТРОЛЬНЫЙ ОБРАЗЕЦ №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C:\Documents and Settings\Admin\Рабочий стол\Прохоров Егор\DCIM\100KM007\PICT0011.JPG"/>
          <p:cNvPicPr/>
          <p:nvPr/>
        </p:nvPicPr>
        <p:blipFill>
          <a:blip r:embed="rId2"/>
          <a:stretch/>
        </p:blipFill>
        <p:spPr>
          <a:xfrm>
            <a:off x="3348000" y="2637000"/>
            <a:ext cx="5545080" cy="39668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340000" y="189000"/>
            <a:ext cx="6696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ОПИСАНИЕ ОПЫ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5516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340000" y="189000"/>
            <a:ext cx="727236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 u="sng">
                <a:solidFill>
                  <a:srgbClr val="2c5620"/>
                </a:solidFill>
                <a:uFillTx/>
                <a:latin typeface="Verdana"/>
              </a:rPr>
              <a:t>ВЫВОД:</a:t>
            </a: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Влияние электромагнитных волн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не ускоряет всхожесть семян пшениц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700360" y="893880"/>
            <a:ext cx="69120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ГИПОТЕЗА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Н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ПОДТВЕРДИЛАС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340000" y="189000"/>
            <a:ext cx="72723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 u="sng">
                <a:solidFill>
                  <a:srgbClr val="2c5620"/>
                </a:solidFill>
                <a:uFillTx/>
                <a:latin typeface="Verdana"/>
              </a:rPr>
              <a:t>ТЕМА</a:t>
            </a: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Влияние электромагнитных волн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2c5620"/>
                </a:solidFill>
                <a:latin typeface="Verdana"/>
              </a:rPr>
              <a:t>на всхожесть семян пшениц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433600" y="363600"/>
            <a:ext cx="669600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5620"/>
                </a:solidFill>
                <a:uFillTx/>
                <a:latin typeface="Verdan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c5620"/>
                </a:solidFill>
                <a:latin typeface="Verdana"/>
              </a:rPr>
              <a:t>ИЗУЧЕНИЕ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c5620"/>
                </a:solidFill>
                <a:latin typeface="Verdana"/>
              </a:rPr>
              <a:t>ВЛИЯНИЯ ЭЛЕКТРОМАГНИТНЫХ ВОЛН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c5620"/>
                </a:solidFill>
                <a:latin typeface="Verdana"/>
              </a:rPr>
              <a:t>НА ВСХОЖЕСТЬ СЕМЯН ПШЕНИЦ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433600" y="363600"/>
            <a:ext cx="669600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5620"/>
                </a:solidFill>
                <a:uFillTx/>
                <a:latin typeface="Verdana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c5620"/>
                </a:solidFill>
                <a:latin typeface="Verdana"/>
              </a:rPr>
              <a:t>ВОЗМОЖНО, ВОЗДЕЙСТВИЕ ЭЛЕКТРОМАГНИТНЫХ ВОЛН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c5620"/>
                </a:solidFill>
                <a:latin typeface="Verdana"/>
              </a:rPr>
              <a:t>УСКОРЯЕТ ВСХОЖЕСТЬ СЕМЯН ПШЕНИЦ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916360" y="189000"/>
            <a:ext cx="6119640" cy="67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5620"/>
                </a:solidFill>
                <a:uFillTx/>
                <a:latin typeface="Verdan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620"/>
                </a:solidFill>
                <a:latin typeface="Arial"/>
                <a:ea typeface="Times New Roman"/>
              </a:rPr>
              <a:t>УЗНАТЬ, ЧТО ТАКОЕ ЭЛЕКТРОМАГНИТНЫЕ ВОЛ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620"/>
                </a:solidFill>
                <a:latin typeface="Arial"/>
                <a:ea typeface="Times New Roman"/>
              </a:rPr>
              <a:t>ПРОРАСТИТЬ СЕМЕНА ПШЕНИЦЫ РЯДОМ С БЫТОВЫМИ ПРИБОРАМИ, ИЗЛУЧАЮЩИМИ ЭЛЕКТРОМАГНИТНЫЕ ВОЛ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620"/>
                </a:solidFill>
                <a:latin typeface="Arial"/>
                <a:ea typeface="Times New Roman"/>
              </a:rPr>
              <a:t>ИЗУЧИТЬ ВЛИЯНИЕ ЭЛЕКТРОМАГНИТНЫХ ВОЛН НА ВСХОЖЕСТЬ СЕМЯН ПШЕ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620"/>
                </a:solidFill>
                <a:latin typeface="Arial"/>
                <a:ea typeface="Times New Roman"/>
              </a:rPr>
              <a:t>ОПРЕДЕЛИТЬ ИНТЕНСИВНОСТЬ ВЛИЯНИЯ РАЗЛИЧНЫХ БЫТОВЫХ ПРИБОРОВ НА ВСХОЖЕСТЬ СЕМЯН ПШЕ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916360" y="189000"/>
            <a:ext cx="6119640" cy="73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5620"/>
                </a:solidFill>
                <a:uFillTx/>
                <a:latin typeface="Verdana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Times New Roman"/>
              </a:rPr>
              <a:t>1. Изучение и анализ литературы по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Times New Roman"/>
              </a:rPr>
              <a:t>2. Определение целей, задач, гипотез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Calibri"/>
              </a:rPr>
              <a:t>Закладка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Calibri"/>
              </a:rPr>
              <a:t>3.1. 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Calibri"/>
              </a:rPr>
              <a:t>3.2. 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Calibri"/>
              </a:rPr>
              <a:t>3.3. 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5620"/>
                </a:solidFill>
                <a:latin typeface="Arial"/>
                <a:ea typeface="Calibri"/>
              </a:rPr>
              <a:t>3.4. Анализ, обобщение и систематиз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c56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124000" y="620640"/>
            <a:ext cx="67215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5620"/>
                </a:solidFill>
                <a:latin typeface="Verdana"/>
              </a:rPr>
              <a:t>ЗАКЛАДКА ОПЫ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C:\Documents and Settings\Admin\Рабочий стол\Прохоров Егор\DCIM\100KM007\PICT0002.JPG"/>
          <p:cNvPicPr/>
          <p:nvPr/>
        </p:nvPicPr>
        <p:blipFill>
          <a:blip r:embed="rId3"/>
          <a:stretch/>
        </p:blipFill>
        <p:spPr>
          <a:xfrm>
            <a:off x="3465360" y="2347920"/>
            <a:ext cx="5283360" cy="3889440"/>
          </a:xfrm>
          <a:prstGeom prst="rect">
            <a:avLst/>
          </a:prstGeom>
          <a:ln w="57240">
            <a:solidFill>
              <a:srgbClr val="2c5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465360" y="189000"/>
            <a:ext cx="528336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3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Д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C:\Documents and Settings\Admin\Рабочий стол\Прохоров Егор\DCIM\100KM007\PICT0002.JPG"/>
          <p:cNvPicPr/>
          <p:nvPr/>
        </p:nvPicPr>
        <p:blipFill>
          <a:blip r:embed="rId2"/>
          <a:stretch/>
        </p:blipFill>
        <p:spPr>
          <a:xfrm>
            <a:off x="3465360" y="2347920"/>
            <a:ext cx="5283360" cy="3889440"/>
          </a:xfrm>
          <a:prstGeom prst="rect">
            <a:avLst/>
          </a:prstGeom>
          <a:ln w="57240">
            <a:solidFill>
              <a:srgbClr val="2c5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jy tyjze yhj,gazh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348000" y="189000"/>
            <a:ext cx="568800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6-</a:t>
            </a:r>
            <a:r>
              <a:rPr b="1" lang="ru-RU" sz="3200" spc="-1" strike="noStrike">
                <a:solidFill>
                  <a:srgbClr val="2c5620"/>
                </a:solidFill>
                <a:latin typeface="Arial"/>
                <a:ea typeface="Times New Roman"/>
              </a:rPr>
              <a:t>Й</a:t>
            </a:r>
            <a:r>
              <a:rPr b="1" lang="ru-RU" sz="4800" spc="-1" strike="noStrike">
                <a:solidFill>
                  <a:srgbClr val="2c5620"/>
                </a:solidFill>
                <a:latin typeface="Arial"/>
                <a:ea typeface="Times New Roman"/>
              </a:rPr>
              <a:t> Д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C:\Documents and Settings\Admin\Рабочий стол\Прохоров Егор\DCIM\100KM007\PICT0004.JPG"/>
          <p:cNvPicPr/>
          <p:nvPr/>
        </p:nvPicPr>
        <p:blipFill>
          <a:blip r:embed="rId2"/>
          <a:stretch/>
        </p:blipFill>
        <p:spPr>
          <a:xfrm>
            <a:off x="3367080" y="2095560"/>
            <a:ext cx="5597640" cy="4300560"/>
          </a:xfrm>
          <a:prstGeom prst="rect">
            <a:avLst/>
          </a:prstGeom>
          <a:ln w="57240">
            <a:solidFill>
              <a:srgbClr val="2c5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Юлия Васильевна</cp:lastModifiedBy>
  <dcterms:modified xsi:type="dcterms:W3CDTF">2014-03-17T11:21:35Z</dcterms:modified>
  <cp:revision>90</cp:revision>
  <dc:subject/>
  <dc:title>Green Butterflies</dc:title>
</cp:coreProperties>
</file>