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dt" idx="2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2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 type="sldNum" idx="3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493043-17A1-4AFD-871C-ADA0814F7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3818B6-4215-4166-8333-649A57E034B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0D8-C9A9-4DF8-A0B6-4B6A8E54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21D-705F-4052-BED4-10FBA5B8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A5805-BE8E-4A1B-92E9-3A82AE5D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32D90-4BBB-4AD4-9D39-444C6F39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035FF-0838-414A-846B-519EBB22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89B94-DCA9-46C0-8246-38F432A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2D7B8-88E5-4934-A72A-65A59A13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5E195-D1DE-4C99-8ED5-7050D110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41394-514B-477D-8AFF-8A98DA09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06911-DF87-477B-81B1-AA430447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9CC63-16BF-470E-AA28-90BB1AC7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44F-2C62-4A7A-94B2-A43CCC89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5AC-EC2F-4CA5-ABEB-98D49868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D171-F29C-4DC3-B730-5F8A14F5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2E3E-9610-4BEA-A3B3-2426995E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1074-A3C6-40FC-BBE2-90ABC9D3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E2D4-10EB-46B3-AB45-5109F7C2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750C-E744-4D68-867D-418881EB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8215-1424-46C8-AE12-30974F1B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77D6-B4E6-45AE-95FB-B8D928F7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6DC-DCAA-481F-A66A-43B34CBA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D4A6-D564-4C59-9730-9AD4B341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252B-5317-4CA0-B49F-1BFF727C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89C6-6CE8-4E98-B373-34955AB3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F5E3-9250-419E-A3D6-FF05BF24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0EDC-D315-4F53-B015-ED665134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ADB7-CE10-49EE-B65C-C7C51C0B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32747-117F-44BF-926E-33F2CA86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EB035-BC45-458E-9D61-2D8ED19C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0D60-633A-4928-8C68-C5962BFD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20B1-74E4-4E14-A2ED-9CF847D7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8D1-7B4A-4134-A18E-1657B695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0F16-8D58-4E9D-9D78-CF20A5DD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FA4E-55F5-4C9C-972C-BB717A78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45C3-E417-490F-A689-B20436AB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9942-C7CB-4497-A191-EE34ACD5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D864-B65F-4C9B-B8E7-0DB427A9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F1F88-D272-4D41-BA5E-63820BC1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1C6F-8B07-4B8E-B93E-FF8E5D06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DDA9-D103-4D11-99B8-04B3DBA0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A668E-3C87-4BA6-A5D0-94186B13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E0A14-A6C3-41D4-BBDC-E9189E58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34E-8F4B-4805-9B86-4C914327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37E4-1B34-48C2-BE96-5956E1AC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493E2-1B04-4980-8149-A405D7B0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41889-27E1-40F8-81CE-68EB8808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5139-4BF6-47D6-B433-3AF64C73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E42EB-664B-429D-AB3B-8B6E8394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61D77-22DB-468C-9D34-3E9118A7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126F7-6B6F-4F1C-85E9-E5F208E3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E87F-D891-46B4-BAC9-2294563B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09B0F-4670-49D0-8AFD-6FFB272D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618D-9E7A-46EF-AAD5-6A197A5D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296-6BE4-4F99-B96A-F0EBFC58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F7473-6DB2-4B6D-BE9D-DFC566CB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D5D12-5EFE-4E73-BA5E-991F682C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62A94-2A7A-431E-B82E-2A5D762B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982F1-D845-40CD-9416-29605F16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3634-614A-40D0-BF5C-2BD32589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D339E-AD0F-48E0-A713-26FF6D73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5DA9B-48F8-470B-BE98-D61398DC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94065-458B-410A-AD25-23E563AA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61AA6-7B67-416A-97B4-6C4E5AA5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1FFB3-6A27-438B-8E67-C0308CD0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EF6-AE08-46E0-A745-83C672D2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8BC84-5BFF-4349-9B35-73570ADE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6B8C4-897B-45ED-95C2-71A62D13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DAE3D-A752-4C50-A484-CA44A182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38C5A-0A4B-4538-A928-2A9C19BB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98E02-6181-48D2-B0B6-6349DA63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2DA94-1F27-4833-9D61-6DE2DBE2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A69AB-30CF-49A5-97AF-D861B0F0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AF8FF-272E-4949-B75F-ED9D6032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3D2FB-AD00-43E6-A4DD-7599C36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F9752-2E3D-457B-AD55-6A0E90C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BC8-0D27-4797-B086-E1F9B75D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4FE7B-3EB3-4E6F-911B-B22B4C89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10D8D-B9C6-4456-AA28-1B80DA27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A64C4-7AB4-4431-AE37-13367FAB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92004-2877-4483-9EC1-4A814C82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AC3E9-7C8F-450F-A421-A5D55650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C2D2D-33A4-4C9D-A885-C309B1F0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39F74-7E2C-4798-AFE8-7DC25991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ADCD7-0469-43F2-B0B1-69718A5C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4F5AF-6316-439E-A4FF-96A4A611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F4C56-1109-42B0-83F4-4135FF30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678-CECA-4676-8232-9B90240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14169-ABAF-4B3F-B1EE-D84142FA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CF353-0E8B-453B-901C-7C46AB57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78701-0EF1-4218-BA16-3D50D8C8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089B3-010A-4CDE-8C95-0D67350A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477F5-B1F8-4E0B-8570-EE2CB796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1BF8C-9725-4A25-9650-CDB414A9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0367A-3997-4DE1-970E-6FE6E81E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B50C2-A41D-410A-9EBD-2BDADEBE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1C01F-E187-4EF6-8D17-9CCEB26A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F50D1-E9F7-4BCF-AF31-4DA4BC55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6B5-A91D-4D9B-8717-88117B9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400EC-8AE1-496D-B4C9-B94337D8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E8ADF-C3A0-4B15-8B2C-ACA7069F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64A6A-0F1C-4F77-906B-A2226325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12B0C-36BD-4B67-B660-98539880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1E78B-3CAE-4FA8-892A-FD3BFB18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9C75F-89A4-464A-98F9-3BB260EB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635F0-91AB-4593-B5F5-608A1B67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7E842-26BA-4685-8B10-D41C8DD1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225BE-FD52-4454-BA53-D3BC02D7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7162B-1EE1-4D78-A411-6C442C96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"/>
          <p:cNvGrpSpPr/>
          <p:nvPr/>
        </p:nvGrpSpPr>
        <p:grpSpPr>
          <a:xfrm>
            <a:off x="0" y="0"/>
            <a:ext cx="8762760" cy="5943240"/>
            <a:chOff x="0" y="0"/>
            <a:chExt cx="8762760" cy="5943240"/>
          </a:xfrm>
        </p:grpSpPr>
        <p:sp>
          <p:nvSpPr>
            <p:cNvPr id="7" name="Rectangle 3"/>
            <p:cNvSpPr/>
            <p:nvPr/>
          </p:nvSpPr>
          <p:spPr>
            <a:xfrm>
              <a:off x="0" y="0"/>
              <a:ext cx="1752120" cy="487656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4"/>
            <p:cNvGrpSpPr/>
            <p:nvPr/>
          </p:nvGrpSpPr>
          <p:grpSpPr>
            <a:xfrm>
              <a:off x="0" y="3505320"/>
              <a:ext cx="8762760" cy="2437920"/>
              <a:chOff x="0" y="3505320"/>
              <a:chExt cx="8762760" cy="2437920"/>
            </a:xfrm>
          </p:grpSpPr>
          <p:sp>
            <p:nvSpPr>
              <p:cNvPr id="9" name="Rectangle 5"/>
              <p:cNvSpPr/>
              <p:nvPr/>
            </p:nvSpPr>
            <p:spPr>
              <a:xfrm>
                <a:off x="990720" y="3505320"/>
                <a:ext cx="7772040" cy="2437920"/>
              </a:xfrm>
              <a:prstGeom prst="rect">
                <a:avLst/>
              </a:prstGeom>
              <a:solidFill>
                <a:schemeClr val="bg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6"/>
              <p:cNvSpPr/>
              <p:nvPr/>
            </p:nvSpPr>
            <p:spPr>
              <a:xfrm>
                <a:off x="1038240" y="3733920"/>
                <a:ext cx="7648200" cy="213804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7"/>
              <p:cNvSpPr/>
              <p:nvPr/>
            </p:nvSpPr>
            <p:spPr>
              <a:xfrm>
                <a:off x="0" y="4876560"/>
                <a:ext cx="990360" cy="360"/>
              </a:xfrm>
              <a:prstGeom prst="line">
                <a:avLst/>
              </a:prstGeom>
              <a:ln w="5080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8"/>
            <p:cNvGrpSpPr/>
            <p:nvPr/>
          </p:nvGrpSpPr>
          <p:grpSpPr>
            <a:xfrm>
              <a:off x="634680" y="533520"/>
              <a:ext cx="8077320" cy="304560"/>
              <a:chOff x="634680" y="533520"/>
              <a:chExt cx="8077320" cy="304560"/>
            </a:xfrm>
          </p:grpSpPr>
          <p:sp>
            <p:nvSpPr>
              <p:cNvPr id="13" name="Rectangle 9"/>
              <p:cNvSpPr/>
              <p:nvPr/>
            </p:nvSpPr>
            <p:spPr>
              <a:xfrm>
                <a:off x="6273720" y="533520"/>
                <a:ext cx="2437920" cy="304560"/>
              </a:xfrm>
              <a:prstGeom prst="rect">
                <a:avLst/>
              </a:prstGeom>
              <a:solidFill>
                <a:schemeClr val="fol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634680" y="685800"/>
                <a:ext cx="8077320" cy="360"/>
              </a:xfrm>
              <a:prstGeom prst="line">
                <a:avLst/>
              </a:prstGeom>
              <a:ln w="444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9040" cy="2209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dt" idx="1"/>
          </p:nvPr>
        </p:nvSpPr>
        <p:spPr>
          <a:xfrm>
            <a:off x="912960" y="62514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2"/>
          </p:nvPr>
        </p:nvSpPr>
        <p:spPr>
          <a:xfrm>
            <a:off x="33544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8A327F-ABCF-4B4C-A2F4-07491E13BD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57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59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9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953361-C54C-4724-A3F0-CBDAE8EF59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04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9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38FDA1-2332-4392-87ED-3549C9A7ED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51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153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dt" idx="10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0983F5-B510-4F5E-AAD3-1AA9D2263A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9C6D0F-6333-46A1-B4E2-BEDD647298D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563EE4-9071-4971-A99B-A0A59EE4FF2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280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282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9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20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13EB5F-FCAB-4EBA-A88E-D45B7CE634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327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329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dt" idx="22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FDC88F-98B2-43E3-8EE1-AE04D4FCDE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374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376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9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63D443-C0BD-4240-A7FB-69C4EB4928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yandex.ua/yandsearch?fp=0&amp;img_url=http://static.ngs.ru/forum/avatar/66ad8e4c1c819f0026b823b2a7ddc88d_5079.jpg&amp;iorient=&amp;ih=&amp;nojs=1&amp;icolor=&amp;site=&amp;text=&#1053;&#1080;&#1082;&#1086;&#1083;&#1072;&#1081;%20&#1040;&#1084;&#1086;&#1089;&#1086;&#1074;&amp;iw=&amp;wp=&amp;pos=10&amp;recent=&amp;type=&amp;isize=&amp;rpt=simage&amp;itype=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segodnya.ua/img/gallery/4031/39/425624_main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pravitelstvokbr.ru/k-br/kbr-maiN.Nsf/0/484943EDAD2161C0C3257B970028B520/$FILE/M6A3fDqYD0g.jpg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63640" y="1143000"/>
            <a:ext cx="7272360" cy="2209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  <a:ea typeface="Calibri"/>
              </a:rPr>
              <a:t>Органы кровообращения: сердце и сосуды. Значение кровообращения.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285000"/>
            <a:ext cx="6800400" cy="2353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биологии в 8-Б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4">
            <a:lumMod val="40000"/>
            <a:lumOff val="6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рямоугольник 2"/>
          <p:cNvSpPr/>
          <p:nvPr/>
        </p:nvSpPr>
        <p:spPr>
          <a:xfrm>
            <a:off x="346320" y="3965400"/>
            <a:ext cx="489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олните сравнительную таблиц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Таблица 3"/>
          <p:cNvGraphicFramePr/>
          <p:nvPr/>
        </p:nvGraphicFramePr>
        <p:xfrm>
          <a:off x="107640" y="4437000"/>
          <a:ext cx="8928720" cy="2253240"/>
        </p:xfrm>
        <a:graphic>
          <a:graphicData uri="http://schemas.openxmlformats.org/drawingml/2006/table">
            <a:tbl>
              <a:tblPr/>
              <a:tblGrid>
                <a:gridCol w="1575000"/>
                <a:gridCol w="2381040"/>
                <a:gridCol w="2170800"/>
                <a:gridCol w="2801160"/>
              </a:tblGrid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Ар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апиля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4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тро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слоя, клапанов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сл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онкие -3 слоя, клап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</a:tr>
              <a:tr h="49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ун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e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вижение крови от серд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e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мен веще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e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вижение крови к сердц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eea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корость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5 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5 м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2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вление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e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0мм рт.с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e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мм рт.с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e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-8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м рт.с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eea"/>
                    </a:solidFill>
                  </a:tcPr>
                </a:tc>
              </a:tr>
            </a:tbl>
          </a:graphicData>
        </a:graphic>
      </p:graphicFrame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200" spc="-1" strike="noStrike">
                <a:solidFill>
                  <a:srgbClr val="002060"/>
                </a:solidFill>
                <a:latin typeface="Calibri"/>
              </a:rPr>
              <a:t>Кровеносные сосуды</a:t>
            </a:r>
            <a:endParaRPr b="0" lang="ru-RU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6" descr="C:\Users\Владелец\Pictures\10020801.gif"/>
          <p:cNvPicPr/>
          <p:nvPr/>
        </p:nvPicPr>
        <p:blipFill>
          <a:blip r:embed="rId1"/>
          <a:stretch/>
        </p:blipFill>
        <p:spPr>
          <a:xfrm>
            <a:off x="323640" y="1196640"/>
            <a:ext cx="8194320" cy="273636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7"/>
          <p:cNvSpPr/>
          <p:nvPr/>
        </p:nvSpPr>
        <p:spPr>
          <a:xfrm>
            <a:off x="1691640" y="4797000"/>
            <a:ext cx="7344360" cy="359640"/>
          </a:xfrm>
          <a:prstGeom prst="rect">
            <a:avLst/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0" name="Прямоугольник 12"/>
          <p:cNvSpPr/>
          <p:nvPr/>
        </p:nvSpPr>
        <p:spPr>
          <a:xfrm>
            <a:off x="1691640" y="5157360"/>
            <a:ext cx="7344360" cy="503640"/>
          </a:xfrm>
          <a:prstGeom prst="rect">
            <a:avLst/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1" name="Прямоугольник 13"/>
          <p:cNvSpPr/>
          <p:nvPr/>
        </p:nvSpPr>
        <p:spPr>
          <a:xfrm>
            <a:off x="1691640" y="5661360"/>
            <a:ext cx="7344360" cy="431640"/>
          </a:xfrm>
          <a:prstGeom prst="rect">
            <a:avLst/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2" name="Прямоугольник 14"/>
          <p:cNvSpPr/>
          <p:nvPr/>
        </p:nvSpPr>
        <p:spPr>
          <a:xfrm>
            <a:off x="1691640" y="6093360"/>
            <a:ext cx="7344360" cy="503640"/>
          </a:xfrm>
          <a:prstGeom prst="rect">
            <a:avLst/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65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69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7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7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61640" cy="85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Физкультминутка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                    «Да»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0" y="4581360"/>
            <a:ext cx="6857640" cy="1599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Стрелка вверх 4"/>
          <p:cNvSpPr/>
          <p:nvPr/>
        </p:nvSpPr>
        <p:spPr>
          <a:xfrm>
            <a:off x="8801640" y="116640"/>
            <a:ext cx="323280" cy="1079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06" name="Прямоугольник 5"/>
          <p:cNvSpPr/>
          <p:nvPr/>
        </p:nvSpPr>
        <p:spPr>
          <a:xfrm>
            <a:off x="7394400" y="6021360"/>
            <a:ext cx="1468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трелка вниз 6"/>
          <p:cNvSpPr/>
          <p:nvPr/>
        </p:nvSpPr>
        <p:spPr>
          <a:xfrm>
            <a:off x="8871120" y="5805360"/>
            <a:ext cx="253800" cy="10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08" name="Прямоугольник 9"/>
          <p:cNvSpPr/>
          <p:nvPr/>
        </p:nvSpPr>
        <p:spPr>
          <a:xfrm>
            <a:off x="3960" y="4077000"/>
            <a:ext cx="8994600" cy="503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Кровеносная система человека состоит из сердца и сосу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0"/>
          <p:cNvSpPr/>
          <p:nvPr/>
        </p:nvSpPr>
        <p:spPr>
          <a:xfrm>
            <a:off x="-65520" y="4941000"/>
            <a:ext cx="9110880" cy="431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Сердце человека состоит из 1 предсердия и 2 желудоч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1"/>
          <p:cNvSpPr/>
          <p:nvPr/>
        </p:nvSpPr>
        <p:spPr>
          <a:xfrm>
            <a:off x="50760" y="5727240"/>
            <a:ext cx="8994600" cy="359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Артерии это сосуды в которых происходит газооб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16920" y="1865880"/>
            <a:ext cx="9013320" cy="287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Кровь состоит из плазмы, кровяных клеток и кровяных пласти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13"/>
          <p:cNvSpPr/>
          <p:nvPr/>
        </p:nvSpPr>
        <p:spPr>
          <a:xfrm>
            <a:off x="50760" y="3264840"/>
            <a:ext cx="8953920" cy="431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Кровеносная система позвоночных животных замкну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Двойная стрелка влево/вправо 15"/>
          <p:cNvSpPr/>
          <p:nvPr/>
        </p:nvSpPr>
        <p:spPr>
          <a:xfrm>
            <a:off x="3422160" y="1474920"/>
            <a:ext cx="2448000" cy="35964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3" descr=""/>
          <p:cNvPicPr/>
          <p:nvPr/>
        </p:nvPicPr>
        <p:blipFill>
          <a:blip r:embed="rId1"/>
          <a:stretch/>
        </p:blipFill>
        <p:spPr>
          <a:xfrm>
            <a:off x="3600000" y="2139120"/>
            <a:ext cx="2474640" cy="493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4" descr=""/>
          <p:cNvPicPr/>
          <p:nvPr/>
        </p:nvPicPr>
        <p:blipFill>
          <a:blip r:embed="rId2"/>
          <a:stretch/>
        </p:blipFill>
        <p:spPr>
          <a:xfrm>
            <a:off x="3540600" y="2772360"/>
            <a:ext cx="2474640" cy="4932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5" descr=""/>
          <p:cNvPicPr/>
          <p:nvPr/>
        </p:nvPicPr>
        <p:blipFill>
          <a:blip r:embed="rId3"/>
          <a:stretch/>
        </p:blipFill>
        <p:spPr>
          <a:xfrm>
            <a:off x="3557520" y="3682800"/>
            <a:ext cx="2474640" cy="493200"/>
          </a:xfrm>
          <a:prstGeom prst="rect">
            <a:avLst/>
          </a:prstGeom>
          <a:ln w="0">
            <a:noFill/>
          </a:ln>
        </p:spPr>
      </p:pic>
      <p:sp>
        <p:nvSpPr>
          <p:cNvPr id="517" name="Двойная стрелка влево/вправо 30"/>
          <p:cNvSpPr/>
          <p:nvPr/>
        </p:nvSpPr>
        <p:spPr>
          <a:xfrm>
            <a:off x="3600000" y="4581000"/>
            <a:ext cx="2448000" cy="35964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Двойная стрелка влево/вправо 31"/>
          <p:cNvSpPr/>
          <p:nvPr/>
        </p:nvSpPr>
        <p:spPr>
          <a:xfrm>
            <a:off x="3600000" y="5412960"/>
            <a:ext cx="2448000" cy="35964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6"/>
          <p:cNvSpPr/>
          <p:nvPr/>
        </p:nvSpPr>
        <p:spPr>
          <a:xfrm>
            <a:off x="97560" y="2520000"/>
            <a:ext cx="8924040" cy="323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Кровь у всех животных переносит только кислород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3"/>
          <p:cNvSpPr/>
          <p:nvPr/>
        </p:nvSpPr>
        <p:spPr>
          <a:xfrm>
            <a:off x="16920" y="1216800"/>
            <a:ext cx="8946000" cy="287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Увсех многоклеточных животных кровь крас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00764 L 0.01806 0.76012 E">
                                      <p:cBhvr>
                                        <p:cTn id="183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44 0.00162 C -0.24444 0.01017 -0.19253 0.01735 -0.12917 0.01735 C -0.05434 0.01735 -0.02743 0.00948 -0.01615 0.00462 L -0.00451 -0.00162 C 0.00729 -0.00648 0.03594 -0.01411 0.12031 -0.01411 C 0.17431 -0.01411 0.23594 -0.00717 0.23594 0.00162 C 0.23594 0.01017 0.17431 0.01735 0.12031 0.01735 C 0.03594 0.01735 0.00729 0.00948 -0.00451 0.00462 L -0.01615 -0.00162 C -0.02743 -0.00648 -0.05434 -0.01411 -0.12917 -0.01411 C -0.19253 -0.01411 -0.24444 -0.00717 -0.24444 0.00162 Z">
                                      <p:cBhvr>
                                        <p:cTn id="187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1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9.02151E-007 L 0.0092 0.56003 E">
                                      <p:cBhvr>
                                        <p:cTn id="19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9348E-006 L -0.00295 -0.47976 E">
                                      <p:cBhvr>
                                        <p:cTn id="199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93616E-006 L -0.00017 -0.60328 E">
                                      <p:cBhvr>
                                        <p:cTn id="20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 -0.00532 C -0.2559 0.00046 -0.2026 0.00532 -0.13715 0.00532 C -0.05989 0.00532 -0.03194 -0.00023 -0.02048 -0.00324 L -0.00816 -0.0074 C 0.004 -0.01064 0.03351 -0.01573 0.12066 -0.01573 C 0.17639 -0.01573 0.24011 -0.01133 0.24011 -0.00532 C 0.24011 0.00046 0.17639 0.00532 0.12066 0.00532 C 0.03351 0.00532 0.004 -0.00023 -0.00816 -0.00324 L -0.02048 -0.0074 C -0.03194 -0.01064 -0.05989 -0.01573 -0.13715 -0.01573 C -0.2026 -0.01573 -0.2559 -0.01133 -0.2559 -0.00532 Z">
                                      <p:cBhvr>
                                        <p:cTn id="20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11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229 -0.01133 C -0.23229 -0.00578 -0.17882 -0.00046 -0.11319 -0.00046 C -0.03611 -0.00046 -0.00833 -0.00624 0.00348 -0.00902 L 0.01563 -0.01364 C 0.02743 -0.01688 0.0573 -0.02151 0.14428 -0.02151 C 0.20018 -0.02151 0.26372 -0.01735 0.26372 -0.01133 C 0.26372 -0.00578 0.20018 -0.00046 0.14428 -0.00046 C 0.0573 -0.00046 0.02743 -0.00624 0.01563 -0.00902 L 0.00348 -0.01364 C -0.00833 -0.01688 -0.03611 -0.02151 -0.11319 -0.02151 C -0.17882 -0.02151 -0.23229 -0.01735 -0.23229 -0.01133 Z">
                                      <p:cBhvr>
                                        <p:cTn id="215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11142 L 0.0026 0.13846 E">
                                      <p:cBhvr>
                                        <p:cTn id="219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delay="0" evt="onClick">
                    <p:tgtEl>
                      <p:spTgt spid="506"/>
                    </p:tgtEl>
                  </p:cond>
                </p:stCondLst>
                <p:childTnLst>
                  <p:par>
                    <p:cTn id="221" fill="hold">
                      <p:stCondLst>
                        <p:cond delay="0"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09 -0.00416 C -0.2809 0.0081 -0.22343 0.01805 -0.15347 0.01805 C -0.07083 0.01805 -0.04097 0.00694 -0.02847 0.00024 L -0.01545 -0.00855 C -0.0026 -0.01526 0.029 -0.02614 0.1224 -0.02614 C 0.18212 -0.02614 0.25 -0.01642 0.25 -0.00416 C 0.25 0.0081 0.18212 0.01805 0.1224 0.01805 C 0.029 0.01805 -0.0026 0.00694 -0.01545 0.00024 L -0.02847 -0.00855 C -0.04097 -0.01526 -0.07083 -0.02614 -0.15347 -0.02614 C -0.22343 -0.02614 -0.2809 -0.01642 -0.2809 -0.00416 Z">
                                      <p:cBhvr>
                                        <p:cTn id="224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0"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65 -0.00624 C -0.2665 0.0037 -0.21407 0.0118 -0.15 0.0118 C -0.07466 0.0118 -0.04723 0.00278 -0.03577 -0.00254 L -0.02396 -0.00995 C -0.01233 -0.01527 0.01666 -0.02406 0.10191 -0.02406 C 0.15642 -0.02406 0.21857 -0.01619 0.21857 -0.00624 C 0.21857 0.0037 0.15642 0.0118 0.10191 0.0118 C 0.01666 0.0118 -0.01233 0.00278 -0.02396 -0.00254 L -0.03577 -0.00995 C -0.04723 -0.01527 -0.07466 -0.02406 -0.15 -0.02406 C -0.21407 -0.02406 -0.2665 -0.01619 -0.2665 -0.00624 Z">
                                      <p:cBhvr>
                                        <p:cTn id="228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delay="0" evt="onClick">
                    <p:tgtEl>
                      <p:spTgt spid="507"/>
                    </p:tgtEl>
                  </p:cond>
                </p:stCondLst>
                <p:childTnLst>
                  <p:par>
                    <p:cTn id="230" fill="hold">
                      <p:stCondLst>
                        <p:cond delay="0"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8 -0.00069 C -0.2448 0.00439 -0.19219 0.00856 -0.12796 0.00856 C -0.05209 0.00856 -0.02466 0.00393 -0.0132 0.00116 L -0.00139 -0.00278 C 0.01041 -0.00555 0.03958 -0.00995 0.12517 -0.00995 C 0.17986 -0.00995 0.24218 -0.00602 0.24218 -0.00069 C 0.24218 0.00439 0.17986 0.00856 0.12517 0.00856 C 0.03958 0.00856 0.01041 0.00393 -0.00139 0.00116 L -0.0132 -0.00278 C -0.02466 -0.00555 -0.05209 -0.00995 -0.12796 -0.00995 C -0.19219 -0.00995 -0.2448 -0.00602 -0.2448 -0.00069 Z">
                                      <p:cBhvr>
                                        <p:cTn id="233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Заголовок 1"/>
          <p:cNvSpPr/>
          <p:nvPr/>
        </p:nvSpPr>
        <p:spPr>
          <a:xfrm>
            <a:off x="323640" y="277920"/>
            <a:ext cx="84780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Тестовая работа                                      «Да»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Стрелка вверх 3"/>
          <p:cNvSpPr/>
          <p:nvPr/>
        </p:nvSpPr>
        <p:spPr>
          <a:xfrm>
            <a:off x="8777520" y="116640"/>
            <a:ext cx="347400" cy="1079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24" name="Прямоугольник 4"/>
          <p:cNvSpPr/>
          <p:nvPr/>
        </p:nvSpPr>
        <p:spPr>
          <a:xfrm>
            <a:off x="7394400" y="6211800"/>
            <a:ext cx="1468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8807760" y="5759640"/>
            <a:ext cx="317160" cy="108540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5"/>
          <p:cNvSpPr/>
          <p:nvPr/>
        </p:nvSpPr>
        <p:spPr>
          <a:xfrm>
            <a:off x="115200" y="1090800"/>
            <a:ext cx="8987040" cy="431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5">
                    <a:lumMod val="10000"/>
                  </a:schemeClr>
                </a:solidFill>
                <a:latin typeface="Arial"/>
              </a:rPr>
              <a:t>8. Желудочки – это отдел сердца , из которых кровь поступает в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7"/>
          <p:cNvSpPr/>
          <p:nvPr/>
        </p:nvSpPr>
        <p:spPr>
          <a:xfrm>
            <a:off x="68760" y="1902240"/>
            <a:ext cx="8987040" cy="431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5">
                    <a:lumMod val="10000"/>
                  </a:schemeClr>
                </a:solidFill>
                <a:latin typeface="Arial"/>
              </a:rPr>
              <a:t>9. Околосердечной сумкой называют – эпикар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8"/>
          <p:cNvSpPr/>
          <p:nvPr/>
        </p:nvSpPr>
        <p:spPr>
          <a:xfrm>
            <a:off x="0" y="2709000"/>
            <a:ext cx="8987040" cy="431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5">
                    <a:lumMod val="10000"/>
                  </a:schemeClr>
                </a:solidFill>
                <a:latin typeface="Arial"/>
              </a:rPr>
              <a:t>10. Створчатые клапаны находятся в сосу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9"/>
          <p:cNvSpPr/>
          <p:nvPr/>
        </p:nvSpPr>
        <p:spPr>
          <a:xfrm>
            <a:off x="68760" y="3501360"/>
            <a:ext cx="8987040" cy="431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5">
                    <a:lumMod val="10000"/>
                  </a:schemeClr>
                </a:solidFill>
                <a:latin typeface="Arial"/>
              </a:rPr>
              <a:t>11. Трехстворчатый клапан расположен в правой части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0"/>
          <p:cNvSpPr/>
          <p:nvPr/>
        </p:nvSpPr>
        <p:spPr>
          <a:xfrm>
            <a:off x="140760" y="4293360"/>
            <a:ext cx="8987040" cy="431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5">
                    <a:lumMod val="10000"/>
                  </a:schemeClr>
                </a:solidFill>
                <a:latin typeface="Arial"/>
              </a:rPr>
              <a:t>12.Кровь может двигаться в сосудах только в одном направл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11"/>
          <p:cNvSpPr/>
          <p:nvPr/>
        </p:nvSpPr>
        <p:spPr>
          <a:xfrm>
            <a:off x="107640" y="5042520"/>
            <a:ext cx="8987040" cy="431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5">
                    <a:lumMod val="10000"/>
                  </a:schemeClr>
                </a:solidFill>
                <a:latin typeface="Arial"/>
              </a:rPr>
              <a:t>13. Полулунные клапаны находятся между предсердиями и желудо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2"/>
          <p:cNvSpPr/>
          <p:nvPr/>
        </p:nvSpPr>
        <p:spPr>
          <a:xfrm>
            <a:off x="68760" y="5870520"/>
            <a:ext cx="8987040" cy="431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5">
                    <a:lumMod val="10000"/>
                  </a:schemeClr>
                </a:solidFill>
                <a:latin typeface="Arial"/>
              </a:rPr>
              <a:t>14. Уменьшение просвета в коронарных артериях приводит к инфар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Двойная стрелка влево/вправо 13"/>
          <p:cNvSpPr/>
          <p:nvPr/>
        </p:nvSpPr>
        <p:spPr>
          <a:xfrm>
            <a:off x="3377160" y="1522800"/>
            <a:ext cx="2448000" cy="35964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Двойная стрелка влево/вправо 14"/>
          <p:cNvSpPr/>
          <p:nvPr/>
        </p:nvSpPr>
        <p:spPr>
          <a:xfrm>
            <a:off x="3407400" y="3141000"/>
            <a:ext cx="2448000" cy="35964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Двойная стрелка влево/вправо 15"/>
          <p:cNvSpPr/>
          <p:nvPr/>
        </p:nvSpPr>
        <p:spPr>
          <a:xfrm>
            <a:off x="3492000" y="3933360"/>
            <a:ext cx="2448000" cy="35964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Двойная стрелка влево/вправо 16"/>
          <p:cNvSpPr/>
          <p:nvPr/>
        </p:nvSpPr>
        <p:spPr>
          <a:xfrm>
            <a:off x="3526200" y="4725720"/>
            <a:ext cx="2448000" cy="35964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Двойная стрелка влево/вправо 17"/>
          <p:cNvSpPr/>
          <p:nvPr/>
        </p:nvSpPr>
        <p:spPr>
          <a:xfrm>
            <a:off x="3564000" y="5488560"/>
            <a:ext cx="2448000" cy="35964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Двойная стрелка влево/вправо 18"/>
          <p:cNvSpPr/>
          <p:nvPr/>
        </p:nvSpPr>
        <p:spPr>
          <a:xfrm>
            <a:off x="3407400" y="2350440"/>
            <a:ext cx="2448000" cy="35964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43 -0.00024 C -0.23143 0.00532 -0.18039 0.01017 -0.11806 0.01017 C -0.04462 0.01017 -0.01806 0.00485 -0.00694 0.00162 L 0.00468 -0.00255 C 0.01615 -0.00579 0.04427 -0.01064 0.12726 -0.01064 C 0.18039 -0.01064 0.24098 -0.00625 0.24098 -0.00024 C 0.24098 0.00532 0.18039 0.01017 0.12726 0.01017 C 0.04427 0.01017 0.01615 0.00485 0.00468 0.00162 L -0.00694 -0.00255 C -0.01806 -0.00579 -0.04462 -0.01064 -0.11806 -0.01064 C -0.18039 -0.01064 -0.23143 -0.00625 -0.23143 -0.00024 Z">
                                      <p:cBhvr>
                                        <p:cTn id="239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00324E-006 L 0.00885 0.69073 E">
                                      <p:cBhvr>
                                        <p:cTn id="243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48 -0.00556 C -0.19548 4.57783999999965E-006 -0.14948 0.00508 -0.09357 0.00508 C -0.02743 0.00508 -0.00347 -0.00024 0.0066 -0.00347 L 0.01702 -0.00787 C 0.02726 -0.01088 0.05261 -0.01597 0.12743 -0.01597 C 0.17535 -0.01597 0.22986 -0.01134 0.22986 -0.00556 C 0.22986 4.57783999999965E-006 0.17535 0.00508 0.12743 0.00508 C 0.05261 0.00508 0.02726 -0.00024 0.01702 -0.00347 L 0.0066 -0.00787 C -0.00347 -0.01088 -0.02743 -0.01597 -0.09357 -0.01597 C -0.14948 -0.01597 -0.19548 -0.01134 -0.19548 -0.00556 Z">
                                      <p:cBhvr>
                                        <p:cTn id="247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9098E-006 L 0.00868 0.57322 E">
                                      <p:cBhvr>
                                        <p:cTn id="25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75 0.00093 C -0.1875 0.0044 -0.14236 0.00741 -0.0875 0.00741 C -0.02257 0.00741 0.00105 0.00417 0.01094 0.00232 L 0.02118 -0.00046 C 0.03108 -0.00231 0.05608 -0.00532 0.12952 -0.00532 C 0.17639 -0.00532 0.22986 -0.00254 0.22986 0.00093 C 0.22986 0.0044 0.17639 0.00741 0.12952 0.00741 C 0.05608 0.00741 0.03108 0.00417 0.02118 0.00232 L 0.01094 -0.00046 C 0.00105 -0.00231 -0.02257 -0.00532 -0.0875 -0.00532 C -0.14236 -0.00532 -0.1875 -0.00254 -0.1875 0.00093 Z">
                                      <p:cBhvr>
                                        <p:cTn id="255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41198E-006 L 0.00104 -0.54175 E">
                                      <p:cBhvr>
                                        <p:cTn id="259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049 0.00093 C -0.22049 0.0044 -0.17031 0.0074 -0.10903 0.0074 C -0.03663 0.0074 -0.01059 0.00417 0.00052 0.00232 L 0.0118 -0.00046 C 0.02292 -0.00231 0.05087 -0.00532 0.13246 -0.00532 C 0.18472 -0.00532 0.24427 -0.00254 0.24427 0.00093 C 0.24427 0.0044 0.18472 0.0074 0.13246 0.0074 C 0.05087 0.0074 0.02292 0.00417 0.0118 0.00232 L 0.00052 -0.00046 C -0.01059 -0.00231 -0.03663 -0.00532 -0.10903 -0.00532 C -0.17031 -0.00532 -0.22049 -0.00254 -0.22049 0.00093 Z">
                                      <p:cBhvr>
                                        <p:cTn id="263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1214E-006 L -0.00677 -0.65718 E">
                                      <p:cBhvr>
                                        <p:cTn id="267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31 0.00093 C -0.21631 0.0044 -0.16961 0.0074 -0.1125 0.0074 C -0.04496 0.0074 -0.02066 0.00417 -0.01041 0.00231 L 0.00018 -0.00046 C 0.01059 -0.00231 0.03646 -0.00532 0.11268 -0.00532 C 0.16129 -0.00532 0.21684 -0.00254 0.21684 0.00093 C 0.21684 0.0044 0.16129 0.0074 0.11268 0.0074 C 0.03646 0.0074 0.01059 0.00417 0.00018 0.00231 L -0.01041 -0.00046 C -0.02066 -0.00231 -0.04496 -0.00532 -0.1125 -0.00532 C -0.16961 -0.00532 -0.21631 -0.00254 -0.21631 0.00093 Z">
                                      <p:cBhvr>
                                        <p:cTn id="271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-0.01457 L 5E-006 0.25006 E">
                                      <p:cBhvr>
                                        <p:cTn id="27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52 -0.00278 C -0.27552 0.00185 -0.22812 0.00578 -0.17014 0.00578 C -0.10173 0.00578 -0.07708 0.00138 -0.06667 -0.00116 L -0.05608 -0.00463 C -0.04548 -0.00718 -0.0191 -0.01134 0.05799 -0.01134 C 0.10729 -0.01134 0.16354 -0.00764 0.16354 -0.00278 C 0.16354 0.00185 0.10729 0.00578 0.05799 0.00578 C -0.0191 0.00578 -0.04548 0.00138 -0.05608 -0.00116 L -0.06667 -0.00463 C -0.07708 -0.00718 -0.10173 -0.01134 -0.17014 -0.01134 C -0.22812 -0.01134 -0.27552 -0.00764 -0.27552 -0.00278 Z">
                                      <p:cBhvr>
                                        <p:cTn id="27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10826E-006 L 0.00104 -0.88688 E">
                                      <p:cBhvr>
                                        <p:cTn id="283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delay="0" evt="onClick">
                    <p:tgtEl>
                      <p:spTgt spid="522"/>
                    </p:tgtEl>
                  </p:cond>
                </p:stCondLst>
                <p:childTnLst>
                  <p:par>
                    <p:cTn id="285" fill="hold">
                      <p:stCondLst>
                        <p:cond delay="0"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88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Таблица 4"/>
          <p:cNvGraphicFramePr/>
          <p:nvPr/>
        </p:nvGraphicFramePr>
        <p:xfrm>
          <a:off x="251640" y="1475640"/>
          <a:ext cx="8713440" cy="4679640"/>
        </p:xfrm>
        <a:graphic>
          <a:graphicData uri="http://schemas.openxmlformats.org/drawingml/2006/table">
            <a:tbl>
              <a:tblPr/>
              <a:tblGrid>
                <a:gridCol w="3315960"/>
                <a:gridCol w="3230280"/>
                <a:gridCol w="2166840"/>
              </a:tblGrid>
              <a:tr h="86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азы сердечного цик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8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ро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8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должи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ость фа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8cff"/>
                    </a:solidFill>
                  </a:tcPr>
                </a:tc>
              </a:tr>
              <a:tr h="129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кра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систо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едсерд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8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з предсердий в желуд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8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1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8cff"/>
                    </a:solidFill>
                  </a:tcPr>
                </a:tc>
              </a:tr>
              <a:tr h="129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кра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систо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желудоч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8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з желудочков в артер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 аор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8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3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8cff"/>
                    </a:solidFill>
                  </a:tcPr>
                </a:tc>
              </a:tr>
              <a:tr h="122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сслаб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диастола) предсердий и желудоч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8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з вен в предсер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 в желуд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8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4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8cff"/>
                    </a:solidFill>
                  </a:tcPr>
                </a:tc>
              </a:tr>
            </a:tbl>
          </a:graphicData>
        </a:graphic>
      </p:graphicFrame>
      <p:sp>
        <p:nvSpPr>
          <p:cNvPr id="540" name="Прямоугольник 5"/>
          <p:cNvSpPr/>
          <p:nvPr/>
        </p:nvSpPr>
        <p:spPr>
          <a:xfrm>
            <a:off x="2627640" y="116640"/>
            <a:ext cx="42300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Работа сердца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Сердечный цик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4"/>
          <p:cNvSpPr/>
          <p:nvPr/>
        </p:nvSpPr>
        <p:spPr>
          <a:xfrm>
            <a:off x="0" y="533520"/>
            <a:ext cx="9143640" cy="486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уморальная регуляция работы серд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ь сердца регулируется химическими вещест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ществом,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Times New Roman"/>
              </a:rPr>
              <a:t>тормозящим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у сердца, является 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Times New Roman"/>
              </a:rPr>
              <a:t>ацетилхолин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ru-RU" sz="3200" spc="-1" strike="noStrike">
                <a:solidFill>
                  <a:schemeClr val="accent2"/>
                </a:solidFill>
                <a:latin typeface="Times New Roman"/>
              </a:rPr>
              <a:t>Усилив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у сердца – </a:t>
            </a:r>
            <a:r>
              <a:rPr b="0" lang="ru-RU" sz="3200" spc="-1" strike="noStrike" u="sng">
                <a:solidFill>
                  <a:schemeClr val="accent2"/>
                </a:solidFill>
                <a:uFillTx/>
                <a:latin typeface="Times New Roman"/>
              </a:rPr>
              <a:t>адреналин</a:t>
            </a:r>
            <a:r>
              <a:rPr b="0" lang="ru-RU" sz="3200" spc="-1" strike="noStrike">
                <a:solidFill>
                  <a:schemeClr val="accent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Увелич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держания солей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кал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крови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угнет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0" lang="ru-RU" sz="3200" spc="-1" strike="noStrike">
                <a:solidFill>
                  <a:schemeClr val="accent2"/>
                </a:solidFill>
                <a:latin typeface="Times New Roman"/>
              </a:rPr>
              <a:t>каль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chemeClr val="accent2"/>
                </a:solidFill>
                <a:uFillTx/>
                <a:latin typeface="Times New Roman"/>
              </a:rPr>
              <a:t>усилив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94040" y="2444400"/>
            <a:ext cx="8049600" cy="702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vi-VN" sz="4200" spc="-1" strike="noStrike">
                <a:solidFill>
                  <a:srgbClr val="330033"/>
                </a:solidFill>
                <a:latin typeface="Times New Roman"/>
              </a:rPr>
              <a:t>АВТОМАТИ́Я СЕ́РДЦ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7640" y="3205080"/>
            <a:ext cx="7344360" cy="346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800" spc="-1" strike="noStrike" cap="all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800" spc="-1" strike="noStrike" cap="all">
                <a:solidFill>
                  <a:srgbClr val="7030a0"/>
                </a:solidFill>
                <a:latin typeface="Times New Roman"/>
              </a:rPr>
              <a:t>способность клеток сердца к самовозбуждению без каких-либо воздействий </a:t>
            </a:r>
            <a:r>
              <a:rPr b="0" lang="ru-RU" sz="1600" spc="-1" strike="noStrike" cap="all">
                <a:solidFill>
                  <a:srgbClr val="7030a0"/>
                </a:solidFill>
                <a:latin typeface="Times New Roman"/>
              </a:rPr>
              <a:t>извне.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600" spc="-1" strike="noStrike" cap="all">
                <a:solidFill>
                  <a:srgbClr val="7030a0"/>
                </a:solidFill>
                <a:latin typeface="Times New Roman"/>
              </a:rPr>
              <a:t>У плода человека первые сокращения сердца возникают на 19-й или 20-й день внутриутробного развития, все клетки которой способны к самовозбуждению.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Скругленный прямоугольник 3"/>
          <p:cNvSpPr/>
          <p:nvPr/>
        </p:nvSpPr>
        <p:spPr>
          <a:xfrm>
            <a:off x="143640" y="1551240"/>
            <a:ext cx="2088000" cy="431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буд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Скругленный прямоугольник 5"/>
          <p:cNvSpPr/>
          <p:nvPr/>
        </p:nvSpPr>
        <p:spPr>
          <a:xfrm>
            <a:off x="2394720" y="1595160"/>
            <a:ext cx="2088000" cy="431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Скругленный прямоугольник 6"/>
          <p:cNvSpPr/>
          <p:nvPr/>
        </p:nvSpPr>
        <p:spPr>
          <a:xfrm>
            <a:off x="4753080" y="1522080"/>
            <a:ext cx="2088000" cy="431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Скругленный прямоугольник 7"/>
          <p:cNvSpPr/>
          <p:nvPr/>
        </p:nvSpPr>
        <p:spPr>
          <a:xfrm>
            <a:off x="2339640" y="387360"/>
            <a:ext cx="4536000" cy="575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сердечной мыш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Скругленный прямоугольник 8"/>
          <p:cNvSpPr/>
          <p:nvPr/>
        </p:nvSpPr>
        <p:spPr>
          <a:xfrm>
            <a:off x="6920280" y="1481040"/>
            <a:ext cx="2088000" cy="431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т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Прямая со стрелкой 9"/>
          <p:cNvCxnSpPr/>
          <p:nvPr/>
        </p:nvCxnSpPr>
        <p:spPr>
          <a:xfrm flipH="1">
            <a:off x="1509840" y="976680"/>
            <a:ext cx="864360" cy="5047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550" name="Прямая со стрелкой 11"/>
          <p:cNvCxnSpPr/>
          <p:nvPr/>
        </p:nvCxnSpPr>
        <p:spPr>
          <a:xfrm>
            <a:off x="3438720" y="1011960"/>
            <a:ext cx="360" cy="32904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551" name="Прямая со стрелкой 13"/>
          <p:cNvCxnSpPr/>
          <p:nvPr/>
        </p:nvCxnSpPr>
        <p:spPr>
          <a:xfrm>
            <a:off x="5803200" y="1116720"/>
            <a:ext cx="360" cy="3463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552" name="Прямая со стрелкой 15"/>
          <p:cNvCxnSpPr/>
          <p:nvPr/>
        </p:nvCxnSpPr>
        <p:spPr>
          <a:xfrm>
            <a:off x="6920280" y="976680"/>
            <a:ext cx="936360" cy="4615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76760" cy="387648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лектрокардиограмма. 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4"/>
          <p:cNvSpPr/>
          <p:nvPr/>
        </p:nvSpPr>
        <p:spPr>
          <a:xfrm>
            <a:off x="5148000" y="5665680"/>
            <a:ext cx="3092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карди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"/>
          <p:cNvSpPr/>
          <p:nvPr/>
        </p:nvSpPr>
        <p:spPr>
          <a:xfrm>
            <a:off x="755640" y="908640"/>
            <a:ext cx="748836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рови перекачало ваше сердце за 45 минут сегодняшнего урока, если частота работы сердца  70 ударов в минуту, а за каждое сокращение сердце выбрасывает 150 мл кров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Прямоугольник 1"/>
          <p:cNvSpPr/>
          <p:nvPr/>
        </p:nvSpPr>
        <p:spPr>
          <a:xfrm>
            <a:off x="3025800" y="184320"/>
            <a:ext cx="6085800" cy="64929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Здоровое сердц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ить и не кур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ть достаточно времени для сна. Сон - основа здорового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волять никому оказывать на себя д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ть простую, натуральную пищу, и, что самое главное, не перееда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медленно и тщательно пережевывать пищ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заниматься физическими упражн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ать хорошие привы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ть искусственных стимуляторов - кофе, чая, алкоголя. Не верить разговорам о том, что алкоголь поможет вашему сердцу, - это неправ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ь! Дышать глубоко... И ходить, ходить, ход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ы и овощи должны составлять 50 % пищ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потреблять консервированные заменители саха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я эти несложные правила, вы сможете сохранить свое сердце здоров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https://www.theepochtimes.com/assets/uploads/2014/04/shutterstock_155219123heartWEB-ONLY-e1396638632976.jpg"/>
          <p:cNvPicPr/>
          <p:nvPr/>
        </p:nvPicPr>
        <p:blipFill>
          <a:blip r:embed="rId1"/>
          <a:stretch/>
        </p:blipFill>
        <p:spPr>
          <a:xfrm>
            <a:off x="251640" y="4869000"/>
            <a:ext cx="2267280" cy="1870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http://www.kartinkijane.ru/pic/201305/1920x1200/kartinkijane.ru-53838.jpg"/>
          <p:cNvPicPr/>
          <p:nvPr/>
        </p:nvPicPr>
        <p:blipFill>
          <a:blip r:embed="rId2"/>
          <a:stretch/>
        </p:blipFill>
        <p:spPr>
          <a:xfrm>
            <a:off x="108360" y="476640"/>
            <a:ext cx="2553480" cy="15958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" descr="http://classpic.ru/wp-content/uploads/Serdtse-s-krylyami-na-Den-Svyatogo-Valentina.jpg"/>
          <p:cNvPicPr/>
          <p:nvPr/>
        </p:nvPicPr>
        <p:blipFill>
          <a:blip r:embed="rId3"/>
          <a:stretch/>
        </p:blipFill>
        <p:spPr>
          <a:xfrm>
            <a:off x="108360" y="2493000"/>
            <a:ext cx="2736000" cy="15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1680" y="188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chemeClr val="accent2"/>
                </a:solidFill>
                <a:latin typeface="Times New Roman"/>
              </a:rPr>
              <a:t>Сердечно-сосудистые</a:t>
            </a:r>
            <a:r>
              <a:rPr b="0" lang="ru-RU" sz="3800" spc="-1" strike="noStrike">
                <a:solidFill>
                  <a:schemeClr val="accent2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chemeClr val="accent2"/>
                </a:solidFill>
                <a:latin typeface="Times New Roman"/>
              </a:rPr>
              <a:t>заболевания</a:t>
            </a: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91680" y="3390120"/>
            <a:ext cx="5482800" cy="3278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начале прошлого века от инфаркта сердца в России регистрировалось 11% от всех смертей. В середине 20 столетия - 25%. В начале 90-х – 50%. В 2007 году их число достигло 57% и продолжает держаться примерно на этом уровне.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132000" y="1628640"/>
            <a:ext cx="5544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статистике среди общей смертности в России сердечно-сосудистые заболевания составляют 53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7" descr="30216"/>
          <p:cNvPicPr/>
          <p:nvPr/>
        </p:nvPicPr>
        <p:blipFill>
          <a:blip r:embed="rId1"/>
          <a:stretch/>
        </p:blipFill>
        <p:spPr>
          <a:xfrm>
            <a:off x="0" y="1628640"/>
            <a:ext cx="2088000" cy="314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http://im4-tub-ua.yandex.net/i?id=105857874-14-72"/>
          <p:cNvPicPr/>
          <p:nvPr/>
        </p:nvPicPr>
        <p:blipFill>
          <a:blip r:embed="rId2"/>
          <a:stretch/>
        </p:blipFill>
        <p:spPr>
          <a:xfrm>
            <a:off x="385920" y="4155480"/>
            <a:ext cx="2599560" cy="2599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3"/>
          <a:stretch/>
        </p:blipFill>
        <p:spPr>
          <a:xfrm>
            <a:off x="7524360" y="248076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"/>
          <p:cNvPicPr/>
          <p:nvPr/>
        </p:nvPicPr>
        <p:blipFill>
          <a:blip r:embed="rId4"/>
          <a:stretch/>
        </p:blipFill>
        <p:spPr>
          <a:xfrm>
            <a:off x="7601040" y="394200"/>
            <a:ext cx="1542600" cy="1234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5"/>
          <a:stretch/>
        </p:blipFill>
        <p:spPr>
          <a:xfrm>
            <a:off x="-31680" y="1772640"/>
            <a:ext cx="308556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67640" y="1742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ольшинстве болезней виноваты не природа, не общество, а человек. Чаще всего он болеет от лени и жадности, но иногда и от неразумности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колай Амосов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6660360" y="4046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7380360" y="4237200"/>
            <a:ext cx="1614960" cy="2604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http://im2-tub-ua.yandex.net/i?id=158160520-24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640" y="69840"/>
            <a:ext cx="1828440" cy="14284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http://www.segodnya.ua/img/gallery/4031/39/425624_mai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3690720"/>
            <a:ext cx="230400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http://www.pravitelstvokbr.ru/k-br/kbr-maiN.Nsf/0/484943EDAD2161C0C3257B970028B520/$FILE/M6A3fDqYD0g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15640" y="4669920"/>
            <a:ext cx="34560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1"/>
          <p:cNvSpPr/>
          <p:nvPr/>
        </p:nvSpPr>
        <p:spPr>
          <a:xfrm>
            <a:off x="2339640" y="116640"/>
            <a:ext cx="4571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Система органов кровообра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431640" y="2853000"/>
            <a:ext cx="3816000" cy="1007640"/>
          </a:xfrm>
          <a:prstGeom prst="rect">
            <a:avLst/>
          </a:prstGeom>
          <a:solidFill>
            <a:srgbClr val="666699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ерд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5292000" y="2853000"/>
            <a:ext cx="3600000" cy="1079280"/>
          </a:xfrm>
          <a:prstGeom prst="rect">
            <a:avLst/>
          </a:prstGeom>
          <a:solidFill>
            <a:srgbClr val="666699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су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3852000" y="5150880"/>
            <a:ext cx="1944360" cy="649080"/>
          </a:xfrm>
          <a:prstGeom prst="rect">
            <a:avLst/>
          </a:prstGeom>
          <a:solidFill>
            <a:srgbClr val="666699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5796720" y="6021360"/>
            <a:ext cx="1439640" cy="576000"/>
          </a:xfrm>
          <a:prstGeom prst="rect">
            <a:avLst/>
          </a:prstGeom>
          <a:solidFill>
            <a:srgbClr val="666699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7380360" y="5150880"/>
            <a:ext cx="1692000" cy="576000"/>
          </a:xfrm>
          <a:prstGeom prst="rect">
            <a:avLst/>
          </a:prstGeom>
          <a:solidFill>
            <a:srgbClr val="666699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пилля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Прямая со стрелкой 9"/>
          <p:cNvCxnSpPr/>
          <p:nvPr/>
        </p:nvCxnSpPr>
        <p:spPr>
          <a:xfrm>
            <a:off x="5580000" y="1715040"/>
            <a:ext cx="936720" cy="9169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49" name="Прямая со стрелкой 13"/>
          <p:cNvCxnSpPr/>
          <p:nvPr/>
        </p:nvCxnSpPr>
        <p:spPr>
          <a:xfrm flipH="1">
            <a:off x="2555640" y="1715040"/>
            <a:ext cx="864360" cy="9169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50" name="Прямая со стрелкой 21"/>
          <p:cNvCxnSpPr/>
          <p:nvPr/>
        </p:nvCxnSpPr>
        <p:spPr>
          <a:xfrm>
            <a:off x="7668000" y="4084200"/>
            <a:ext cx="558720" cy="785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51" name="Прямая со стрелкой 25"/>
          <p:cNvCxnSpPr/>
          <p:nvPr/>
        </p:nvCxnSpPr>
        <p:spPr>
          <a:xfrm flipH="1">
            <a:off x="6660000" y="4149000"/>
            <a:ext cx="252000" cy="13266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52" name="Прямая со стрелкой 28"/>
          <p:cNvCxnSpPr/>
          <p:nvPr/>
        </p:nvCxnSpPr>
        <p:spPr>
          <a:xfrm flipH="1">
            <a:off x="5436000" y="4153680"/>
            <a:ext cx="936360" cy="658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1640" y="-33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волюция кровеносной системы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9640" y="155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8" descr="http://www.drofa.ru/files/presentations/visual/Contents/Biologiya/08_Evol_Org/Pictures/2062630.111%20copy.jpg"/>
          <p:cNvPicPr/>
          <p:nvPr/>
        </p:nvPicPr>
        <p:blipFill>
          <a:blip r:embed="rId1"/>
          <a:srcRect l="2318" t="9154" r="2111" b="4113"/>
          <a:stretch/>
        </p:blipFill>
        <p:spPr>
          <a:xfrm>
            <a:off x="-47520" y="836640"/>
            <a:ext cx="9191160" cy="58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755640" y="260640"/>
            <a:ext cx="8005320" cy="64044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3">
            <a:hlinkClick r:id="rId2" action="ppaction://hlinksldjump"/>
          </p:cNvPr>
          <p:cNvSpPr/>
          <p:nvPr/>
        </p:nvSpPr>
        <p:spPr>
          <a:xfrm>
            <a:off x="5261040" y="116640"/>
            <a:ext cx="3851640" cy="230400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Стр. 65. прочт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«Каково строение сердца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3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7640" y="277920"/>
            <a:ext cx="8352720" cy="918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очтите стр.65 «Каково строение сердца» </a:t>
            </a:r>
            <a:br>
              <a:rPr sz="24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3мин. Вставьте пропущенные слова в текст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:</a:t>
            </a:r>
            <a:br>
              <a:rPr sz="4200"/>
            </a:br>
            <a:br>
              <a:rPr sz="4200"/>
            </a:b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"/>
          <p:cNvSpPr/>
          <p:nvPr/>
        </p:nvSpPr>
        <p:spPr>
          <a:xfrm>
            <a:off x="179640" y="1628640"/>
            <a:ext cx="8964000" cy="2558520"/>
          </a:xfrm>
          <a:prstGeom prst="rect">
            <a:avLst/>
          </a:prstGeom>
          <a:solidFill>
            <a:srgbClr val="ffffe1"/>
          </a:solidFill>
          <a:ln>
            <a:solidFill>
              <a:srgbClr val="e7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Сердце человека расположено …………………. И немного смещено 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асса ………………. г.  Стенка сердца состоит из …….  слоёв.  Внутренний …………., мышечный- …………………………и  внешний - 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Снаружи окружено околосердечной ……………….- перикар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Предсердия – отделы сердца в которые кровь поступает из 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Желудочки – это отделы сердца из которых  кровь поступает в 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Сердце имеет …… клапана : …створчатых   и … полулу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6"/>
          <p:cNvSpPr/>
          <p:nvPr/>
        </p:nvSpPr>
        <p:spPr>
          <a:xfrm>
            <a:off x="3700080" y="1664640"/>
            <a:ext cx="1656000" cy="215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осере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7"/>
          <p:cNvSpPr/>
          <p:nvPr/>
        </p:nvSpPr>
        <p:spPr>
          <a:xfrm>
            <a:off x="7580880" y="1664640"/>
            <a:ext cx="1367640" cy="215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8"/>
          <p:cNvSpPr/>
          <p:nvPr/>
        </p:nvSpPr>
        <p:spPr>
          <a:xfrm>
            <a:off x="1043640" y="1989000"/>
            <a:ext cx="1439640" cy="215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250-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9"/>
          <p:cNvSpPr/>
          <p:nvPr/>
        </p:nvSpPr>
        <p:spPr>
          <a:xfrm>
            <a:off x="5580000" y="1989000"/>
            <a:ext cx="503640" cy="215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10"/>
          <p:cNvSpPr/>
          <p:nvPr/>
        </p:nvSpPr>
        <p:spPr>
          <a:xfrm>
            <a:off x="246600" y="2205000"/>
            <a:ext cx="1007640" cy="287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404040"/>
                </a:solidFill>
                <a:latin typeface="Arial"/>
              </a:rPr>
              <a:t>эндокар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11"/>
          <p:cNvSpPr/>
          <p:nvPr/>
        </p:nvSpPr>
        <p:spPr>
          <a:xfrm>
            <a:off x="2699640" y="2205000"/>
            <a:ext cx="2232000" cy="287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иок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2"/>
          <p:cNvSpPr/>
          <p:nvPr/>
        </p:nvSpPr>
        <p:spPr>
          <a:xfrm>
            <a:off x="6393600" y="2262960"/>
            <a:ext cx="2304000" cy="287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эпик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3"/>
          <p:cNvSpPr/>
          <p:nvPr/>
        </p:nvSpPr>
        <p:spPr>
          <a:xfrm>
            <a:off x="4284000" y="2550960"/>
            <a:ext cx="1295640" cy="22968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умкой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14"/>
          <p:cNvSpPr/>
          <p:nvPr/>
        </p:nvSpPr>
        <p:spPr>
          <a:xfrm>
            <a:off x="6725160" y="2758320"/>
            <a:ext cx="986040" cy="28152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15"/>
          <p:cNvSpPr/>
          <p:nvPr/>
        </p:nvSpPr>
        <p:spPr>
          <a:xfrm>
            <a:off x="7092360" y="3040200"/>
            <a:ext cx="1511640" cy="3164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ар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16"/>
          <p:cNvSpPr/>
          <p:nvPr/>
        </p:nvSpPr>
        <p:spPr>
          <a:xfrm>
            <a:off x="1833120" y="3357000"/>
            <a:ext cx="431640" cy="215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7"/>
          <p:cNvSpPr/>
          <p:nvPr/>
        </p:nvSpPr>
        <p:spPr>
          <a:xfrm>
            <a:off x="3435840" y="3357000"/>
            <a:ext cx="175680" cy="215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8"/>
          <p:cNvSpPr/>
          <p:nvPr/>
        </p:nvSpPr>
        <p:spPr>
          <a:xfrm>
            <a:off x="5220000" y="3357000"/>
            <a:ext cx="215640" cy="215640"/>
          </a:xfrm>
          <a:prstGeom prst="rect">
            <a:avLst/>
          </a:prstGeom>
          <a:solidFill>
            <a:srgbClr val="cccc99"/>
          </a:solidFill>
          <a:ln>
            <a:solidFill>
              <a:srgbClr val="96967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5224320" y="4041720"/>
            <a:ext cx="3919320" cy="28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8" descr="heart3"/>
          <p:cNvPicPr/>
          <p:nvPr/>
        </p:nvPicPr>
        <p:blipFill>
          <a:blip r:embed="rId1"/>
          <a:srcRect l="2673" t="9481" r="1417" b="5689"/>
          <a:stretch/>
        </p:blipFill>
        <p:spPr>
          <a:xfrm>
            <a:off x="1475640" y="692640"/>
            <a:ext cx="6480360" cy="5998320"/>
          </a:xfrm>
          <a:prstGeom prst="rect">
            <a:avLst/>
          </a:prstGeom>
          <a:ln w="9525">
            <a:noFill/>
          </a:ln>
        </p:spPr>
      </p:pic>
      <p:sp>
        <p:nvSpPr>
          <p:cNvPr id="477" name="Rectangle 9"/>
          <p:cNvSpPr/>
          <p:nvPr/>
        </p:nvSpPr>
        <p:spPr>
          <a:xfrm>
            <a:off x="755640" y="3188160"/>
            <a:ext cx="1942920" cy="1007640"/>
          </a:xfrm>
          <a:prstGeom prst="rect">
            <a:avLst/>
          </a:prstGeom>
          <a:solidFill>
            <a:srgbClr val="666699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сер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1475640" y="5778360"/>
            <a:ext cx="1942920" cy="1079280"/>
          </a:xfrm>
          <a:prstGeom prst="rect">
            <a:avLst/>
          </a:prstGeom>
          <a:solidFill>
            <a:srgbClr val="666699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елуд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3"/>
          <p:cNvSpPr/>
          <p:nvPr/>
        </p:nvSpPr>
        <p:spPr>
          <a:xfrm>
            <a:off x="6342480" y="2612520"/>
            <a:ext cx="1942920" cy="1079280"/>
          </a:xfrm>
          <a:prstGeom prst="rect">
            <a:avLst/>
          </a:prstGeom>
          <a:solidFill>
            <a:srgbClr val="666699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сер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6963480" y="5216040"/>
            <a:ext cx="1942920" cy="1152000"/>
          </a:xfrm>
          <a:prstGeom prst="rect">
            <a:avLst/>
          </a:prstGeom>
          <a:solidFill>
            <a:srgbClr val="666699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елуд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Прямая со стрелкой 7"/>
          <p:cNvCxnSpPr/>
          <p:nvPr/>
        </p:nvCxnSpPr>
        <p:spPr>
          <a:xfrm>
            <a:off x="6012000" y="4893120"/>
            <a:ext cx="951840" cy="6962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82" name="Прямая со стрелкой 10"/>
          <p:cNvCxnSpPr/>
          <p:nvPr/>
        </p:nvCxnSpPr>
        <p:spPr>
          <a:xfrm flipH="1">
            <a:off x="3464280" y="5581080"/>
            <a:ext cx="1252080" cy="648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83" name="Прямая со стрелкой 16"/>
          <p:cNvCxnSpPr/>
          <p:nvPr/>
        </p:nvCxnSpPr>
        <p:spPr>
          <a:xfrm flipH="1" flipV="1">
            <a:off x="5436000" y="3182040"/>
            <a:ext cx="906840" cy="108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84" name="Прямая со стрелкой 20"/>
          <p:cNvCxnSpPr/>
          <p:nvPr/>
        </p:nvCxnSpPr>
        <p:spPr>
          <a:xfrm>
            <a:off x="2698560" y="3933000"/>
            <a:ext cx="1391760" cy="9604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85" name="Rectangle 12"/>
          <p:cNvSpPr/>
          <p:nvPr/>
        </p:nvSpPr>
        <p:spPr>
          <a:xfrm>
            <a:off x="5724000" y="1238040"/>
            <a:ext cx="2853000" cy="657360"/>
          </a:xfrm>
          <a:prstGeom prst="rect">
            <a:avLst/>
          </a:prstGeom>
          <a:solidFill>
            <a:srgbClr val="666699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лу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п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Прямая со стрелкой 25"/>
          <p:cNvCxnSpPr/>
          <p:nvPr/>
        </p:nvCxnSpPr>
        <p:spPr>
          <a:xfrm flipH="1">
            <a:off x="5004000" y="1988640"/>
            <a:ext cx="885600" cy="16182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87" name="Прямая со стрелкой 31"/>
          <p:cNvCxnSpPr/>
          <p:nvPr/>
        </p:nvCxnSpPr>
        <p:spPr>
          <a:xfrm flipH="1">
            <a:off x="4716000" y="1988640"/>
            <a:ext cx="1144440" cy="11653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88" name="Rectangle 7"/>
          <p:cNvSpPr/>
          <p:nvPr/>
        </p:nvSpPr>
        <p:spPr>
          <a:xfrm>
            <a:off x="6480" y="4712040"/>
            <a:ext cx="2879280" cy="1007640"/>
          </a:xfrm>
          <a:prstGeom prst="rect">
            <a:avLst/>
          </a:prstGeom>
          <a:solidFill>
            <a:srgbClr val="666699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вор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п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Прямая со стрелкой 36"/>
          <p:cNvCxnSpPr/>
          <p:nvPr/>
        </p:nvCxnSpPr>
        <p:spPr>
          <a:xfrm flipV="1">
            <a:off x="2925720" y="5373000"/>
            <a:ext cx="1164600" cy="417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90" name="Прямая со стрелкой 41"/>
          <p:cNvCxnSpPr/>
          <p:nvPr/>
        </p:nvCxnSpPr>
        <p:spPr>
          <a:xfrm flipV="1">
            <a:off x="2925720" y="4195800"/>
            <a:ext cx="2718360" cy="1177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6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Вид клапанов сверх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Picture 4" descr="C:\Documents and Settings\Пользователь\Мои документы\Мои рисунки\213.jpg"/>
          <p:cNvPicPr/>
          <p:nvPr/>
        </p:nvPicPr>
        <p:blipFill>
          <a:blip r:embed="rId1"/>
          <a:stretch/>
        </p:blipFill>
        <p:spPr>
          <a:xfrm>
            <a:off x="1643040" y="1285920"/>
            <a:ext cx="5865480" cy="485748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4"/>
          <p:cNvSpPr/>
          <p:nvPr/>
        </p:nvSpPr>
        <p:spPr>
          <a:xfrm>
            <a:off x="2665440" y="6203880"/>
            <a:ext cx="38127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http://vvg666.ucoz.ua/load/1-1-0-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http://im3-tub-ua.yandex.net/i?id=301331412-35-72"/>
          <p:cNvPicPr/>
          <p:nvPr/>
        </p:nvPicPr>
        <p:blipFill>
          <a:blip r:embed="rId2"/>
          <a:stretch/>
        </p:blipFill>
        <p:spPr>
          <a:xfrm>
            <a:off x="7596360" y="5373360"/>
            <a:ext cx="1428480" cy="116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7_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7_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7_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3_Тема Office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Тема Office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6_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  <Words>696</Words>
  <Paragraphs>1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1T04:32:21Z</dcterms:created>
  <dc:creator>Эльвира</dc:creator>
  <dc:description/>
  <dc:language>en-US</dc:language>
  <cp:lastModifiedBy>Admin</cp:lastModifiedBy>
  <dcterms:modified xsi:type="dcterms:W3CDTF">2018-01-07T13:17:26Z</dcterms:modified>
  <cp:revision>73</cp:revision>
  <dc:subject/>
  <dc:title>Кровообращ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