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C5C-66E7-4445-976A-5D98663B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631-1D87-4666-B083-8DBE82BC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BB3-469F-42DA-99CE-4F6304A5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CFF-B733-4E9A-85F8-5AB7DC96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9E8-5892-4C90-BC01-753BC93C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13E-7990-42B6-96C2-31FEDC11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CE6-696E-413E-8ACF-E24C0E92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9C9-164D-4D19-9EA4-F2053DE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D01-661F-4799-B8E2-FFB35B2E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92E-2ABC-4516-9D53-1DBDD75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694-A7FC-448C-A026-5E6CE02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258-0C2C-486F-BE51-DEBB498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A028-7B3A-4615-AB49-A23278E54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94560" y="4160520"/>
            <a:ext cx="3927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ю 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ховская С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974680" y="1674720"/>
            <a:ext cx="805500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Формирование умения работать с учебником в начальной школе 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chool2nick.tsn.lokos.net/images/raspisanie/fgos.jpg"/>
          <p:cNvPicPr/>
          <p:nvPr/>
        </p:nvPicPr>
        <p:blipFill>
          <a:blip r:embed="rId1"/>
          <a:srcRect l="20221" t="0" r="15473" b="0"/>
          <a:stretch/>
        </p:blipFill>
        <p:spPr>
          <a:xfrm>
            <a:off x="8783640" y="4448160"/>
            <a:ext cx="3147840" cy="2235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"/>
          <p:cNvPicPr/>
          <p:nvPr/>
        </p:nvPicPr>
        <p:blipFill>
          <a:blip r:embed="rId2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1320" y="330120"/>
            <a:ext cx="878688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125880" y="1347840"/>
            <a:ext cx="880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ОС говориться что ученик должен уметь: искать, анализировать, преобразовывать и применять информацию, а так же говориться, что любой современный человек должен самообразовываться, то есть быть готовым конструировать и осуществлять собственную образовательную траекторию на протяжении всей жизни, обеспечивая успешность и конкурентоспособ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image.slidesharecdn.com/4m2d-150826133500-lva1-app6892/95/4-m2-d-1-638.jpg?cb=1440596733"/>
          <p:cNvPicPr/>
          <p:nvPr/>
        </p:nvPicPr>
        <p:blipFill>
          <a:blip r:embed="rId1"/>
          <a:stretch/>
        </p:blipFill>
        <p:spPr>
          <a:xfrm rot="17170800">
            <a:off x="8681040" y="4788360"/>
            <a:ext cx="1547640" cy="2073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opt.intser.ru/70905-thickbox_default/russkii_jazyk_2_kl_buneev_fgos.jpg"/>
          <p:cNvPicPr/>
          <p:nvPr/>
        </p:nvPicPr>
        <p:blipFill>
          <a:blip r:embed="rId2"/>
          <a:srcRect l="20420" t="11373" r="20091" b="3867"/>
          <a:stretch/>
        </p:blipFill>
        <p:spPr>
          <a:xfrm rot="19974600">
            <a:off x="9256680" y="4016160"/>
            <a:ext cx="1503360" cy="2141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3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1320" y="330120"/>
            <a:ext cx="878688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учебник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4003560" y="1185840"/>
            <a:ext cx="755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 — книга, содержащая систематическое изложение знаний в определённой области и используемая как в системе образования, на различных её уровнях, так и для самостоятельного об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virtualacademy.ru/files/shop/f_559fca4b6b685.jpg"/>
          <p:cNvPicPr/>
          <p:nvPr/>
        </p:nvPicPr>
        <p:blipFill>
          <a:blip r:embed="rId4"/>
          <a:srcRect l="8667" t="0" r="2079" b="1398"/>
          <a:stretch/>
        </p:blipFill>
        <p:spPr>
          <a:xfrm>
            <a:off x="10393200" y="3747960"/>
            <a:ext cx="16369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rushkolnik.ru/tw_files2/urls_3/897/d-896317/7z-docs/2_html_m44b8ac2a.jpg"/>
          <p:cNvPicPr/>
          <p:nvPr/>
        </p:nvPicPr>
        <p:blipFill>
          <a:blip r:embed="rId1"/>
          <a:srcRect l="2839" t="1989" r="4863" b="1330"/>
          <a:stretch/>
        </p:blipFill>
        <p:spPr>
          <a:xfrm>
            <a:off x="8132760" y="3984480"/>
            <a:ext cx="3956040" cy="2800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11320" y="330120"/>
            <a:ext cx="878688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работы с учебником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3541680" y="1185840"/>
            <a:ext cx="80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бота с учебником способствует развитию у школьников самостоятельности в познавательной деятельности. Кроме того основным и главным источником знаний в процессе самообразования будет книга, к работе с книгой ребят надо готовить со школьной скамьи, при чем готовить преимущественно в классе, под руководством учителя, задача каждого учителя – научить детей самостоятельно работать с учебником, уметь пользоваться всеми заданиями учеб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55720" y="138240"/>
            <a:ext cx="87868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 работы с учебником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ttp://www.tutor4languages.co.uk/images/slider/rs/joanlow2.png"/>
          <p:cNvPicPr/>
          <p:nvPr/>
        </p:nvPicPr>
        <p:blipFill>
          <a:blip r:embed="rId2"/>
          <a:srcRect l="30077" t="0" r="0" b="0"/>
          <a:stretch/>
        </p:blipFill>
        <p:spPr>
          <a:xfrm>
            <a:off x="9307440" y="3187800"/>
            <a:ext cx="2637000" cy="3670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3475080" y="1655640"/>
            <a:ext cx="787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этап работы с учебником начинается с мобилизации внимания, активизации восприятия его содержания. Перед изучением новой главы или раздела сначала задаём вопросы: Как вы думаете , о чём пойдёт реч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н работы с главой или темой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главы или темы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ходим знакомые слова (термин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м предположения (гипотез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ряем правильность наших предпо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6"/>
          <p:cNvSpPr/>
          <p:nvPr/>
        </p:nvSpPr>
        <p:spPr>
          <a:xfrm>
            <a:off x="3819600" y="1184400"/>
            <a:ext cx="76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 и приёмы работы с тек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текста с выделением главных мыс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текста и составление плана прочитанно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ответа по составленному план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текста учащимися и разбиение его на составные ча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ментированное чтение текста (вопросы при этом могут быть следующими. Что из прочитанного вам уже известно? Что нового вы узнали? Как выделены в тексте новые понятия? Ответы на эти вопросы помогают научить учеников ориентироваться в тексте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ные и письменные ответы на вопросы к текст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еление терминов и их определ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сь терминологического тек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лнение таблиц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сх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62320" y="414000"/>
            <a:ext cx="878688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- работа с текстом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Picture 2" descr="http://z36.d.sdska.ru/2-z36-955c66ea-1a90-4803-9335-355f4529800c.jpg"/>
          <p:cNvPicPr/>
          <p:nvPr/>
        </p:nvPicPr>
        <p:blipFill>
          <a:blip r:embed="rId2"/>
          <a:srcRect l="6024" t="20803" r="6443" b="0"/>
          <a:stretch/>
        </p:blipFill>
        <p:spPr>
          <a:xfrm>
            <a:off x="8286840" y="4176720"/>
            <a:ext cx="3503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patriot24.net/cache/1024/1395931268_d09bf41544a3365a46c9077ebb5e35c3.jpg"/>
          <p:cNvPicPr/>
          <p:nvPr/>
        </p:nvPicPr>
        <p:blipFill>
          <a:blip r:embed="rId1"/>
          <a:srcRect l="9862" t="14156" r="0" b="0"/>
          <a:stretch/>
        </p:blipFill>
        <p:spPr>
          <a:xfrm>
            <a:off x="7950240" y="4241880"/>
            <a:ext cx="3686040" cy="2344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62320" y="414000"/>
            <a:ext cx="878688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- работа с текстом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965400" y="1800360"/>
            <a:ext cx="7670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вопросов к текст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рассказ о герое, событ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ир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работе с текстом можно давать дифференцированные 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ям с художественными наклонностями предложить иллюстр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узыкантам» –подобрать музыкальный ря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ям с развитым чувством языка – подготовить устное словесное рис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http://ic.pics.livejournal.com/wasin/39853050/417491/417491_900.jpg"/>
          <p:cNvPicPr/>
          <p:nvPr/>
        </p:nvPicPr>
        <p:blipFill>
          <a:blip r:embed="rId1"/>
          <a:stretch/>
        </p:blipFill>
        <p:spPr>
          <a:xfrm>
            <a:off x="5902200" y="4506840"/>
            <a:ext cx="3059280" cy="209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2"/>
          <a:srcRect l="54254" t="0" r="7470" b="0"/>
          <a:stretch/>
        </p:blipFill>
        <p:spPr>
          <a:xfrm>
            <a:off x="0" y="0"/>
            <a:ext cx="2655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4"/>
          <p:cNvSpPr/>
          <p:nvPr/>
        </p:nvSpPr>
        <p:spPr>
          <a:xfrm>
            <a:off x="3268800" y="1916280"/>
            <a:ext cx="878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работать с учебником помогает обучающему работать и с другими источниками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68440" y="499680"/>
            <a:ext cx="878508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6" descr="http://digee.ru/adpics/4c2ed8b0c1493d27d2000e3f9.jpg"/>
          <p:cNvPicPr/>
          <p:nvPr/>
        </p:nvPicPr>
        <p:blipFill>
          <a:blip r:embed="rId3"/>
          <a:srcRect l="6134" t="17546" r="5826" b="4826"/>
          <a:stretch/>
        </p:blipFill>
        <p:spPr>
          <a:xfrm>
            <a:off x="8663040" y="3186000"/>
            <a:ext cx="2762280" cy="170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ttp://www.vorobiov.com/upload/iblock/6c4/z_zurnal02.jpg"/>
          <p:cNvPicPr/>
          <p:nvPr/>
        </p:nvPicPr>
        <p:blipFill>
          <a:blip r:embed="rId4"/>
          <a:stretch/>
        </p:blipFill>
        <p:spPr>
          <a:xfrm>
            <a:off x="3014640" y="29592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6T17:03:38Z</dcterms:created>
  <dc:creator>Алексей Осуховский</dc:creator>
  <dc:description/>
  <dc:language>en-US</dc:language>
  <cp:lastModifiedBy>Алексей Осуховский</cp:lastModifiedBy>
  <dcterms:modified xsi:type="dcterms:W3CDTF">2016-01-17T16:47:01Z</dcterms:modified>
  <cp:revision>37</cp:revision>
  <dc:subject/>
  <dc:title>Работа с учебником</dc:title>
</cp:coreProperties>
</file>