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wmf" ContentType="image/x-wmf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485-F88A-44A6-8326-5C1206DF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555-7ABE-48A3-B0FE-8AB41605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136-3CB9-4D68-979B-E6042259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058-A3A8-464E-B339-A1BAD942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73C1-96F2-466F-AC02-38315E2C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B139-144F-472D-A871-D0C17C89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89C0-0163-4B14-8EA6-405F2464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2121-866C-43DD-BDEB-1755B9CD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E90F-72AB-44AE-9FBD-6337461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F3E0-F5F6-4B65-AFB0-8FF4FB07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90B4-64E7-406C-9A1E-0805B512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D0F-6D56-4667-B04B-9D4BAE1A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E80E-15D2-4613-A89E-AF927D47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5C20-88A0-42DA-885C-B51372DD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F87B-40D4-460A-8BF0-5B0D8FCD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2186-27A7-4510-BC03-13500D79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0E27-A99D-4FFF-AC5E-967B0431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9319-0E52-48C2-B6EA-AE6BA612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D5FB-D18F-4279-B19E-48A9998A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D046-6A76-4183-9806-C27C22CF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DD6C-340A-4FAB-B4D1-626E6747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6DEB-F0D5-4B62-8F6F-A3B359AB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1DF-23E4-4406-9B71-04641048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2D44-1484-43AE-B710-D49900DC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6AD4-92CC-4B4B-BD57-B24D7DB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7AC0-D2BB-437E-87DF-21566BFE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1D90-5D47-4F1E-9B75-5CEA8CC2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365E2-77F9-4A6E-BE77-1C478D44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7EF4-1F04-49DE-892F-411078E8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9683-B053-44B0-B2F2-0E296C4F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CE0-AF4A-4129-9269-C7F581E2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9BF-658C-4559-B5D8-5A5ABE5A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3C8-AF4D-4BEB-94C5-0B0A72F4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D46-34F4-4785-A057-BD8A22B0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4FB-34A3-413D-B086-278ADF6A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FB2-46F6-40E1-8173-105491C0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E612-7FED-4F19-9796-1A3414649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91D7-02C3-4CAC-8461-D43A108A1B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B592-9B4E-4E73-AFE7-CD0308493EF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9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Обобщение опыта работы по теме: «Социально-нравственное развитие детей младшего дошкольного возраста в системе целостного развития.»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спитателя МДОУ «Радуга» Гусенковой А.В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2012 год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7" descr="Изображение 538"/>
          <p:cNvPicPr/>
          <p:nvPr/>
        </p:nvPicPr>
        <p:blipFill>
          <a:blip r:embed="rId1"/>
          <a:stretch/>
        </p:blipFill>
        <p:spPr>
          <a:xfrm>
            <a:off x="1714680" y="1928880"/>
            <a:ext cx="617688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4500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ы организации развивающей среды у дошкольников освещены в трудах  отечественных учёных двадцатого столетия: Н.А.Ветлугиной, Л.А.Венгера, Л.С.Выготского, Д.Б.Эльконина и друг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метно-развивающая среда должна выполнять образовательную, развивающую, стимулирующую, коммуникативную функции. Но самое главное, она должна работать на развитие самостоятельности и самодеятельности. При отборе предметного содержания я ориентируюсь на зону ближайшего разви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группе оборудованы следующие уголки и зо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055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культурный угол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8" name="Picture 11" descr="Изображение 662"/>
          <p:cNvPicPr/>
          <p:nvPr/>
        </p:nvPicPr>
        <p:blipFill>
          <a:blip r:embed="rId1"/>
          <a:stretch/>
        </p:blipFill>
        <p:spPr>
          <a:xfrm>
            <a:off x="4991040" y="1125360"/>
            <a:ext cx="35323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гровые зоны для сюжетно-ролевых игр, уголок художественной литературы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0" name="Picture 20" descr="Изображение 664"/>
          <p:cNvPicPr/>
          <p:nvPr/>
        </p:nvPicPr>
        <p:blipFill>
          <a:blip r:embed="rId1"/>
          <a:stretch/>
        </p:blipFill>
        <p:spPr>
          <a:xfrm>
            <a:off x="5508720" y="1916280"/>
            <a:ext cx="2735280" cy="20509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21"/>
          <p:cNvSpPr/>
          <p:nvPr/>
        </p:nvSpPr>
        <p:spPr>
          <a:xfrm>
            <a:off x="673200" y="596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Picture 22" descr="Изображение 661"/>
          <p:cNvPicPr/>
          <p:nvPr/>
        </p:nvPicPr>
        <p:blipFill>
          <a:blip r:embed="rId2"/>
          <a:stretch/>
        </p:blipFill>
        <p:spPr>
          <a:xfrm>
            <a:off x="1042920" y="1916280"/>
            <a:ext cx="2737080" cy="20523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5" descr="Изображение 547"/>
          <p:cNvPicPr/>
          <p:nvPr/>
        </p:nvPicPr>
        <p:blipFill>
          <a:blip r:embed="rId3"/>
          <a:stretch/>
        </p:blipFill>
        <p:spPr>
          <a:xfrm>
            <a:off x="1733400" y="4114800"/>
            <a:ext cx="1646280" cy="2193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6" descr="Изображение 659"/>
          <p:cNvPicPr/>
          <p:nvPr/>
        </p:nvPicPr>
        <p:blipFill>
          <a:blip r:embed="rId4"/>
          <a:stretch/>
        </p:blipFill>
        <p:spPr>
          <a:xfrm>
            <a:off x="5924520" y="4114800"/>
            <a:ext cx="17542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голок сенсомоторного развития и уголок театрализованной деятельност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6" name="Picture 6" descr="Изображение 658"/>
          <p:cNvPicPr/>
          <p:nvPr/>
        </p:nvPicPr>
        <p:blipFill>
          <a:blip r:embed="rId1"/>
          <a:stretch/>
        </p:blipFill>
        <p:spPr>
          <a:xfrm>
            <a:off x="933480" y="198108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Изображение 660"/>
          <p:cNvPicPr/>
          <p:nvPr/>
        </p:nvPicPr>
        <p:blipFill>
          <a:blip r:embed="rId2"/>
          <a:stretch/>
        </p:blipFill>
        <p:spPr>
          <a:xfrm>
            <a:off x="512460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голки изодеятельности, уединения и экологического воспитан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9" name="Picture 7" descr="Изображение 663"/>
          <p:cNvPicPr/>
          <p:nvPr/>
        </p:nvPicPr>
        <p:blipFill>
          <a:blip r:embed="rId1"/>
          <a:stretch/>
        </p:blipFill>
        <p:spPr>
          <a:xfrm>
            <a:off x="115560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Изображение 665"/>
          <p:cNvPicPr/>
          <p:nvPr/>
        </p:nvPicPr>
        <p:blipFill>
          <a:blip r:embed="rId2"/>
          <a:stretch/>
        </p:blipFill>
        <p:spPr>
          <a:xfrm>
            <a:off x="115560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Изображение 548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вязи с расширением и реформированием процесса воспитания на основе традиционных ценностей и здоровьесберегающих технологий, развивающая среда создаётся не только в группах, но и в рекреациях нашего детского сада. Одухотворённое детское игровое пространство ярко выражено в «Русской избе». На занятиях в «Русской избе» педагоги действенно реализуют истоковые технологии, которые помогают детям увидеть, услышать и почувствовать самобытность родной культуры и жизненного уклада, позволяют им усваивать правила доброй и благочестивой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7" descr="Изображение 550"/>
          <p:cNvPicPr/>
          <p:nvPr/>
        </p:nvPicPr>
        <p:blipFill>
          <a:blip r:embed="rId1"/>
          <a:stretch/>
        </p:blipFill>
        <p:spPr>
          <a:xfrm>
            <a:off x="4648320" y="593640"/>
            <a:ext cx="40384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459280" y="-521208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0755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гровая деятельность дет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дошкольном возрасте наиболее близкой и понятной для ребёнка деятельностью является игра. Игра вызывает в его психике качественные измен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дактическая игра выступает как средство всестороннего воспитания личности, одно из главных сторон является нравственное воспита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 дошкольников формируется нравственное представление о бережном отношении к окружающим предметам, игрушкам, как продуктом труда взрослых, о нормах поведения, о взаимоотношении со сверстниками и взрослыми, о положительных и отрицательных качествах личности ребёнка. Особая роль принадлежит содержанию и правилам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воей работе использую следующие дидактические игры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Накорми животное»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Чьи детки?»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Кому что нужно для работы?»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Профессии»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Логические цепочки»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Кому грустно? Кому весело?»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7" name="Picture 4" descr="Изображение 632"/>
          <p:cNvPicPr/>
          <p:nvPr/>
        </p:nvPicPr>
        <p:blipFill>
          <a:blip r:embed="rId1"/>
          <a:stretch/>
        </p:blipFill>
        <p:spPr>
          <a:xfrm>
            <a:off x="4870440" y="3260880"/>
            <a:ext cx="34434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3560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ую игры-упражнения: «Ласковые дети», «Ладошки», «Подарок другу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ь: развитие способностей детей познавать себя и друг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Цветовое настроение», «Маски», «Мы артисты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ь: развитие эмоциональной осведомлённости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Угадай, кто я», «Зоопарк», «Где мы были, мы не скажем, а что делали- покажем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ь: овладение невербальными средствами общ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Подари цветок», «Молчанк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ь: овладение детьми вербальными средствами общ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ак нам быть?», «Разговор по телефону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ь: овладение правилами пользования речью в различных ситуац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4" descr="Изображение 638"/>
          <p:cNvPicPr/>
          <p:nvPr/>
        </p:nvPicPr>
        <p:blipFill>
          <a:blip r:embed="rId1"/>
          <a:stretch/>
        </p:blipFill>
        <p:spPr>
          <a:xfrm>
            <a:off x="4643280" y="1268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0" name="WordArt 7"/>
          <p:cNvSpPr txBox="1"/>
          <p:nvPr/>
        </p:nvSpPr>
        <p:spPr>
          <a:xfrm>
            <a:off x="4572000" y="4437000"/>
            <a:ext cx="428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овое упражнение "Делаем вот так"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одвижных играх дети не только развивают физические качества, но и учатся подчинятся правилам игры, действовать сообща, уважительно относится друг к дру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ладшем возрасте используются следующие подвижные игры и игры малой подвиж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Огуречик, огуречик», «Лохматый пёс», «Кот и мыши», «Каравай», «Пузырь», «Подарки», «Солнышко и дожди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2" name="Picture 4" descr="Изображение 545"/>
          <p:cNvPicPr/>
          <p:nvPr/>
        </p:nvPicPr>
        <p:blipFill>
          <a:blip r:embed="rId1"/>
          <a:stretch/>
        </p:blipFill>
        <p:spPr>
          <a:xfrm>
            <a:off x="2484360" y="2708280"/>
            <a:ext cx="4106880" cy="273852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1835280" y="5661000"/>
            <a:ext cx="60483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захлопали в ладоши, очень рады солнышку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льчиковые игры расслабляют детей, снимают напряжение, развивают мелкую мускулатуру рук, речь и памя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Picture 4" descr="Изображение 546"/>
          <p:cNvPicPr/>
          <p:nvPr/>
        </p:nvPicPr>
        <p:blipFill>
          <a:blip r:embed="rId1"/>
          <a:stretch/>
        </p:blipFill>
        <p:spPr>
          <a:xfrm>
            <a:off x="2124000" y="1557360"/>
            <a:ext cx="4772160" cy="3573360"/>
          </a:xfrm>
          <a:prstGeom prst="rect">
            <a:avLst/>
          </a:prstGeom>
          <a:ln w="0">
            <a:noFill/>
          </a:ln>
        </p:spPr>
      </p:pic>
      <p:sp>
        <p:nvSpPr>
          <p:cNvPr id="476" name="WordArt 5"/>
          <p:cNvSpPr txBox="1"/>
          <p:nvPr/>
        </p:nvSpPr>
        <p:spPr>
          <a:xfrm>
            <a:off x="1619280" y="5445000"/>
            <a:ext cx="59436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учиваем пальчиковую игру "Семь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532720" y="-5143680"/>
            <a:ext cx="309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8" name="Picture 19" descr="Изображение 524"/>
          <p:cNvPicPr/>
          <p:nvPr/>
        </p:nvPicPr>
        <p:blipFill>
          <a:blip r:embed="rId1"/>
          <a:stretch/>
        </p:blipFill>
        <p:spPr>
          <a:xfrm>
            <a:off x="5292720" y="260280"/>
            <a:ext cx="2897280" cy="21733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южетно-ролевая игра имеет важнейшее значение для формирования личности ребё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-первых, воспитывается умение подчинять одни желания другим; во-вторых, выделяются главные второстепенные желания. Можно сказать дошкольная игра- школа морали в действии. В группе имеются и постоянно пополняются атрибутами следующие сюжетно-ролевые игры: «Больница», «Парикмахерская», «Магазин», «Семья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WordArt 20"/>
          <p:cNvSpPr txBox="1"/>
          <p:nvPr/>
        </p:nvSpPr>
        <p:spPr>
          <a:xfrm>
            <a:off x="4572000" y="2565360"/>
            <a:ext cx="43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тельный доктор обязательно вылечит больную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1" name="Picture 24" descr="Изображение 587"/>
          <p:cNvPicPr/>
          <p:nvPr/>
        </p:nvPicPr>
        <p:blipFill>
          <a:blip r:embed="rId2"/>
          <a:stretch/>
        </p:blipFill>
        <p:spPr>
          <a:xfrm>
            <a:off x="5435640" y="3284640"/>
            <a:ext cx="2952720" cy="2214360"/>
          </a:xfrm>
          <a:prstGeom prst="rect">
            <a:avLst/>
          </a:prstGeom>
          <a:ln w="0">
            <a:noFill/>
          </a:ln>
        </p:spPr>
      </p:pic>
      <p:sp>
        <p:nvSpPr>
          <p:cNvPr id="482" name="WordArt 25"/>
          <p:cNvSpPr txBox="1"/>
          <p:nvPr/>
        </p:nvSpPr>
        <p:spPr>
          <a:xfrm>
            <a:off x="4140360" y="5734080"/>
            <a:ext cx="4752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иентка останется довольна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уальность тем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е века люди высоко ценили нравственную воспитанность . Глубокие социально-экономические преобразования, происходящие в современном мире , заставляют размышлять о будущем России, о её подрастающем поколении. Поэтому актуальность проблемы нравственного воспитания дошкольников связана, по крайней мере, с тремя положениям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-первых, в современном мире маленький человек живёт и развивается, окружённый множеством разнообразных источников сильного воздействия на него как позитивного, так и негативного характера, которые ежедневно обрушиваются на неокрепший интеллект ребёнка, на ещё только формирующуюся сферу нравствен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-вторых, вооружение нравственными знаниями важно потому, что они не только информируют дошкольников о нормах поведения, утверждаемых в современном обществе, но и дают представления о последствиях данного поступка для них самих и окружающих люд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-третьих, наше общество нуждается в подготовке широко образованных, высоко нравственных людей, обладающих не только знаниями, но и прекрасными чертами лич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 как дошкольный возраст – это особый, самый благоприятный период для закладки и развития многогранных свойств и качеств личности, то мне, как воспитателю младшей группы, кажется весьма актуальной тема: «Социально-нравственное развитие детей младшего дошкольного возраста в системе целостного развития.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8000" y="-4462200"/>
            <a:ext cx="45396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обо хочется выделить значение игр-драматизаций в социально-нравственном воспитании дошкольников. Детей привлекает внутренняя, эмоциональная насыщенность литературных сюжетов, конкретные активные действия персонажей. Дети эмоционально осваивают литературное произведение, проникают во внутренний смысл поступков героев, у них формируется оценочное отношение к геро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тературное произведение сближает ребенка с литературным персонажем, активизирует процессы формирования сопереживания, сочувствия, содействия, способствует становлению нравственных мотивов повед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нимаясь театрализованной деятельностью с детьми, я стараюсь вовлекать их в интересный, творческий процесс, где они раскрепощаются, учатся объективно оценивать себя и других, чувствовать истинное и фальш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5" name="Picture 9" descr="Изображение 544"/>
          <p:cNvPicPr/>
          <p:nvPr/>
        </p:nvPicPr>
        <p:blipFill>
          <a:blip r:embed="rId1"/>
          <a:stretch/>
        </p:blipFill>
        <p:spPr>
          <a:xfrm>
            <a:off x="2700360" y="3500280"/>
            <a:ext cx="2610000" cy="1957680"/>
          </a:xfrm>
          <a:prstGeom prst="rect">
            <a:avLst/>
          </a:prstGeom>
          <a:ln w="0">
            <a:noFill/>
          </a:ln>
        </p:spPr>
      </p:pic>
      <p:sp>
        <p:nvSpPr>
          <p:cNvPr id="486" name="WordArt 13"/>
          <p:cNvSpPr txBox="1"/>
          <p:nvPr/>
        </p:nvSpPr>
        <p:spPr>
          <a:xfrm>
            <a:off x="1835280" y="5661000"/>
            <a:ext cx="4848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юбимая сказка "Теремок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чевое развитие детей во взаимосвязи с задачами нравственного воспита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еседы, просмотр инсценировок, где участвуют любые персонажи с обязательной оценкой их поступков, чтение художественной литературы, рассматривание и обсуждение картин и иллюстраций – эти приёмы воздействуют на эмоциональный и волевой действенно-практический компоненты личности ребёнка, поддерживают у него желание поступать правильно, содействуют формированию привычек нравственного пове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емы проводимых бесед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Хорошо, когда есть брат или сестр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Ты болеешь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Как быть послушным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Чем порадовать друг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Вежливые дет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равственные категории, как добро и зло, хорошо и плохо, можно и нельзя формирую с помощью народных сказок. Сказки помогают показат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как дружба помогает победить зло(«Зимовье»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ак добрые и трудолюбивые побеждают(«Волк и семеро козлят»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что зло наказуемо(«Волк и семеро козлят»,!»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казка не даёт прямых наставлений, но в её содержании всегда заложен урок, который дети постепенно воспринимают, многократно возвращаясь к тексту сказ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8" name="Picture 4" descr="Изображение 649"/>
          <p:cNvPicPr/>
          <p:nvPr/>
        </p:nvPicPr>
        <p:blipFill>
          <a:blip r:embed="rId1"/>
          <a:stretch/>
        </p:blipFill>
        <p:spPr>
          <a:xfrm>
            <a:off x="4572000" y="1557360"/>
            <a:ext cx="3168720" cy="2232000"/>
          </a:xfrm>
          <a:prstGeom prst="rect">
            <a:avLst/>
          </a:prstGeom>
          <a:ln w="0">
            <a:noFill/>
          </a:ln>
        </p:spPr>
      </p:pic>
      <p:sp>
        <p:nvSpPr>
          <p:cNvPr id="489" name="WordArt 5"/>
          <p:cNvSpPr txBox="1"/>
          <p:nvPr/>
        </p:nvSpPr>
        <p:spPr>
          <a:xfrm>
            <a:off x="826920" y="2637000"/>
            <a:ext cx="35341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ка-учит добру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воей работе с детьми применяю словесные игры на развитие эмоционально-нравственной сферы и навыков общ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азови ласково» Цель:воспитывать доброжелательное отношение друг к дру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ередача чувств» Цель учить передавать различные эмоции невербальным способом( с помощью жестов, мимики, прикосновени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азови себя» Цель: учить представлять себя коллективу сверст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седневное общение с детьми строю на основе доброжелательности и позитива.(Обращения ласковым именем, похвала, призы-всё это вызывает эмоциональную отзывчивость, ответную доброжела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ый пример, улыбка, кивание или покачивание головой, контакт взглядом, совместная деятельность, выслушивание, смех над шутками ребёнка – всё это помогает мне в работе с деть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1" name="Picture 4" descr="Изображение 525"/>
          <p:cNvPicPr/>
          <p:nvPr/>
        </p:nvPicPr>
        <p:blipFill>
          <a:blip r:embed="rId1"/>
          <a:stretch/>
        </p:blipFill>
        <p:spPr>
          <a:xfrm>
            <a:off x="5219640" y="2565360"/>
            <a:ext cx="2394000" cy="1795680"/>
          </a:xfrm>
          <a:prstGeom prst="rect">
            <a:avLst/>
          </a:prstGeom>
          <a:ln w="0">
            <a:noFill/>
          </a:ln>
        </p:spPr>
      </p:pic>
      <p:sp>
        <p:nvSpPr>
          <p:cNvPr id="492" name="WordArt 9"/>
          <p:cNvSpPr txBox="1"/>
          <p:nvPr/>
        </p:nvSpPr>
        <p:spPr>
          <a:xfrm>
            <a:off x="1619280" y="3213000"/>
            <a:ext cx="31719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а "Назови себ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ю, проведений праздничных утренников и развлечений, посещений кукольных театров и постановок, является обогащение детей положительными эмоциями и чувствами, развитие эстетических и нравственных каче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4" descr="Изображение 535"/>
          <p:cNvPicPr/>
          <p:nvPr/>
        </p:nvPicPr>
        <p:blipFill>
          <a:blip r:embed="rId1"/>
          <a:stretch/>
        </p:blipFill>
        <p:spPr>
          <a:xfrm>
            <a:off x="2843280" y="2133720"/>
            <a:ext cx="3887640" cy="2911320"/>
          </a:xfrm>
          <a:prstGeom prst="rect">
            <a:avLst/>
          </a:prstGeom>
          <a:ln w="0">
            <a:noFill/>
          </a:ln>
        </p:spPr>
      </p:pic>
      <p:sp>
        <p:nvSpPr>
          <p:cNvPr id="495" name="WordArt 5"/>
          <p:cNvSpPr txBox="1"/>
          <p:nvPr/>
        </p:nvSpPr>
        <p:spPr>
          <a:xfrm>
            <a:off x="2268360" y="5300640"/>
            <a:ext cx="54946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ень в гости к нам пришла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932508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навательная деятельность- основной метод обуч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ы занятий, на которых реализовывались задачи по социально-нравственному воспитанию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ак принимать гостей и как себя вести в гостях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Добрые дел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т чего портится настроени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упание куклы Алёнуш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Труд нян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Целевое посещение кабинета медсестры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Птицы зимо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В деревню к бабушк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Мамочка любима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Наши игруш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Здравствуй, лес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этих занятиях ставились следующие 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формирование у детей чувства сопричастности и любви к семье, детскому саду, к природе родного края, к посёл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обогащение знаний о культуре поведения, формирование культурно-гигиенически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привить чувство уважения к труду взросл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Picture 8" descr="Изображение 643"/>
          <p:cNvPicPr/>
          <p:nvPr/>
        </p:nvPicPr>
        <p:blipFill>
          <a:blip r:embed="rId1"/>
          <a:stretch/>
        </p:blipFill>
        <p:spPr>
          <a:xfrm>
            <a:off x="5364000" y="1413000"/>
            <a:ext cx="33483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459280" y="-5143680"/>
            <a:ext cx="3826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1680" y="404640"/>
            <a:ext cx="419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уя,создавая поделки из пластилина и бумаги, дети отражают своё внутреннее состояние, видение мира и своё к нему отнош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готовление поделок, рисунков с определённой целью (в подарок) прививают желание доставить радость, порадов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овместных строительных играх дети учатся играть вместе, делиться игрушками, радоваться общему результат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тивная деятельность детей в тесной взаимосвязи с нравственным воспитани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0" name="Picture 8" descr="Изображение 581"/>
          <p:cNvPicPr/>
          <p:nvPr/>
        </p:nvPicPr>
        <p:blipFill>
          <a:blip r:embed="rId1"/>
          <a:stretch/>
        </p:blipFill>
        <p:spPr>
          <a:xfrm>
            <a:off x="5292720" y="476280"/>
            <a:ext cx="2897280" cy="217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7"/>
          <p:cNvGraphicFramePr/>
          <p:nvPr/>
        </p:nvGraphicFramePr>
        <p:xfrm>
          <a:off x="547560" y="3925800"/>
          <a:ext cx="3700440" cy="21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560" y="3925800"/>
                    <a:ext cx="37004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WordArt 9"/>
          <p:cNvSpPr txBox="1"/>
          <p:nvPr/>
        </p:nvSpPr>
        <p:spPr>
          <a:xfrm>
            <a:off x="4859280" y="2781360"/>
            <a:ext cx="39150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месте весело играт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4" name="Picture 10" descr="Изображение 575"/>
          <p:cNvPicPr/>
          <p:nvPr/>
        </p:nvPicPr>
        <p:blipFill>
          <a:blip r:embed="rId4"/>
          <a:stretch/>
        </p:blipFill>
        <p:spPr>
          <a:xfrm>
            <a:off x="5364000" y="3213000"/>
            <a:ext cx="2897280" cy="2173320"/>
          </a:xfrm>
          <a:prstGeom prst="rect">
            <a:avLst/>
          </a:prstGeom>
          <a:ln w="0">
            <a:noFill/>
          </a:ln>
        </p:spPr>
      </p:pic>
      <p:sp>
        <p:nvSpPr>
          <p:cNvPr id="505" name="WordArt 13"/>
          <p:cNvSpPr txBox="1"/>
          <p:nvPr/>
        </p:nvSpPr>
        <p:spPr>
          <a:xfrm>
            <a:off x="2771640" y="5661000"/>
            <a:ext cx="6078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нятие по аппликации "Бедный зайчик заболел,он с утра совсем не ел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Изображение 545"/>
          <p:cNvPicPr/>
          <p:nvPr/>
        </p:nvPicPr>
        <p:blipFill>
          <a:blip r:embed="rId1"/>
          <a:stretch/>
        </p:blipFill>
        <p:spPr>
          <a:xfrm>
            <a:off x="3059280" y="189000"/>
            <a:ext cx="3300120" cy="2469960"/>
          </a:xfrm>
          <a:prstGeom prst="rect">
            <a:avLst/>
          </a:prstGeom>
          <a:ln w="0">
            <a:noFill/>
          </a:ln>
        </p:spPr>
      </p:pic>
      <p:sp>
        <p:nvSpPr>
          <p:cNvPr id="507" name="WordArt 5"/>
          <p:cNvSpPr txBox="1"/>
          <p:nvPr/>
        </p:nvSpPr>
        <p:spPr>
          <a:xfrm>
            <a:off x="1692360" y="2781360"/>
            <a:ext cx="5943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удовольствием ухаживаем за цветам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50560" y="3499920"/>
            <a:ext cx="889308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труде и с помощью труда воспитываются личностные качества и положительные взаимоотношения между деть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воей работе применяю следующие метод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совместная деятельность дете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совместная деятельность детей и взрослых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беседы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наблюдения за трудом взрослых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решение проблемных ситуаци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общение в процессе труд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посильные трудовые поруч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рудовое воспитание тесно связано с нравственным воспита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100720" y="-2633760"/>
            <a:ext cx="741240" cy="61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ффективновность нравственного просвещения дошкольников во многом зависит от согласованной работы детского сада и семьи. Работа должна вестись параллельно, дополняя друг друга. Поэтому при работе с родителями я использую разнообразные формы раб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тельские собр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Воспитываем добротой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Прививаем самостоятельность детям младшего дошкольного возраста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ни добрых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Новая жизнь бросового материала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Совместное изготовление родителями с детьми кормушек для птиц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то выстав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Мы играем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Мамочка любимая моя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Как мы весело отдыхали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курсы подело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Волшебные снежинки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Игрушки своими руками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748720" y="-5251680"/>
            <a:ext cx="93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о выстав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Домашние зарисовки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Наша любимая сказк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гулярные выставки детских поделок и рисунков. Совместное проведение физкультурных и музыкальных развлечений, приглашение родителей на праздники и утренн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Вместе с мамой, вместе с папой поиграть хо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иодически обновляю папки-передвижки и уголок « Советы психолог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Кризис трёх лет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Роль семьи в нравственном воспитании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жедневно провожу беседы с родителями об успехах их детей, групповые  индивидуальные консультации (запланированные и на интересующие родителей темы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Если ребёнок вынуждает делать вас покупки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Если ребёнок дерётся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ашем детском саду проводиться регулярное анкетирование  родителей на оценку работы воспитателя и дошкольного учреждения в течение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Какой наш воспитатель?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Ребёнок в начале и в конце учебного год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тическое анкетирова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Семейное чтение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Нравственно-тематическое воспитание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532720" y="-5216040"/>
            <a:ext cx="309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тог работы по теме.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оретическая и практическая значимость данного педагогического опыта заключается в том, что определено содержание работы по социально-нравственному воспитанию, которое включает в себя разные формы работы с детьми и родителями, применялись творческие подходы к решению данной проблемы, что позволило осуществить процессы воспитания и обучения целенаправленно и плодотвор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итывать у ребёнка культуру познания детей и взрослых; развив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е эмоции и мотивы, способствующие налаживанию межличностных отношений со взрослыми и друг с другом, всесторонне развивать психические и физические качества в соответствии с возрастными и индивидуальными особенностями, подготовить ребёнка к жизни в современном ми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обогащение предметно-развивающей среды для расширения представлений детей о социальных явлен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систематизация методического и дидактического материала через тематическое и перспективное планиров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обеспечение оптимальных условий для эмоционально-чувственного и нравственного развития дошкольн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повышение уровня психолого-педагогической компетентности родителей через восстановление традиций семейного воспитания и вовлечение родителей в воспитательно-образовательный процес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овизна опыта раб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визна опыта работ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заключается в том, чт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разработано содержание нравственного воспитания в соответствии с формируемыми компонентами личности: когнитивный -через содержание культурно-логического модуля, эмоциональный – через модуль эмпатического взаимодействия и поведенческий – через содержание позитивно-мотивационного моду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определены критерии сформированности нравственной воспитанности ребё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хнология опыта работ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а работы по нравственному воспитанию в нашем дошкольном учреждении включает в себя следующие направл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ервое направление предполагает педагогическое сопровождение в деятельности по освоению социальных норм и прави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торое направление способствует актуализации знаний, умений, навыков, их практическому применени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третье направление стимулирует потребность ребёнка в самореализации, самовыражении, к проявлению в творческ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езультаты диагностики социально-нравственного развития на начало года во второй младшей группе. Диагностировалось 23 ребёнк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8" name="Object 3"/>
          <p:cNvGraphicFramePr/>
          <p:nvPr/>
        </p:nvGraphicFramePr>
        <p:xfrm>
          <a:off x="539640" y="1916280"/>
          <a:ext cx="8282160" cy="44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828216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иагностика социально-нравственного развит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41" name="Object 3"/>
          <p:cNvGraphicFramePr/>
          <p:nvPr/>
        </p:nvGraphicFramePr>
        <p:xfrm>
          <a:off x="468360" y="1989000"/>
          <a:ext cx="828036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8036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Результаты диагностики выявил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0% детей не имеют представления об опрятном виде, такой же процент детей выполняют процессы самообслуживания только с помощью взрослы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% детей не вступают в контакты со сверстника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5% вступают в контакты непродолжительно и с частыми конфликтам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0% детей не умеют дифференцировать поступки сверстников и взрослых. Больше половины детей не умеют пользоваться наглядно-схематическими моделями при проведении режимных момен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им образом, оценив уровни развития детей своей группы, была поставлена задача –проводить систематическую, планомерную работу по социально-нравственному воспитанию детей младшей группы и начать ознакомление детей с карточками-схемами и алгоритмами по всем разделам програм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77612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по социально-нравственному развитию детей красной нитью проходит через всю воспитательно-образовательную работу. В своей работе я выделила следующие приоритетные направления , по которым я буду углубленно проводить работу с детьми по данной тем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оздание предметно-развивающей сре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Игровая деятельность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знавательная деятельность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родуктивная деятельность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Речевое развит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удовое воспит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9:22:29Z</dcterms:created>
  <dc:creator>Zver</dc:creator>
  <dc:description/>
  <dc:language>en-US</dc:language>
  <cp:lastModifiedBy>fokin</cp:lastModifiedBy>
  <dcterms:modified xsi:type="dcterms:W3CDTF">2017-08-29T17:43:23Z</dcterms:modified>
  <cp:revision>8</cp:revision>
  <dc:subject/>
  <dc:title>Обобщение опыта работы по теме: «Социально-нравственное развитие детей младшего дошкольного возраста в системе целостного развития.» Воспитателя МДОУ «Радуга» Гусенковой А.В. 2012 год</dc:title>
</cp:coreProperties>
</file>