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5.jpeg" ContentType="image/jpeg"/>
  <Override PartName="/ppt/media/image26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png" ContentType="image/png"/>
  <Override PartName="/ppt/media/image18.jpeg" ContentType="image/jpeg"/>
  <Override PartName="/ppt/media/image19.jpeg" ContentType="image/jpeg"/>
  <Override PartName="/ppt/media/image2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862CE-288C-4219-805B-E3022D2F8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457F3-F01E-4B14-8B85-B694C330E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7A982-6BF2-4601-8629-C5AE94A40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5D132-8E6E-4790-B11C-28DEAEF27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2F509-A148-4894-8336-C0A16467A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BC329-27DA-4C6F-8411-326E41F00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F3A53-403A-4F58-8CC4-E03104698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55180-2EC6-4C38-A099-6FB91ACDE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2923C-11F1-42C6-A6EC-21AC71FFC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62DB8-7E32-4559-9E58-D03A667A1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1DE4A-AEEE-4A80-971D-243293A37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079A2-6F52-4E8F-9633-AF754329E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C0226-21FB-4263-B966-CDDA15107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1F1A2-8776-4F9C-B265-CCA622E67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12BDD-AF76-48AC-A4FA-CAC156D1F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7998E-373A-4553-993C-CF703E88B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2687D-2C64-45E1-BDE7-59D3E4A91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2AF41-C3E3-4DBE-AEF0-8B35A04F3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B537F-219E-48F7-ABFC-453B92250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4ABA5-092C-4286-8845-4CE104C33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9BD98-EC9C-4EA2-BF9F-F2949049F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521F7-30F2-43A5-A28B-251F7D905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3B440-CC08-434A-8B31-2D29C152B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9CEF2-3683-4867-8880-F7CCC345E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203A1-FF0E-4523-9122-B3F7B0EAB50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39269-B7BD-408C-8808-7725B7F6666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1042920" y="549360"/>
            <a:ext cx="72741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Доктор Айболит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1042920" y="1989000"/>
            <a:ext cx="734544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457200" y="1981080"/>
            <a:ext cx="8229600" cy="41148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468360" y="1989000"/>
            <a:ext cx="3959280" cy="40435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 txBox="1"/>
          <p:nvPr/>
        </p:nvSpPr>
        <p:spPr>
          <a:xfrm>
            <a:off x="826920" y="549360"/>
            <a:ext cx="749016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Пальчиковая гимнастика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468360" y="1989000"/>
            <a:ext cx="820728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1332000" y="404640"/>
            <a:ext cx="691668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Найди нужный мешочек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468360" y="1989000"/>
            <a:ext cx="4032360" cy="41101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4643280" y="1989000"/>
            <a:ext cx="396108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468360" y="2046240"/>
            <a:ext cx="8207280" cy="443088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 txBox="1"/>
          <p:nvPr/>
        </p:nvSpPr>
        <p:spPr>
          <a:xfrm>
            <a:off x="826920" y="692280"/>
            <a:ext cx="772488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37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Речь - ритм - движение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826920" y="620640"/>
            <a:ext cx="74901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Волшебные пилюли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4643280" y="1989000"/>
            <a:ext cx="4032360" cy="410400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468360" y="1989000"/>
            <a:ext cx="4032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4716360" y="4292640"/>
            <a:ext cx="3743280" cy="201600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468360" y="2205000"/>
            <a:ext cx="3672000" cy="410364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4"/>
          <a:stretch/>
        </p:blipFill>
        <p:spPr>
          <a:xfrm>
            <a:off x="4716360" y="2205000"/>
            <a:ext cx="3743280" cy="194472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 txBox="1"/>
          <p:nvPr/>
        </p:nvSpPr>
        <p:spPr>
          <a:xfrm>
            <a:off x="611280" y="476280"/>
            <a:ext cx="792144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Волшебные мячики СУ - Джок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971640" y="404640"/>
            <a:ext cx="684036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Конфетки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468360" y="1773360"/>
            <a:ext cx="820728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84360" y="692280"/>
            <a:ext cx="777528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Игры с прищепками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468360" y="1989000"/>
            <a:ext cx="4032360" cy="410400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3"/>
          <a:stretch/>
        </p:blipFill>
        <p:spPr>
          <a:xfrm>
            <a:off x="4643280" y="1989000"/>
            <a:ext cx="4032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468360" y="1844640"/>
            <a:ext cx="8207280" cy="42084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 txBox="1"/>
          <p:nvPr/>
        </p:nvSpPr>
        <p:spPr>
          <a:xfrm>
            <a:off x="826920" y="476280"/>
            <a:ext cx="749016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Артикуляционная гимнастика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1476360" y="404640"/>
            <a:ext cx="230364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0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Лягушка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542880" y="1989000"/>
            <a:ext cx="3957840" cy="41040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4859280" y="1989000"/>
            <a:ext cx="403704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971640" y="620640"/>
            <a:ext cx="244800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597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Бегемотик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468360" y="1989000"/>
            <a:ext cx="4032360" cy="4104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4859280" y="1989000"/>
            <a:ext cx="4027680" cy="41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"/>
          <p:cNvSpPr txBox="1"/>
          <p:nvPr/>
        </p:nvSpPr>
        <p:spPr>
          <a:xfrm rot="186000">
            <a:off x="971640" y="549360"/>
            <a:ext cx="741672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Блинчик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4788000" y="1989000"/>
            <a:ext cx="3921120" cy="412776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468360" y="1989000"/>
            <a:ext cx="4032360" cy="410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395280" y="2068560"/>
            <a:ext cx="8640720" cy="393228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 txBox="1"/>
          <p:nvPr/>
        </p:nvSpPr>
        <p:spPr>
          <a:xfrm>
            <a:off x="826920" y="836640"/>
            <a:ext cx="74170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Дыхательная гимнастикка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468360" y="1989000"/>
            <a:ext cx="3816360" cy="41040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 txBox="1"/>
          <p:nvPr/>
        </p:nvSpPr>
        <p:spPr>
          <a:xfrm>
            <a:off x="395280" y="260280"/>
            <a:ext cx="3097080" cy="15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Научим игрушку летать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5076720" y="1989000"/>
            <a:ext cx="3780000" cy="41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187280" y="476280"/>
            <a:ext cx="244800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Мыльные пузыри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395280" y="2060640"/>
            <a:ext cx="4175280" cy="40323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4859280" y="2060640"/>
            <a:ext cx="4100400" cy="403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1116000" y="404640"/>
            <a:ext cx="705636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Футбол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468360" y="1989000"/>
            <a:ext cx="4032360" cy="41040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4643280" y="1989000"/>
            <a:ext cx="4032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09T17:30:48Z</dcterms:created>
  <dc:creator>Gainetdinov</dc:creator>
  <dc:description/>
  <dc:language>en-US</dc:language>
  <cp:lastModifiedBy>Gainetdinov</cp:lastModifiedBy>
  <dcterms:modified xsi:type="dcterms:W3CDTF">2018-01-07T14:01:36Z</dcterms:modified>
  <cp:revision>11</cp:revision>
  <dc:subject/>
  <dc:title>Слайд 1</dc:title>
</cp:coreProperties>
</file>