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34F-3E1A-48E2-A495-67A3BB79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2EB-BEA1-4EBC-8956-38F6917D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85F-003C-40DA-BC98-5402D523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D0E-3E3C-4994-8C5C-3AEFAC0F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E10F-DBC3-48C9-8672-489FBAB6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A0F6-52EE-419A-BA2C-502D573E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01D6-BF45-4762-9852-209D980A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0995-377F-4A1B-BA97-2A2AF33B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DF27-A853-40A1-A7CE-45501C7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66D4-0A6D-44F2-BCB0-42B45DAC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AF5E-6E75-476D-9051-1E6CF12E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C7D-1196-4D51-A4BD-7B76276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E28B-6F11-4096-AC29-E901E342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7B8-4930-49F1-945F-0F013C09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E876-696B-4D15-998B-CA8614CF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5807-D233-40DC-9F07-F57C7389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7D9D-4D3B-48FB-B0E7-42836942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DDF-B7E4-4480-8BC2-D80C93E1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45F-C08C-4ACD-BC8C-22A337C7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738-8BEC-4C49-A692-C0C13B59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115-8933-4886-ABA7-B4D170D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534-D9FD-4B77-BED7-70BA45F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619-6ED9-4C46-8B4B-3AF5D27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BF1-731A-4DF5-80F6-0E3CC564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1237-E6C6-4F18-ABC3-4FA833446B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7CF-02A3-4343-B28A-2F8085303F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buClr>
                <a:srgbClr val="873c0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73c03"/>
                </a:solidFill>
                <a:latin typeface="Arial"/>
              </a:rPr>
              <a:t>Муниципальное дошкольное образовательное бюджетное учрежде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buClr>
                <a:srgbClr val="873c0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73c03"/>
                </a:solidFill>
                <a:latin typeface="Arial"/>
              </a:rPr>
              <a:t>Центр развития ребенка детский сад «Ромашка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buClr>
                <a:srgbClr val="873c0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73c03"/>
                </a:solidFill>
                <a:latin typeface="Arial"/>
              </a:rPr>
              <a:t>с. Михайловка Муниципального райо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buClr>
                <a:srgbClr val="873c0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73c03"/>
                </a:solidFill>
                <a:latin typeface="Arial"/>
              </a:rPr>
              <a:t>Уфимский район Республики Башкортостан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352116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73c03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73c03"/>
                </a:solidFill>
                <a:latin typeface="Arial"/>
              </a:rPr>
              <a:t>Гайнетдинова Ирина Расп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4869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73c03"/>
                </a:solidFill>
                <a:latin typeface="Arial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50720" y="6040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73c03"/>
                </a:solidFill>
                <a:latin typeface="Arial"/>
              </a:rPr>
              <a:t>201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72360" y="3573360"/>
            <a:ext cx="2466720" cy="302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627280" y="220500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Презентация работы логоп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Игровые упражнения на развитие силы и направленности воздушной стру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3600720" cy="453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4033800" cy="489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781080" y="5490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920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33"/>
                </a:solidFill>
                <a:uFillTx/>
                <a:latin typeface="Garamond"/>
              </a:rPr>
              <a:t>Игры на развитие фонематического слух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3816360" cy="511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610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57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33"/>
                </a:solidFill>
                <a:uFillTx/>
                <a:latin typeface="Garamond"/>
              </a:rPr>
              <a:t>Артикуляционная гимнастик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4105440" cy="5289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003640" y="1052640"/>
            <a:ext cx="3816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Развиваем мелкую моторику ру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2480" y="1197000"/>
            <a:ext cx="4276800" cy="5327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81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71640" y="475920"/>
            <a:ext cx="4032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b812f"/>
                </a:solidFill>
                <a:latin typeface="Arial"/>
              </a:rPr>
              <a:t>Использую в работе пособия и методические рекомендации следующих автор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b812f"/>
                </a:solidFill>
                <a:latin typeface="Arial"/>
              </a:rPr>
              <a:t>О.С.Гомзяк; В.В. Коноваленко, Н.Э. Теремкова, З.Е. Агранович и других автор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495600" cy="25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187280" y="3500280"/>
            <a:ext cx="3556080" cy="2881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92720" y="350028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54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Times New Roman"/>
              </a:rPr>
              <a:t>Диагностика речевого развития детей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836280"/>
            <a:ext cx="4105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73c03"/>
                </a:solidFill>
                <a:latin typeface="Times New Roman"/>
              </a:rPr>
              <a:t>При составлении технологии логопедического обследования детей  использовала рекомендации следующих авторов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73c03"/>
                </a:solidFill>
                <a:latin typeface="Times New Roman"/>
              </a:rPr>
              <a:t>О.С. Ушакова, Е.М. Струнина «Методика развития речи детей»  М.: Гуманит. изд. центр Владос, 2004г. Раздел: Методика выявлдения уровня развития речи дошкольник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73c03"/>
                </a:solidFill>
                <a:latin typeface="Times New Roman"/>
              </a:rPr>
              <a:t>О.Б. Иншаков «Альбом для логопеда»Издательство: Владос, 2008 г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73c03"/>
                </a:solidFill>
                <a:latin typeface="Times New Roman"/>
              </a:rPr>
              <a:t>И.Д. Коненкова. Обследование речи дошкольников с задержкой психического развития»-М.:изд-во ГНОМ и Д.2003г</a:t>
            </a:r>
            <a:r>
              <a:rPr b="0" lang="ru-RU" sz="2600" spc="-1" strike="noStrike">
                <a:solidFill>
                  <a:srgbClr val="873c03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О. С. Ушакова, Е. М. Струнина «Методика развития речи детей дошкольного возраста»"/>
          <p:cNvPicPr/>
          <p:nvPr/>
        </p:nvPicPr>
        <p:blipFill>
          <a:blip r:embed="rId2"/>
          <a:stretch/>
        </p:blipFill>
        <p:spPr>
          <a:xfrm>
            <a:off x="7308720" y="549360"/>
            <a:ext cx="1428840" cy="2104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Иншакова О.Б. Альбом для логопеда"/>
          <p:cNvPicPr/>
          <p:nvPr/>
        </p:nvPicPr>
        <p:blipFill>
          <a:blip r:embed="rId3"/>
          <a:stretch/>
        </p:blipFill>
        <p:spPr>
          <a:xfrm>
            <a:off x="5796000" y="4076640"/>
            <a:ext cx="2857320" cy="2152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364000" y="1773360"/>
            <a:ext cx="1486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757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Спасибо за внимание.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86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График работы учителя-логопе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недельник:  9.00 – 13.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торник:  14.00 – 18.00 Консультирование родителей с 16.30-18.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реда: 9.00 – 13.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етверг: 14.00 – 18.00 Консультирование родителей с 16.30-18.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ятница: 9.00 – 13.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Организация и содержание профессиональной деятельност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ботаю учителем-логопедом в логопедическом пункте доу д/с «Ромашка»  13 лет с дошкольниками, имеющими ОНР,ФФНР,ФН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ррекционная логопедическая работа строится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лжностной инструкцией учителя-логопед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ложением о логопедическом пункте МДОБУ ЦРР д/с «Ромашк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новременно в логопункте занимается 21 ребенок (по положению о логопедическом пункте), в первую очередь логопедическая помощь  оказывается детям старшего и подготовительного возраста со сложной структурой дефек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числение в логопункт осуществляет ПМПк доу в начале учебного года на основе обследования речи воспитанников и рекомендаций Южная ПМПК  г.Уф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ормы организации заняти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дивидуальные заняти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дгрупповые занят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60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277560"/>
            <a:ext cx="7643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33"/>
                </a:solidFill>
                <a:uFillTx/>
                <a:latin typeface="Garamond"/>
              </a:rPr>
              <a:t>Дети с каким логопедическим заключением зачисляются  на логопункт?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8002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аще всего принимаются дети с такими логопедическими заключе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рушение произношения отдельных звук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(у детей с дислалией, дизартрией или стертой формой дизартрии) —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нетико-фонематическое недоразвитие реч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(у детей с  дислалией, дизартрией или стертой формой дизартрии) —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Ф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е недоразвитие речи –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– третьего уровня речевого развития у детей с дизартрией или стертой формой дизар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Функции логопедической службы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38560" y="1557000"/>
            <a:ext cx="4105440" cy="45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64000" y="1052640"/>
            <a:ext cx="3167280" cy="2404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83664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Диагностическая рабо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Коррекционная рабо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Профилактическая рабо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Просветительск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873c03"/>
                </a:solidFill>
                <a:uFillTx/>
                <a:latin typeface="Arial"/>
              </a:rPr>
              <a:t>Цель</a:t>
            </a: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 данной работы заключается в помощи нормальному формированию речи дошкольника, а следовательно, и полноценному развитию его мыш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873c03"/>
                </a:solidFill>
                <a:uFillTx/>
                <a:latin typeface="Arial"/>
              </a:rPr>
              <a:t>Основные задачи и направления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Формирование понимания обращен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Развитие коммуникативных навы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Развитие мелкой моторики и двигательной активности артикуляционного аппара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Формирование фонетической стороны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Развитие фонематического слуха и восприят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Упорядочение слоговой структуры сло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уточнение, расширение и активизация слов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Формирование грамматического строя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Развитие связ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Подготовка к обучению грамот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Формирование психологической базы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Коррекция личности в целом.</a:t>
            </a:r>
            <a:br>
              <a:rPr sz="1400"/>
            </a:br>
            <a:r>
              <a:rPr b="0" lang="en-US" sz="1400" spc="-1" strike="noStrike">
                <a:solidFill>
                  <a:srgbClr val="873c0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64000" y="3860640"/>
            <a:ext cx="3168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абинет учителя-логоп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15920" y="1268280"/>
            <a:ext cx="370044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88000" y="126828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3673440" cy="222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600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620640"/>
            <a:ext cx="403236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Широко использую в  работе метод наглядного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Arial"/>
              </a:rPr>
              <a:t>При подготовке детей к обучению грамо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Arial"/>
              </a:rPr>
              <a:t>В коррекции звукопроизнош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Arial"/>
              </a:rPr>
              <a:t>В развитии фонематического слуха и восприя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Arial"/>
              </a:rPr>
              <a:t>При формировании лексико-грамматических категор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Arial"/>
              </a:rPr>
              <a:t>В развитии связ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6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003640" y="476280"/>
            <a:ext cx="3600720" cy="288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866920" y="1196640"/>
            <a:ext cx="26701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етод наглядного моделир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3457800" cy="244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19640" y="112536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015920" y="3789360"/>
            <a:ext cx="348480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207040" y="3789360"/>
            <a:ext cx="3325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Использую здоровьесберегающие технологии на занятиях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744720" cy="4680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59280" y="1413000"/>
            <a:ext cx="37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4T14:02:10Z</dcterms:created>
  <dc:creator>Gainetdinov</dc:creator>
  <dc:description/>
  <dc:language>en-US</dc:language>
  <cp:lastModifiedBy>Gainetdinov</cp:lastModifiedBy>
  <dcterms:modified xsi:type="dcterms:W3CDTF">2018-01-07T11:49:07Z</dcterms:modified>
  <cp:revision>17</cp:revision>
  <dc:subject/>
  <dc:title>Слайд 1</dc:title>
</cp:coreProperties>
</file>